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27160" y="690120"/>
            <a:ext cx="460368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move the slid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4202-3358-460A-882F-6E17329047D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A76-9258-43D4-9E12-238BF0CAEC3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9D4-A434-47DA-B53F-90B4474A49F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F7E6-180B-49F5-AEB6-4DCC3A6288C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A2F-6FFB-4811-B7A8-D68E30956BF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89DF-BE63-4EA8-8DC7-6FD86D0BB37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D1D6-7C79-4FE5-AE5D-C9176820DF2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4351-B3BA-4B55-8DA5-80A26984A70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CE8-E72F-4EB6-A7C8-6EAC0D63779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6CB-6355-4FD6-9658-FCD51AC0B01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7A96-231F-4285-BD45-A16AC26B982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1C53-1D07-4626-928D-32BF1815D9B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4C55-5D77-44D2-A65C-3875092C14B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5B9E-D1F4-4D2D-9FCB-DA8991C372B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9C8-1053-40D0-BAB1-8354049ED18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7946-7FA1-42AB-A549-0469CCBE96D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946-3D53-4642-88A4-85B76E214DB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66B1-4F99-42DA-8219-376A098B1D2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8C0-842B-44A3-A77E-E6E16FCA3E0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45B-867B-485E-9C89-AA841BD93BA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342-41B2-4FB4-A06F-C628FE24966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7699-531A-423C-9E29-02045B0C4AA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11AF-6BA7-45D8-B8D6-5E375F98514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6CBC-F868-446A-AA5F-F469F35E31F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178C-6E2E-4A03-A59A-1779108B478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654E-8DC4-4B72-A653-A6B4333D0B6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24DC-18EB-4B80-A2C6-90FF3304EFD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0826-ED0B-4C92-9C97-F213D131803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0A62-2CF6-45D6-877F-4558B0A2AC2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F8F-F831-4B30-99DD-FF04B1E3F64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3883-3980-412B-AB77-77F81B18019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93B6-B427-43B2-A0B8-6146FB6FFC2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B4B5-E8B7-42A7-8D31-BF9EC77FAF1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57F4-9078-492E-8DA9-74D834F3B10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C3F6-F9A2-4603-9C73-D0CEAF1439D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96A-67B7-49C0-BDF9-718D66AA5FF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40A7-FEE1-4AB0-A2B5-BE07BAD42C0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5F2-C701-486A-9E60-F655651AA6F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8CF1-7CA7-4AED-96F2-906202D591C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829B-A650-44BA-B2A8-01696669501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7943-08C6-454F-A640-43519FC44F3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E4F-F166-4A99-915D-08EF3CE29B9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40FA-008E-4A1D-9328-ED6E9D67487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AD2F-4EF1-4124-9BC0-886EC9220C1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367F-BB9C-43EA-A69A-E341C9DDD7C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5DE9-0D30-4F82-A398-43FEE172162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229-3D79-4D8E-928F-913AF627BC3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3EC-0F0B-4402-89F0-14B6F566F9B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7FE-2220-40B3-8084-F1CEE6AF6A6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708-BCA6-423C-B41F-4C2587D783C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FBF-25F6-4188-B974-5D8BFBE44D8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05B4-8D7B-4FA9-9066-FED43BB46D9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84F-7BAE-4FF1-B512-81A9AB80314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AD60-20D8-4B5A-8717-9F421532039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0714-C538-486F-8A48-212645124B7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4140-5AB4-4FF2-9D44-D1B662D067C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6625-F3EF-453C-B580-3549005D2C4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9ACB-384F-4A56-9DB0-67754D9605A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1BE0-58A9-4FBC-9023-2872C5A8D22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2F06-3377-44FD-A9FD-DF26314EE8C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65E-404F-45E2-8D15-6D249DFC4DD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022E-785F-4798-90D6-F7A03599F53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D96D-44B8-4CA6-9BD1-485A3149829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2500-1551-4381-A6D6-27124173C60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0C3-AE6F-4221-AD23-9C98C6A4866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C8C1-8D24-40B6-AFEE-9FF4B49F496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D4A9-DDDE-4977-84B9-AC983057420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3ADF-D31D-4FE8-A70E-12815ED6483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6F53-8996-46A6-B92E-7813ADFEB3E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9EBF-1795-458B-8D68-769B9A92B97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57B-525F-4794-9CE3-1D1C4D64406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513A-BAF5-4B70-A0E2-2BFC028803F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4C5-D519-4374-AA0A-18C5063FEF1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31B-2B04-4ABF-8BCF-47772A865A7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81240" y="6556320"/>
            <a:ext cx="461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To Accompany Russell and Taylor, </a:t>
            </a:r>
            <a:r>
              <a:rPr b="0" i="1" lang="en-US" sz="800" spc="-1" strike="noStrike">
                <a:solidFill>
                  <a:srgbClr val="7c82da"/>
                </a:solidFill>
                <a:latin typeface="Arial Narrow"/>
              </a:rPr>
              <a:t>Operations Management, 4th Edition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, </a:t>
            </a:r>
            <a:r>
              <a:rPr b="0" lang="en-US" sz="800" spc="-1" strike="noStrike">
                <a:solidFill>
                  <a:srgbClr val="7c82da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2021" r="65" b="19980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3040" y="247680"/>
            <a:ext cx="502920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15a5ad"/>
                </a:solidFill>
                <a:latin typeface="Arial"/>
              </a:rPr>
              <a:t>Chapter 5</a:t>
            </a:r>
            <a:endParaRPr b="1" i="1" lang="en-US" sz="72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95480" y="4579560"/>
            <a:ext cx="3500640" cy="109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d5c"/>
                </a:solidFill>
                <a:latin typeface="Arial"/>
              </a:rPr>
              <a:t>Facilities</a:t>
            </a:r>
            <a:endParaRPr b="1" i="1" lang="en-US" sz="6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27080" y="6640560"/>
            <a:ext cx="491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To Accompany Russell and Taylor, </a:t>
            </a:r>
            <a:r>
              <a:rPr b="1" i="1" lang="en-US" sz="800" spc="-1" strike="noStrike">
                <a:solidFill>
                  <a:srgbClr val="b3c4ef"/>
                </a:solidFill>
                <a:latin typeface="Arial Narrow"/>
              </a:rPr>
              <a:t>Operations Management, 4th Edition</a:t>
            </a: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, </a:t>
            </a:r>
            <a:r>
              <a:rPr b="1" lang="en-US" sz="800" spc="-1" strike="noStrike">
                <a:solidFill>
                  <a:srgbClr val="b3c4ef"/>
                </a:solidFill>
                <a:latin typeface="Symbol"/>
                <a:ea typeface="Symbol"/>
              </a:rPr>
              <a:t></a:t>
            </a: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A Product Layou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A Product Layou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75520" y="1995480"/>
            <a:ext cx="7521480" cy="3726000"/>
            <a:chOff x="875520" y="1995480"/>
            <a:chExt cx="7521480" cy="3726000"/>
          </a:xfrm>
        </p:grpSpPr>
        <p:sp>
          <p:nvSpPr>
            <p:cNvPr id="265" name=""/>
            <p:cNvSpPr/>
            <p:nvPr/>
          </p:nvSpPr>
          <p:spPr>
            <a:xfrm>
              <a:off x="2470320" y="226368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769000" y="307008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622400" y="307008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478320" y="307008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761080" y="466236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600080" y="466092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468240" y="466092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309400" y="466092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20560" y="307008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28760" y="226368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70320" y="226548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24120" y="226548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92680" y="226548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03840" y="386064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45040" y="226368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2160" y="386064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67080" y="386064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92280" y="5438880"/>
              <a:ext cx="107172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3280" y="5438880"/>
              <a:ext cx="107136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92600" y="5438880"/>
              <a:ext cx="10144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9360" y="5438880"/>
              <a:ext cx="67644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7080" y="3860640"/>
              <a:ext cx="67608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21360" y="2263680"/>
              <a:ext cx="981360" cy="809640"/>
            </a:xfrm>
            <a:custGeom>
              <a:avLst/>
              <a:gdLst/>
              <a:ahLst/>
              <a:rect l="l" t="t" r="r" b="b"/>
              <a:pathLst>
                <a:path w="618" h="510">
                  <a:moveTo>
                    <a:pt x="80" y="1"/>
                  </a:moveTo>
                  <a:cubicBezTo>
                    <a:pt x="144" y="2"/>
                    <a:pt x="388" y="0"/>
                    <a:pt x="467" y="5"/>
                  </a:cubicBezTo>
                  <a:cubicBezTo>
                    <a:pt x="546" y="10"/>
                    <a:pt x="528" y="17"/>
                    <a:pt x="552" y="33"/>
                  </a:cubicBezTo>
                  <a:cubicBezTo>
                    <a:pt x="576" y="49"/>
                    <a:pt x="600" y="45"/>
                    <a:pt x="609" y="103"/>
                  </a:cubicBezTo>
                  <a:cubicBezTo>
                    <a:pt x="618" y="161"/>
                    <a:pt x="614" y="319"/>
                    <a:pt x="608" y="379"/>
                  </a:cubicBezTo>
                  <a:cubicBezTo>
                    <a:pt x="602" y="439"/>
                    <a:pt x="581" y="454"/>
                    <a:pt x="573" y="462"/>
                  </a:cubicBezTo>
                  <a:cubicBezTo>
                    <a:pt x="565" y="470"/>
                    <a:pt x="580" y="496"/>
                    <a:pt x="484" y="503"/>
                  </a:cubicBezTo>
                  <a:cubicBezTo>
                    <a:pt x="388" y="510"/>
                    <a:pt x="101" y="506"/>
                    <a:pt x="0" y="507"/>
                  </a:cubicBezTo>
                </a:path>
              </a:pathLst>
            </a:custGeom>
            <a:noFill/>
            <a:ln w="57240">
              <a:solidFill>
                <a:srgbClr val="eeeeee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04080" y="3841920"/>
              <a:ext cx="981000" cy="809280"/>
            </a:xfrm>
            <a:custGeom>
              <a:avLst/>
              <a:gdLst/>
              <a:ahLst/>
              <a:rect l="l" t="t" r="r" b="b"/>
              <a:pathLst>
                <a:path w="618" h="510">
                  <a:moveTo>
                    <a:pt x="80" y="1"/>
                  </a:moveTo>
                  <a:cubicBezTo>
                    <a:pt x="144" y="2"/>
                    <a:pt x="388" y="0"/>
                    <a:pt x="467" y="5"/>
                  </a:cubicBezTo>
                  <a:cubicBezTo>
                    <a:pt x="546" y="10"/>
                    <a:pt x="528" y="17"/>
                    <a:pt x="552" y="33"/>
                  </a:cubicBezTo>
                  <a:cubicBezTo>
                    <a:pt x="576" y="49"/>
                    <a:pt x="600" y="45"/>
                    <a:pt x="609" y="103"/>
                  </a:cubicBezTo>
                  <a:cubicBezTo>
                    <a:pt x="618" y="161"/>
                    <a:pt x="614" y="319"/>
                    <a:pt x="608" y="379"/>
                  </a:cubicBezTo>
                  <a:cubicBezTo>
                    <a:pt x="602" y="439"/>
                    <a:pt x="581" y="454"/>
                    <a:pt x="573" y="462"/>
                  </a:cubicBezTo>
                  <a:cubicBezTo>
                    <a:pt x="565" y="470"/>
                    <a:pt x="580" y="496"/>
                    <a:pt x="484" y="503"/>
                  </a:cubicBezTo>
                  <a:cubicBezTo>
                    <a:pt x="388" y="510"/>
                    <a:pt x="101" y="506"/>
                    <a:pt x="0" y="507"/>
                  </a:cubicBezTo>
                </a:path>
              </a:pathLst>
            </a:custGeom>
            <a:noFill/>
            <a:ln w="57240">
              <a:solidFill>
                <a:srgbClr val="eeeeee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017000" y="3062160"/>
              <a:ext cx="981000" cy="809640"/>
            </a:xfrm>
            <a:custGeom>
              <a:avLst/>
              <a:gdLst/>
              <a:ahLst/>
              <a:rect l="l" t="t" r="r" b="b"/>
              <a:pathLst>
                <a:path w="618" h="510">
                  <a:moveTo>
                    <a:pt x="80" y="1"/>
                  </a:moveTo>
                  <a:cubicBezTo>
                    <a:pt x="144" y="2"/>
                    <a:pt x="388" y="0"/>
                    <a:pt x="467" y="5"/>
                  </a:cubicBezTo>
                  <a:cubicBezTo>
                    <a:pt x="546" y="10"/>
                    <a:pt x="528" y="17"/>
                    <a:pt x="552" y="33"/>
                  </a:cubicBezTo>
                  <a:cubicBezTo>
                    <a:pt x="576" y="49"/>
                    <a:pt x="600" y="45"/>
                    <a:pt x="609" y="103"/>
                  </a:cubicBezTo>
                  <a:cubicBezTo>
                    <a:pt x="618" y="161"/>
                    <a:pt x="614" y="319"/>
                    <a:pt x="608" y="379"/>
                  </a:cubicBezTo>
                  <a:cubicBezTo>
                    <a:pt x="602" y="439"/>
                    <a:pt x="581" y="454"/>
                    <a:pt x="573" y="462"/>
                  </a:cubicBezTo>
                  <a:cubicBezTo>
                    <a:pt x="565" y="470"/>
                    <a:pt x="580" y="496"/>
                    <a:pt x="484" y="503"/>
                  </a:cubicBezTo>
                  <a:cubicBezTo>
                    <a:pt x="388" y="510"/>
                    <a:pt x="101" y="506"/>
                    <a:pt x="0" y="507"/>
                  </a:cubicBezTo>
                </a:path>
              </a:pathLst>
            </a:custGeom>
            <a:noFill/>
            <a:ln w="57240">
              <a:solidFill>
                <a:srgbClr val="eeeeee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029600" y="4654440"/>
              <a:ext cx="981000" cy="809640"/>
            </a:xfrm>
            <a:custGeom>
              <a:avLst/>
              <a:gdLst/>
              <a:ahLst/>
              <a:rect l="l" t="t" r="r" b="b"/>
              <a:pathLst>
                <a:path w="618" h="510">
                  <a:moveTo>
                    <a:pt x="80" y="1"/>
                  </a:moveTo>
                  <a:cubicBezTo>
                    <a:pt x="144" y="2"/>
                    <a:pt x="388" y="0"/>
                    <a:pt x="467" y="5"/>
                  </a:cubicBezTo>
                  <a:cubicBezTo>
                    <a:pt x="546" y="10"/>
                    <a:pt x="528" y="17"/>
                    <a:pt x="552" y="33"/>
                  </a:cubicBezTo>
                  <a:cubicBezTo>
                    <a:pt x="576" y="49"/>
                    <a:pt x="600" y="45"/>
                    <a:pt x="609" y="103"/>
                  </a:cubicBezTo>
                  <a:cubicBezTo>
                    <a:pt x="618" y="161"/>
                    <a:pt x="614" y="319"/>
                    <a:pt x="608" y="379"/>
                  </a:cubicBezTo>
                  <a:cubicBezTo>
                    <a:pt x="602" y="439"/>
                    <a:pt x="581" y="454"/>
                    <a:pt x="573" y="462"/>
                  </a:cubicBezTo>
                  <a:cubicBezTo>
                    <a:pt x="565" y="470"/>
                    <a:pt x="580" y="496"/>
                    <a:pt x="484" y="503"/>
                  </a:cubicBezTo>
                  <a:cubicBezTo>
                    <a:pt x="388" y="510"/>
                    <a:pt x="101" y="506"/>
                    <a:pt x="0" y="507"/>
                  </a:cubicBezTo>
                </a:path>
              </a:pathLst>
            </a:custGeom>
            <a:noFill/>
            <a:ln w="57240">
              <a:solidFill>
                <a:srgbClr val="eeeeee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801800" y="1995480"/>
              <a:ext cx="5342040" cy="3726000"/>
              <a:chOff x="1801800" y="1995480"/>
              <a:chExt cx="5342040" cy="3726000"/>
            </a:xfrm>
          </p:grpSpPr>
          <p:sp>
            <p:nvSpPr>
              <p:cNvPr id="292" name=""/>
              <p:cNvSpPr/>
              <p:nvPr/>
            </p:nvSpPr>
            <p:spPr>
              <a:xfrm>
                <a:off x="2003400" y="199548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01800" y="280656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57400" y="280512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66920" y="1995480"/>
                <a:ext cx="50832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62240" y="358776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03400" y="356868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14960" y="199692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4800" y="280512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36920" y="358920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81320" y="4378320"/>
                <a:ext cx="50832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62440" y="437832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03240" y="4378320"/>
                <a:ext cx="50832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11320" y="518328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75160" y="518328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095800" y="518472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34040" y="437832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68760" y="3581280"/>
                <a:ext cx="50832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80512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0560" y="199548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35880" y="1995480"/>
                <a:ext cx="50796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08720" y="280512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35880" y="359424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10160" y="4378320"/>
                <a:ext cx="508320" cy="53676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35880" y="5183280"/>
                <a:ext cx="507960" cy="53640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875520" y="2014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90320" y="5218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2520" y="61228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3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omparison Of Product And Process   Layout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2920" y="2360520"/>
            <a:ext cx="8209080" cy="37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Sequential arrangement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unctional grouping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of machines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of machines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Type of Process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Continuous, mass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Intermittent, job shop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production, mainly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batch production,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assembly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mainly fabrication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Product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Standardized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Varied,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made to stock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made to order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Demand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Stable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luctuating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Volume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High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Low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quipment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Special purpose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General purpose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693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Workers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Limited skills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Varied skills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65200" y="1946160"/>
            <a:ext cx="7900920" cy="397080"/>
            <a:chOff x="565200" y="1946160"/>
            <a:chExt cx="7900920" cy="397080"/>
          </a:xfrm>
        </p:grpSpPr>
        <p:sp>
          <p:nvSpPr>
            <p:cNvPr id="322" name=""/>
            <p:cNvSpPr/>
            <p:nvPr/>
          </p:nvSpPr>
          <p:spPr>
            <a:xfrm>
              <a:off x="3063600" y="19461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143000"/>
                  <a:tab algn="ctr" pos="40924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PRODUCT LAYOUT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PROCESS LAYOU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200" y="2343240"/>
              <a:ext cx="790092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79080" y="6222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Tabl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omparison Of Product And Process   Layout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2920" y="2360160"/>
            <a:ext cx="8209080" cy="38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8.  Inventory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Low in-process,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High  in-process,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high finished goods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low finished goods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9.  Storage space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Small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Large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10. Material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xed path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Variable path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handling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(conveyor)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(forklift)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11. Aisles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Narrow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Wide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12. Scheduling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Part of balancing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Dynamic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13. Layout decision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Line balancing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Machine location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14. Goal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qualize work at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Minimize material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ach station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   handling cost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2514600"/>
                <a:tab algn="l" pos="553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15. Advantage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fficiency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lexibility</a:t>
            </a:r>
            <a:endParaRPr b="1" i="1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200" y="1946160"/>
            <a:ext cx="7900920" cy="397080"/>
            <a:chOff x="565200" y="1946160"/>
            <a:chExt cx="7900920" cy="397080"/>
          </a:xfrm>
        </p:grpSpPr>
        <p:sp>
          <p:nvSpPr>
            <p:cNvPr id="328" name=""/>
            <p:cNvSpPr/>
            <p:nvPr/>
          </p:nvSpPr>
          <p:spPr>
            <a:xfrm>
              <a:off x="3063600" y="19461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143000"/>
                  <a:tab algn="ctr" pos="40924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PRODUCT LAYOUT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PROCESS LAYOU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5200" y="2343240"/>
              <a:ext cx="790092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79080" y="6222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Tabl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Fixed-Position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00200" y="2122560"/>
            <a:ext cx="7772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ypical of projec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quipment, workers, materials, other resources brought to the sit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Highly skilled labor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Often low fixed 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ypically high variable cos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93360"/>
            <a:ext cx="777240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Designing Process Layout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52440"/>
            <a:ext cx="7772400" cy="39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inimize material handling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ost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Block Diagramming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Minimize nonadjacent load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Use when quantitative data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is availabl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elationship Diagramming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Based on location preference between area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Use when quantitative data is not availabl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033960" y="1913040"/>
            <a:ext cx="264636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lock Diagramming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reate load summary char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alculate composite (two way) movemen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evelop trial layouts minimizing number of nonadjacent load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4111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4111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926720" y="1563840"/>
            <a:ext cx="5445720" cy="3168000"/>
            <a:chOff x="1926720" y="1563840"/>
            <a:chExt cx="5445720" cy="3168000"/>
          </a:xfrm>
        </p:grpSpPr>
        <p:sp>
          <p:nvSpPr>
            <p:cNvPr id="341" name=""/>
            <p:cNvSpPr/>
            <p:nvPr/>
          </p:nvSpPr>
          <p:spPr>
            <a:xfrm>
              <a:off x="1930680" y="2584440"/>
              <a:ext cx="524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720800"/>
                  <a:tab algn="ctr" pos="2482920"/>
                  <a:tab algn="ctr" pos="3244680"/>
                  <a:tab algn="ctr" pos="4006800"/>
                  <a:tab algn="ctr" pos="4768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epartment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3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926720" y="1563840"/>
              <a:ext cx="5445720" cy="3168000"/>
              <a:chOff x="1926720" y="1563840"/>
              <a:chExt cx="5445720" cy="3168000"/>
            </a:xfrm>
          </p:grpSpPr>
          <p:sp>
            <p:nvSpPr>
              <p:cNvPr id="343" name=""/>
              <p:cNvSpPr/>
              <p:nvPr/>
            </p:nvSpPr>
            <p:spPr>
              <a:xfrm>
                <a:off x="1930680" y="3043440"/>
                <a:ext cx="520848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926720" y="1563840"/>
                <a:ext cx="2754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Load Summary Char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28880" y="2116080"/>
                <a:ext cx="5443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244680"/>
                    <a:tab algn="l" pos="3495600"/>
                    <a:tab algn="l" pos="4660920"/>
                    <a:tab algn="l" pos="5826240"/>
                    <a:tab algn="l" pos="6991200"/>
                    <a:tab algn="l" pos="8156520"/>
                    <a:tab algn="l" pos="9321840"/>
                    <a:tab algn="l" pos="1048716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FROM/TO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DEPARTMENT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97320" y="3113280"/>
                <a:ext cx="4869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30680" y="2560680"/>
                <a:ext cx="5207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440280" y="1100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xampl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4111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26720" y="1563840"/>
            <a:ext cx="5445720" cy="3168000"/>
            <a:chOff x="1926720" y="1563840"/>
            <a:chExt cx="5445720" cy="3168000"/>
          </a:xfrm>
        </p:grpSpPr>
        <p:sp>
          <p:nvSpPr>
            <p:cNvPr id="351" name=""/>
            <p:cNvSpPr/>
            <p:nvPr/>
          </p:nvSpPr>
          <p:spPr>
            <a:xfrm>
              <a:off x="1930680" y="2584440"/>
              <a:ext cx="524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720800"/>
                  <a:tab algn="ctr" pos="2482920"/>
                  <a:tab algn="ctr" pos="3244680"/>
                  <a:tab algn="ctr" pos="4006800"/>
                  <a:tab algn="ctr" pos="4768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epartment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3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926720" y="1563840"/>
              <a:ext cx="5445720" cy="3168000"/>
              <a:chOff x="1926720" y="1563840"/>
              <a:chExt cx="5445720" cy="316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1930680" y="3043440"/>
                <a:ext cx="520848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26720" y="1563840"/>
                <a:ext cx="2754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Load Summary Char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28880" y="2116080"/>
                <a:ext cx="5443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244680"/>
                    <a:tab algn="l" pos="3495600"/>
                    <a:tab algn="l" pos="4660920"/>
                    <a:tab algn="l" pos="5826240"/>
                    <a:tab algn="l" pos="6991200"/>
                    <a:tab algn="l" pos="8156520"/>
                    <a:tab algn="l" pos="9321840"/>
                    <a:tab algn="l" pos="1048716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FROM/TO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DEPARTMENT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97320" y="3113280"/>
                <a:ext cx="4869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30680" y="2560680"/>
                <a:ext cx="5207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440280" y="1100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xampl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62040" y="4119480"/>
            <a:ext cx="7238880" cy="2158920"/>
            <a:chOff x="662040" y="4119480"/>
            <a:chExt cx="7238880" cy="2158920"/>
          </a:xfrm>
        </p:grpSpPr>
        <p:sp>
          <p:nvSpPr>
            <p:cNvPr id="360" name=""/>
            <p:cNvSpPr/>
            <p:nvPr/>
          </p:nvSpPr>
          <p:spPr>
            <a:xfrm>
              <a:off x="662040" y="4119480"/>
              <a:ext cx="7238880" cy="21589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4040" y="4238280"/>
              <a:ext cx="69152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5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1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6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Objectives of Facility Layout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inimize material handling cost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Utilize space efficiently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Utilize labor efficiently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liminate bottleneck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acilitate communication and interaction between workers, between workers and their supervisors, or between workers and customer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educe manufacturing cycle time or customer service tim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400" y="4111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926720" y="1563840"/>
            <a:ext cx="5445720" cy="3168000"/>
            <a:chOff x="1926720" y="1563840"/>
            <a:chExt cx="5445720" cy="3168000"/>
          </a:xfrm>
        </p:grpSpPr>
        <p:sp>
          <p:nvSpPr>
            <p:cNvPr id="364" name=""/>
            <p:cNvSpPr/>
            <p:nvPr/>
          </p:nvSpPr>
          <p:spPr>
            <a:xfrm>
              <a:off x="1930680" y="2584440"/>
              <a:ext cx="524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720800"/>
                  <a:tab algn="ctr" pos="2482920"/>
                  <a:tab algn="ctr" pos="3244680"/>
                  <a:tab algn="ctr" pos="4006800"/>
                  <a:tab algn="ctr" pos="4768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epartment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3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26720" y="1563840"/>
              <a:ext cx="5445720" cy="3168000"/>
              <a:chOff x="1926720" y="1563840"/>
              <a:chExt cx="5445720" cy="3168000"/>
            </a:xfrm>
          </p:grpSpPr>
          <p:sp>
            <p:nvSpPr>
              <p:cNvPr id="366" name=""/>
              <p:cNvSpPr/>
              <p:nvPr/>
            </p:nvSpPr>
            <p:spPr>
              <a:xfrm>
                <a:off x="1930680" y="3043440"/>
                <a:ext cx="520848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26720" y="1563840"/>
                <a:ext cx="2754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Load Summary Char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28880" y="2116080"/>
                <a:ext cx="5443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244680"/>
                    <a:tab algn="l" pos="3495600"/>
                    <a:tab algn="l" pos="4660920"/>
                    <a:tab algn="l" pos="5826240"/>
                    <a:tab algn="l" pos="6991200"/>
                    <a:tab algn="l" pos="8156520"/>
                    <a:tab algn="l" pos="9321840"/>
                    <a:tab algn="l" pos="1048716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FROM/TO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DEPARTMENT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497320" y="3113280"/>
                <a:ext cx="4869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30680" y="2560680"/>
                <a:ext cx="5207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440280" y="1100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xampl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62040" y="4119480"/>
            <a:ext cx="7238880" cy="2158920"/>
            <a:chOff x="662040" y="4119480"/>
            <a:chExt cx="7238880" cy="2158920"/>
          </a:xfrm>
        </p:grpSpPr>
        <p:sp>
          <p:nvSpPr>
            <p:cNvPr id="373" name=""/>
            <p:cNvSpPr/>
            <p:nvPr/>
          </p:nvSpPr>
          <p:spPr>
            <a:xfrm>
              <a:off x="662040" y="4119480"/>
              <a:ext cx="7238880" cy="21589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4040" y="4238280"/>
              <a:ext cx="69152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5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1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6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133880" y="1284120"/>
            <a:ext cx="4473720" cy="3345120"/>
            <a:chOff x="4133880" y="1284120"/>
            <a:chExt cx="4473720" cy="3345120"/>
          </a:xfrm>
        </p:grpSpPr>
        <p:sp>
          <p:nvSpPr>
            <p:cNvPr id="376" name=""/>
            <p:cNvSpPr/>
            <p:nvPr/>
          </p:nvSpPr>
          <p:spPr>
            <a:xfrm>
              <a:off x="4133880" y="1284120"/>
              <a:ext cx="4473720" cy="334512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79960" y="1847880"/>
              <a:ext cx="0" cy="221616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81720" y="1847880"/>
              <a:ext cx="0" cy="221616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84920" y="1847880"/>
              <a:ext cx="0" cy="221616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0" y="2398680"/>
              <a:ext cx="3598920" cy="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0" y="3595680"/>
              <a:ext cx="3598920" cy="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829040" y="2139840"/>
              <a:ext cx="492120" cy="492120"/>
              <a:chOff x="4829040" y="2139840"/>
              <a:chExt cx="492120" cy="492120"/>
            </a:xfrm>
          </p:grpSpPr>
          <p:sp>
            <p:nvSpPr>
              <p:cNvPr id="383" name=""/>
              <p:cNvSpPr/>
              <p:nvPr/>
            </p:nvSpPr>
            <p:spPr>
              <a:xfrm>
                <a:off x="4829040" y="2139840"/>
                <a:ext cx="492120" cy="492120"/>
              </a:xfrm>
              <a:prstGeom prst="ellipse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12920" y="2187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135840" y="2136600"/>
              <a:ext cx="492120" cy="492120"/>
              <a:chOff x="6135840" y="2136600"/>
              <a:chExt cx="492120" cy="492120"/>
            </a:xfrm>
          </p:grpSpPr>
          <p:sp>
            <p:nvSpPr>
              <p:cNvPr id="386" name=""/>
              <p:cNvSpPr/>
              <p:nvPr/>
            </p:nvSpPr>
            <p:spPr>
              <a:xfrm>
                <a:off x="6135840" y="2136600"/>
                <a:ext cx="492120" cy="492120"/>
              </a:xfrm>
              <a:prstGeom prst="ellipse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21160" y="21841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431120" y="2133720"/>
              <a:ext cx="492120" cy="492120"/>
              <a:chOff x="7431120" y="2133720"/>
              <a:chExt cx="492120" cy="492120"/>
            </a:xfrm>
          </p:grpSpPr>
          <p:sp>
            <p:nvSpPr>
              <p:cNvPr id="389" name=""/>
              <p:cNvSpPr/>
              <p:nvPr/>
            </p:nvSpPr>
            <p:spPr>
              <a:xfrm>
                <a:off x="7431120" y="2133720"/>
                <a:ext cx="492120" cy="492120"/>
              </a:xfrm>
              <a:prstGeom prst="ellipse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16800" y="2181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815000" y="3341520"/>
              <a:ext cx="492120" cy="492120"/>
              <a:chOff x="4815000" y="3341520"/>
              <a:chExt cx="492120" cy="492120"/>
            </a:xfrm>
          </p:grpSpPr>
          <p:sp>
            <p:nvSpPr>
              <p:cNvPr id="392" name=""/>
              <p:cNvSpPr/>
              <p:nvPr/>
            </p:nvSpPr>
            <p:spPr>
              <a:xfrm>
                <a:off x="4815000" y="3341520"/>
                <a:ext cx="492120" cy="492120"/>
              </a:xfrm>
              <a:prstGeom prst="ellipse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00320" y="3389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130800" y="3359160"/>
              <a:ext cx="492120" cy="492120"/>
              <a:chOff x="6130800" y="3359160"/>
              <a:chExt cx="492120" cy="492120"/>
            </a:xfrm>
          </p:grpSpPr>
          <p:sp>
            <p:nvSpPr>
              <p:cNvPr id="395" name=""/>
              <p:cNvSpPr/>
              <p:nvPr/>
            </p:nvSpPr>
            <p:spPr>
              <a:xfrm>
                <a:off x="6130800" y="3359160"/>
                <a:ext cx="492120" cy="492120"/>
              </a:xfrm>
              <a:prstGeom prst="ellipse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15040" y="3406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1400" y="4111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26720" y="1563840"/>
            <a:ext cx="5445720" cy="3168000"/>
            <a:chOff x="1926720" y="1563840"/>
            <a:chExt cx="5445720" cy="3168000"/>
          </a:xfrm>
        </p:grpSpPr>
        <p:sp>
          <p:nvSpPr>
            <p:cNvPr id="399" name=""/>
            <p:cNvSpPr/>
            <p:nvPr/>
          </p:nvSpPr>
          <p:spPr>
            <a:xfrm>
              <a:off x="1930680" y="2584440"/>
              <a:ext cx="524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720800"/>
                  <a:tab algn="ctr" pos="2482920"/>
                  <a:tab algn="ctr" pos="3244680"/>
                  <a:tab algn="ctr" pos="4006800"/>
                  <a:tab algn="ctr" pos="4768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epartment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3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926720" y="1563840"/>
              <a:ext cx="5445720" cy="3168000"/>
              <a:chOff x="1926720" y="1563840"/>
              <a:chExt cx="5445720" cy="3168000"/>
            </a:xfrm>
          </p:grpSpPr>
          <p:sp>
            <p:nvSpPr>
              <p:cNvPr id="401" name=""/>
              <p:cNvSpPr/>
              <p:nvPr/>
            </p:nvSpPr>
            <p:spPr>
              <a:xfrm>
                <a:off x="1930680" y="3043440"/>
                <a:ext cx="520848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26720" y="1563840"/>
                <a:ext cx="2754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Load Summary Char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928880" y="2116080"/>
                <a:ext cx="5443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244680"/>
                    <a:tab algn="l" pos="3495600"/>
                    <a:tab algn="l" pos="4660920"/>
                    <a:tab algn="l" pos="5826240"/>
                    <a:tab algn="l" pos="6991200"/>
                    <a:tab algn="l" pos="8156520"/>
                    <a:tab algn="l" pos="9321840"/>
                    <a:tab algn="l" pos="1048716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FROM/TO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DEPARTMENT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97320" y="3113280"/>
                <a:ext cx="4869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30680" y="2560680"/>
                <a:ext cx="5207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440280" y="1100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xampl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62040" y="4119480"/>
            <a:ext cx="7238880" cy="2158920"/>
            <a:chOff x="662040" y="4119480"/>
            <a:chExt cx="7238880" cy="2158920"/>
          </a:xfrm>
        </p:grpSpPr>
        <p:sp>
          <p:nvSpPr>
            <p:cNvPr id="408" name=""/>
            <p:cNvSpPr/>
            <p:nvPr/>
          </p:nvSpPr>
          <p:spPr>
            <a:xfrm>
              <a:off x="662040" y="4119480"/>
              <a:ext cx="7238880" cy="21589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4040" y="4238280"/>
              <a:ext cx="69152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5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1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6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133880" y="1284120"/>
            <a:ext cx="4473720" cy="3345120"/>
            <a:chOff x="4133880" y="1284120"/>
            <a:chExt cx="4473720" cy="3345120"/>
          </a:xfrm>
        </p:grpSpPr>
        <p:grpSp>
          <p:nvGrpSpPr>
            <p:cNvPr id="411" name=""/>
            <p:cNvGrpSpPr/>
            <p:nvPr/>
          </p:nvGrpSpPr>
          <p:grpSpPr>
            <a:xfrm>
              <a:off x="4133880" y="1284120"/>
              <a:ext cx="4473720" cy="3345120"/>
              <a:chOff x="4133880" y="1284120"/>
              <a:chExt cx="4473720" cy="3345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4133880" y="1284120"/>
                <a:ext cx="4473720" cy="3345120"/>
                <a:chOff x="4133880" y="1284120"/>
                <a:chExt cx="4473720" cy="3345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133880" y="1284120"/>
                  <a:ext cx="4473720" cy="3345120"/>
                </a:xfrm>
                <a:prstGeom prst="rect">
                  <a:avLst/>
                </a:prstGeom>
                <a:solidFill>
                  <a:srgbClr val="b3c4ef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079960" y="1847880"/>
                  <a:ext cx="0" cy="2216160"/>
                </a:xfrm>
                <a:prstGeom prst="line">
                  <a:avLst/>
                </a:prstGeom>
                <a:ln w="381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381720" y="1847880"/>
                  <a:ext cx="0" cy="2216160"/>
                </a:xfrm>
                <a:prstGeom prst="line">
                  <a:avLst/>
                </a:prstGeom>
                <a:ln w="381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84920" y="1847880"/>
                  <a:ext cx="0" cy="2216160"/>
                </a:xfrm>
                <a:prstGeom prst="line">
                  <a:avLst/>
                </a:prstGeom>
                <a:ln w="381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72000" y="2398680"/>
                  <a:ext cx="3598920" cy="0"/>
                </a:xfrm>
                <a:prstGeom prst="line">
                  <a:avLst/>
                </a:prstGeom>
                <a:ln w="381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572000" y="3595680"/>
                  <a:ext cx="3598920" cy="0"/>
                </a:xfrm>
                <a:prstGeom prst="line">
                  <a:avLst/>
                </a:prstGeom>
                <a:ln w="381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4829040" y="2139840"/>
                  <a:ext cx="492120" cy="492120"/>
                  <a:chOff x="4829040" y="2139840"/>
                  <a:chExt cx="492120" cy="4921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4829040" y="2139840"/>
                    <a:ext cx="492120" cy="49212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912920" y="218772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135840" y="2136600"/>
                  <a:ext cx="492120" cy="492120"/>
                  <a:chOff x="6135840" y="2136600"/>
                  <a:chExt cx="492120" cy="4921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135840" y="2136600"/>
                    <a:ext cx="492120" cy="49212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221160" y="218412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7431120" y="2133720"/>
                  <a:ext cx="492120" cy="492120"/>
                  <a:chOff x="7431120" y="2133720"/>
                  <a:chExt cx="492120" cy="4921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7431120" y="2133720"/>
                    <a:ext cx="492120" cy="49212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516800" y="218124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3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815000" y="3341520"/>
                  <a:ext cx="492120" cy="492120"/>
                  <a:chOff x="4815000" y="3341520"/>
                  <a:chExt cx="492120" cy="4921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4815000" y="3341520"/>
                    <a:ext cx="492120" cy="49212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900320" y="338904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4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130800" y="3359160"/>
                  <a:ext cx="492120" cy="492120"/>
                  <a:chOff x="6130800" y="3359160"/>
                  <a:chExt cx="492120" cy="492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6130800" y="3359160"/>
                    <a:ext cx="492120" cy="49212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215040" y="340668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5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434" name=""/>
              <p:cNvSpPr/>
              <p:nvPr/>
            </p:nvSpPr>
            <p:spPr>
              <a:xfrm>
                <a:off x="5442840" y="20318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741360" y="20318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03080" y="27050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63400" y="28209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38040" y="2705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99720" y="32306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6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61840" y="39369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84360" y="129708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1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319720" y="2384280"/>
                <a:ext cx="819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47040" y="2384280"/>
                <a:ext cx="788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249520" y="2554200"/>
                <a:ext cx="958680" cy="874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58120" y="2565360"/>
                <a:ext cx="931680" cy="860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03880" y="3581280"/>
                <a:ext cx="819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221440" y="1644480"/>
                <a:ext cx="2304720" cy="557280"/>
              </a:xfrm>
              <a:custGeom>
                <a:avLst/>
                <a:gdLst/>
                <a:ahLst/>
                <a:rect l="l" t="t" r="r" b="b"/>
                <a:pathLst>
                  <a:path w="1452" h="351">
                    <a:moveTo>
                      <a:pt x="0" y="351"/>
                    </a:moveTo>
                    <a:cubicBezTo>
                      <a:pt x="53" y="311"/>
                      <a:pt x="197" y="169"/>
                      <a:pt x="316" y="111"/>
                    </a:cubicBezTo>
                    <a:cubicBezTo>
                      <a:pt x="435" y="53"/>
                      <a:pt x="577" y="8"/>
                      <a:pt x="711" y="4"/>
                    </a:cubicBezTo>
                    <a:cubicBezTo>
                      <a:pt x="845" y="0"/>
                      <a:pt x="999" y="30"/>
                      <a:pt x="1122" y="84"/>
                    </a:cubicBezTo>
                    <a:cubicBezTo>
                      <a:pt x="1245" y="138"/>
                      <a:pt x="1383" y="278"/>
                      <a:pt x="1452" y="329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240160" y="2633760"/>
                <a:ext cx="2448000" cy="1770120"/>
              </a:xfrm>
              <a:custGeom>
                <a:avLst/>
                <a:gdLst/>
                <a:ahLst/>
                <a:rect l="l" t="t" r="r" b="b"/>
                <a:pathLst>
                  <a:path w="1542" h="1115">
                    <a:moveTo>
                      <a:pt x="0" y="725"/>
                    </a:moveTo>
                    <a:cubicBezTo>
                      <a:pt x="50" y="768"/>
                      <a:pt x="179" y="924"/>
                      <a:pt x="299" y="986"/>
                    </a:cubicBezTo>
                    <a:cubicBezTo>
                      <a:pt x="419" y="1048"/>
                      <a:pt x="566" y="1115"/>
                      <a:pt x="720" y="1098"/>
                    </a:cubicBezTo>
                    <a:cubicBezTo>
                      <a:pt x="874" y="1081"/>
                      <a:pt x="1098" y="999"/>
                      <a:pt x="1222" y="885"/>
                    </a:cubicBezTo>
                    <a:cubicBezTo>
                      <a:pt x="1346" y="771"/>
                      <a:pt x="1409" y="563"/>
                      <a:pt x="1462" y="416"/>
                    </a:cubicBezTo>
                    <a:cubicBezTo>
                      <a:pt x="1515" y="269"/>
                      <a:pt x="1525" y="87"/>
                      <a:pt x="154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92880" y="2638440"/>
                <a:ext cx="0" cy="706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4293720" y="41338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Grid 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1400" y="4111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26720" y="1563840"/>
            <a:ext cx="5445720" cy="3168000"/>
            <a:chOff x="1926720" y="1563840"/>
            <a:chExt cx="5445720" cy="3168000"/>
          </a:xfrm>
        </p:grpSpPr>
        <p:sp>
          <p:nvSpPr>
            <p:cNvPr id="453" name=""/>
            <p:cNvSpPr/>
            <p:nvPr/>
          </p:nvSpPr>
          <p:spPr>
            <a:xfrm>
              <a:off x="1930680" y="2584440"/>
              <a:ext cx="524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720800"/>
                  <a:tab algn="ctr" pos="2482920"/>
                  <a:tab algn="ctr" pos="3244680"/>
                  <a:tab algn="ctr" pos="4006800"/>
                  <a:tab algn="ctr" pos="4768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Department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3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926720" y="1563840"/>
              <a:ext cx="5445720" cy="3168000"/>
              <a:chOff x="1926720" y="1563840"/>
              <a:chExt cx="5445720" cy="3168000"/>
            </a:xfrm>
          </p:grpSpPr>
          <p:sp>
            <p:nvSpPr>
              <p:cNvPr id="455" name=""/>
              <p:cNvSpPr/>
              <p:nvPr/>
            </p:nvSpPr>
            <p:spPr>
              <a:xfrm>
                <a:off x="1930680" y="3043440"/>
                <a:ext cx="520848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926720" y="1563840"/>
                <a:ext cx="2754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Load Summary Char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28880" y="2116080"/>
                <a:ext cx="5443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244680"/>
                    <a:tab algn="l" pos="3495600"/>
                    <a:tab algn="l" pos="4660920"/>
                    <a:tab algn="l" pos="5826240"/>
                    <a:tab algn="l" pos="6991200"/>
                    <a:tab algn="l" pos="8156520"/>
                    <a:tab algn="l" pos="9321840"/>
                    <a:tab algn="l" pos="1048716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FROM/TO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DEPARTMENT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97320" y="3113280"/>
                <a:ext cx="4869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2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39920"/>
                    <a:tab algn="r" pos="2101680"/>
                    <a:tab algn="r" pos="2863800"/>
                    <a:tab algn="r" pos="3625920"/>
                    <a:tab algn="r" pos="4387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50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—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30680" y="2560680"/>
                <a:ext cx="5207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440280" y="1100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Exampl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62040" y="4119480"/>
            <a:ext cx="7238880" cy="2158920"/>
            <a:chOff x="662040" y="4119480"/>
            <a:chExt cx="7238880" cy="2158920"/>
          </a:xfrm>
        </p:grpSpPr>
        <p:sp>
          <p:nvSpPr>
            <p:cNvPr id="462" name=""/>
            <p:cNvSpPr/>
            <p:nvPr/>
          </p:nvSpPr>
          <p:spPr>
            <a:xfrm>
              <a:off x="662040" y="4119480"/>
              <a:ext cx="7238880" cy="21589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4040" y="4238280"/>
              <a:ext cx="69152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Composite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Mov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5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5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1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0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4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20800"/>
                  <a:tab algn="r" pos="2863800"/>
                  <a:tab algn="l" pos="3625920"/>
                  <a:tab algn="l" pos="5334120"/>
                  <a:tab algn="r" pos="6477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4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60 loads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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5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 load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133880" y="1284120"/>
            <a:ext cx="4473720" cy="3345120"/>
            <a:chOff x="4133880" y="1284120"/>
            <a:chExt cx="4473720" cy="3345120"/>
          </a:xfrm>
        </p:grpSpPr>
        <p:grpSp>
          <p:nvGrpSpPr>
            <p:cNvPr id="465" name=""/>
            <p:cNvGrpSpPr/>
            <p:nvPr/>
          </p:nvGrpSpPr>
          <p:grpSpPr>
            <a:xfrm>
              <a:off x="4133880" y="1284120"/>
              <a:ext cx="4473720" cy="3345120"/>
              <a:chOff x="4133880" y="1284120"/>
              <a:chExt cx="4473720" cy="3345120"/>
            </a:xfrm>
          </p:grpSpPr>
          <p:sp>
            <p:nvSpPr>
              <p:cNvPr id="466" name=""/>
              <p:cNvSpPr/>
              <p:nvPr/>
            </p:nvSpPr>
            <p:spPr>
              <a:xfrm>
                <a:off x="4133880" y="1284120"/>
                <a:ext cx="4473720" cy="334512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79960" y="1847880"/>
                <a:ext cx="0" cy="221616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81720" y="1847880"/>
                <a:ext cx="0" cy="221616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684920" y="1847880"/>
                <a:ext cx="0" cy="221616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0" y="2398680"/>
                <a:ext cx="359892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72000" y="3595680"/>
                <a:ext cx="359892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4829040" y="2139840"/>
                <a:ext cx="492120" cy="492120"/>
                <a:chOff x="4829040" y="2139840"/>
                <a:chExt cx="492120" cy="492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829040" y="2139840"/>
                  <a:ext cx="492120" cy="4921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12920" y="21877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135840" y="2136600"/>
                <a:ext cx="492120" cy="492120"/>
                <a:chOff x="6135840" y="2136600"/>
                <a:chExt cx="492120" cy="492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135840" y="2136600"/>
                  <a:ext cx="492120" cy="4921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221160" y="2184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132600" y="3348000"/>
                <a:ext cx="492120" cy="492120"/>
                <a:chOff x="6132600" y="3348000"/>
                <a:chExt cx="492120" cy="492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132600" y="3348000"/>
                  <a:ext cx="492120" cy="4921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18280" y="33955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440480" y="2155680"/>
                <a:ext cx="492120" cy="492120"/>
                <a:chOff x="7440480" y="2155680"/>
                <a:chExt cx="492120" cy="492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440480" y="2155680"/>
                  <a:ext cx="492120" cy="4921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525800" y="220320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7442280" y="3359160"/>
                <a:ext cx="492120" cy="492120"/>
                <a:chOff x="7442280" y="3359160"/>
                <a:chExt cx="492120" cy="492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7442280" y="3359160"/>
                  <a:ext cx="492120" cy="4921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526520" y="34066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5442840" y="20318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38120" y="269388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53960" y="20289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839640" y="32288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455520" y="27194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01480" y="28209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6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31680" y="272268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22160" y="296388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1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319720" y="2384280"/>
                <a:ext cx="819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647040" y="2384280"/>
                <a:ext cx="788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49880" y="2583000"/>
                <a:ext cx="944640" cy="84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558120" y="2565360"/>
                <a:ext cx="931680" cy="860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29400" y="3581280"/>
                <a:ext cx="819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92880" y="2638440"/>
                <a:ext cx="0" cy="706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86560" y="2552760"/>
                <a:ext cx="915840" cy="874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88160" y="2649600"/>
                <a:ext cx="0" cy="706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4293720" y="41338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Grid 2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lock Diagram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920" y="5889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 advTm="1000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lock Diagram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33240" y="1847880"/>
            <a:ext cx="4038480" cy="3569760"/>
            <a:chOff x="633240" y="1847880"/>
            <a:chExt cx="4038480" cy="3569760"/>
          </a:xfrm>
        </p:grpSpPr>
        <p:grpSp>
          <p:nvGrpSpPr>
            <p:cNvPr id="508" name=""/>
            <p:cNvGrpSpPr/>
            <p:nvPr/>
          </p:nvGrpSpPr>
          <p:grpSpPr>
            <a:xfrm>
              <a:off x="633240" y="2525760"/>
              <a:ext cx="4038480" cy="2891880"/>
              <a:chOff x="633240" y="2525760"/>
              <a:chExt cx="4038480" cy="2891880"/>
            </a:xfrm>
          </p:grpSpPr>
          <p:sp>
            <p:nvSpPr>
              <p:cNvPr id="509" name=""/>
              <p:cNvSpPr/>
              <p:nvPr/>
            </p:nvSpPr>
            <p:spPr>
              <a:xfrm>
                <a:off x="636480" y="2525760"/>
                <a:ext cx="1454040" cy="143820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90520" y="3373200"/>
                <a:ext cx="592200" cy="59184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82720" y="2935080"/>
                <a:ext cx="1439640" cy="102996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74600" y="3963960"/>
                <a:ext cx="1847880" cy="145368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22480" y="3968640"/>
                <a:ext cx="1749240" cy="144900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3240" y="3670200"/>
                <a:ext cx="351468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85720" y="2990520"/>
                <a:ext cx="0" cy="242712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33240" y="4679640"/>
                <a:ext cx="351468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2169720" y="4462200"/>
                <a:ext cx="435240" cy="434520"/>
                <a:chOff x="2169720" y="4462200"/>
                <a:chExt cx="435240" cy="4345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169720" y="4462200"/>
                  <a:ext cx="43524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33800" y="44967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2168280" y="3452760"/>
                <a:ext cx="434880" cy="434520"/>
                <a:chOff x="2168280" y="3452760"/>
                <a:chExt cx="434880" cy="4345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168280" y="3452760"/>
                  <a:ext cx="43488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232000" y="34858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1366560" y="2987640"/>
                <a:ext cx="0" cy="242676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420720" y="2984400"/>
                <a:ext cx="0" cy="242676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3203280" y="4462200"/>
                <a:ext cx="434880" cy="434520"/>
                <a:chOff x="3203280" y="4462200"/>
                <a:chExt cx="434880" cy="4345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203280" y="4462200"/>
                  <a:ext cx="43488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67000" y="44967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1147320" y="3452760"/>
                <a:ext cx="435240" cy="434520"/>
                <a:chOff x="1147320" y="3452760"/>
                <a:chExt cx="435240" cy="4345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1147320" y="3452760"/>
                  <a:ext cx="43524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211400" y="34858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203280" y="3452760"/>
                <a:ext cx="434880" cy="434520"/>
                <a:chOff x="3203280" y="3452760"/>
                <a:chExt cx="434880" cy="4345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3280" y="3452760"/>
                  <a:ext cx="43488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267000" y="34855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>
              <a:off x="633600" y="1847880"/>
              <a:ext cx="27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(a) Initial block diagram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344160" y="62499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4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536" name=""/>
          <p:cNvSpPr/>
          <p:nvPr/>
        </p:nvSpPr>
        <p:spPr>
          <a:xfrm>
            <a:off x="331920" y="5889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lock Diagram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33240" y="1847880"/>
            <a:ext cx="7983720" cy="3569400"/>
            <a:chOff x="633240" y="1847880"/>
            <a:chExt cx="7983720" cy="3569400"/>
          </a:xfrm>
        </p:grpSpPr>
        <p:grpSp>
          <p:nvGrpSpPr>
            <p:cNvPr id="539" name=""/>
            <p:cNvGrpSpPr/>
            <p:nvPr/>
          </p:nvGrpSpPr>
          <p:grpSpPr>
            <a:xfrm>
              <a:off x="5118120" y="2947680"/>
              <a:ext cx="3498840" cy="2469600"/>
              <a:chOff x="5118120" y="2947680"/>
              <a:chExt cx="3498840" cy="246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5118120" y="2947680"/>
                <a:ext cx="3498840" cy="245556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118120" y="3963600"/>
                <a:ext cx="348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67720" y="3963600"/>
                <a:ext cx="0" cy="145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64360" y="2961720"/>
                <a:ext cx="0" cy="100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85120" y="3385440"/>
                <a:ext cx="579240" cy="577800"/>
              </a:xfrm>
              <a:custGeom>
                <a:avLst/>
                <a:gdLst/>
                <a:ahLst/>
                <a:rect l="l" t="t" r="r" b="b"/>
                <a:pathLst>
                  <a:path w="365" h="364">
                    <a:moveTo>
                      <a:pt x="0" y="364"/>
                    </a:moveTo>
                    <a:lnTo>
                      <a:pt x="0" y="0"/>
                    </a:lnTo>
                    <a:lnTo>
                      <a:pt x="365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89440" y="32475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03920" y="3487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16520" y="4460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07240" y="32475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81960" y="4460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33240" y="2525400"/>
              <a:ext cx="4038480" cy="2891880"/>
              <a:chOff x="633240" y="2525400"/>
              <a:chExt cx="4038480" cy="2891880"/>
            </a:xfrm>
          </p:grpSpPr>
          <p:sp>
            <p:nvSpPr>
              <p:cNvPr id="551" name=""/>
              <p:cNvSpPr/>
              <p:nvPr/>
            </p:nvSpPr>
            <p:spPr>
              <a:xfrm>
                <a:off x="636480" y="2525400"/>
                <a:ext cx="1454040" cy="143820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90520" y="3372840"/>
                <a:ext cx="592200" cy="59184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82720" y="2934720"/>
                <a:ext cx="1439640" cy="102996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74600" y="3963600"/>
                <a:ext cx="1847880" cy="145368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922480" y="3968280"/>
                <a:ext cx="1749240" cy="1449000"/>
              </a:xfrm>
              <a:prstGeom prst="rect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33240" y="3669840"/>
                <a:ext cx="351468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385720" y="2990160"/>
                <a:ext cx="0" cy="242712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33240" y="4679280"/>
                <a:ext cx="351468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2169720" y="4461840"/>
                <a:ext cx="435240" cy="434520"/>
                <a:chOff x="2169720" y="4461840"/>
                <a:chExt cx="435240" cy="4345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2169720" y="4461840"/>
                  <a:ext cx="43524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233800" y="4496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2168280" y="3452400"/>
                <a:ext cx="434880" cy="434520"/>
                <a:chOff x="2168280" y="3452400"/>
                <a:chExt cx="434880" cy="4345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2168280" y="3452400"/>
                  <a:ext cx="43488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232000" y="34855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1366560" y="2987280"/>
                <a:ext cx="0" cy="242676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20720" y="2984040"/>
                <a:ext cx="0" cy="242676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3203280" y="4461840"/>
                <a:ext cx="434880" cy="434520"/>
                <a:chOff x="3203280" y="4461840"/>
                <a:chExt cx="434880" cy="4345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203280" y="4461840"/>
                  <a:ext cx="43488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67000" y="4496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47320" y="3452400"/>
                <a:ext cx="435240" cy="434520"/>
                <a:chOff x="1147320" y="3452400"/>
                <a:chExt cx="435240" cy="4345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147320" y="3452400"/>
                  <a:ext cx="43524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211400" y="34855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3203280" y="3452400"/>
                <a:ext cx="434880" cy="434520"/>
                <a:chOff x="3203280" y="3452400"/>
                <a:chExt cx="434880" cy="4345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3203280" y="3452400"/>
                  <a:ext cx="434880" cy="434520"/>
                </a:xfrm>
                <a:prstGeom prst="ellipse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67000" y="3485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222222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576" name=""/>
            <p:cNvSpPr/>
            <p:nvPr/>
          </p:nvSpPr>
          <p:spPr>
            <a:xfrm>
              <a:off x="633600" y="1847880"/>
              <a:ext cx="27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(a) Initial block diagram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18120" y="1847880"/>
              <a:ext cx="26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(b) Final block diagram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44160" y="62499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4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579" name=""/>
          <p:cNvSpPr/>
          <p:nvPr/>
        </p:nvSpPr>
        <p:spPr>
          <a:xfrm>
            <a:off x="331920" y="5889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00200" y="72180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Relationship Diagramming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4360" y="2122200"/>
            <a:ext cx="5641920" cy="38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sed when quantitative data is not availabl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Muther’s grid displays preferenc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enote location preferences with weighted lin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865840" y="2836800"/>
            <a:ext cx="2569680" cy="2354400"/>
            <a:chOff x="5865840" y="2836800"/>
            <a:chExt cx="2569680" cy="2354400"/>
          </a:xfrm>
        </p:grpSpPr>
        <p:sp>
          <p:nvSpPr>
            <p:cNvPr id="583" name=""/>
            <p:cNvSpPr/>
            <p:nvPr/>
          </p:nvSpPr>
          <p:spPr>
            <a:xfrm>
              <a:off x="5866920" y="2836800"/>
              <a:ext cx="2568600" cy="1177200"/>
            </a:xfrm>
            <a:custGeom>
              <a:avLst/>
              <a:gdLst/>
              <a:ahLst/>
              <a:rect l="l" t="t" r="r" b="b"/>
              <a:pathLst>
                <a:path w="3536" h="1182">
                  <a:moveTo>
                    <a:pt x="0" y="0"/>
                  </a:moveTo>
                  <a:lnTo>
                    <a:pt x="1609" y="0"/>
                  </a:lnTo>
                  <a:lnTo>
                    <a:pt x="3536" y="1182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66920" y="4402800"/>
              <a:ext cx="1631160" cy="401760"/>
            </a:xfrm>
            <a:custGeom>
              <a:avLst/>
              <a:gdLst/>
              <a:ahLst/>
              <a:rect l="l" t="t" r="r" b="b"/>
              <a:pathLst>
                <a:path w="2247" h="404">
                  <a:moveTo>
                    <a:pt x="0" y="0"/>
                  </a:moveTo>
                  <a:lnTo>
                    <a:pt x="1609" y="0"/>
                  </a:lnTo>
                  <a:lnTo>
                    <a:pt x="2247" y="404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71240" y="4011120"/>
              <a:ext cx="1863000" cy="592200"/>
            </a:xfrm>
            <a:custGeom>
              <a:avLst/>
              <a:gdLst/>
              <a:ahLst/>
              <a:rect l="l" t="t" r="r" b="b"/>
              <a:pathLst>
                <a:path w="2566" h="595">
                  <a:moveTo>
                    <a:pt x="0" y="0"/>
                  </a:moveTo>
                  <a:lnTo>
                    <a:pt x="1609" y="0"/>
                  </a:lnTo>
                  <a:lnTo>
                    <a:pt x="2566" y="595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70160" y="3629160"/>
              <a:ext cx="2085840" cy="780120"/>
            </a:xfrm>
            <a:custGeom>
              <a:avLst/>
              <a:gdLst/>
              <a:ahLst/>
              <a:rect l="l" t="t" r="r" b="b"/>
              <a:pathLst>
                <a:path w="2871" h="784">
                  <a:moveTo>
                    <a:pt x="0" y="0"/>
                  </a:moveTo>
                  <a:lnTo>
                    <a:pt x="1609" y="0"/>
                  </a:lnTo>
                  <a:lnTo>
                    <a:pt x="2871" y="784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70160" y="3218760"/>
              <a:ext cx="2332080" cy="990720"/>
            </a:xfrm>
            <a:custGeom>
              <a:avLst/>
              <a:gdLst/>
              <a:ahLst/>
              <a:rect l="l" t="t" r="r" b="b"/>
              <a:pathLst>
                <a:path w="3211" h="995">
                  <a:moveTo>
                    <a:pt x="0" y="0"/>
                  </a:moveTo>
                  <a:lnTo>
                    <a:pt x="1609" y="0"/>
                  </a:lnTo>
                  <a:lnTo>
                    <a:pt x="3211" y="995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65840" y="4798080"/>
              <a:ext cx="1400760" cy="196920"/>
            </a:xfrm>
            <a:custGeom>
              <a:avLst/>
              <a:gdLst/>
              <a:ahLst/>
              <a:rect l="l" t="t" r="r" b="b"/>
              <a:pathLst>
                <a:path w="1929" h="198">
                  <a:moveTo>
                    <a:pt x="0" y="0"/>
                  </a:moveTo>
                  <a:lnTo>
                    <a:pt x="1609" y="0"/>
                  </a:lnTo>
                  <a:lnTo>
                    <a:pt x="1929" y="198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68720" y="4014000"/>
              <a:ext cx="2565360" cy="1177200"/>
            </a:xfrm>
            <a:custGeom>
              <a:avLst/>
              <a:gdLst/>
              <a:ahLst/>
              <a:rect l="l" t="t" r="r" b="b"/>
              <a:pathLst>
                <a:path w="3533" h="1182">
                  <a:moveTo>
                    <a:pt x="0" y="1182"/>
                  </a:moveTo>
                  <a:lnTo>
                    <a:pt x="1609" y="1182"/>
                  </a:lnTo>
                  <a:lnTo>
                    <a:pt x="3533" y="0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7030440" y="3827160"/>
              <a:ext cx="1174680" cy="97308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036200" y="3426480"/>
              <a:ext cx="702360" cy="58464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034760" y="3028320"/>
              <a:ext cx="224280" cy="18504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039080" y="3237120"/>
              <a:ext cx="468000" cy="38988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039080" y="3631320"/>
              <a:ext cx="943200" cy="78300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57360" y="45360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Relationship Diagramming Example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7360" y="45360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Relationship Diagramming Example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939960" y="2244600"/>
            <a:ext cx="5618160" cy="3753000"/>
            <a:chOff x="939960" y="2244600"/>
            <a:chExt cx="5618160" cy="3753000"/>
          </a:xfrm>
        </p:grpSpPr>
        <p:sp>
          <p:nvSpPr>
            <p:cNvPr id="598" name=""/>
            <p:cNvSpPr/>
            <p:nvPr/>
          </p:nvSpPr>
          <p:spPr>
            <a:xfrm>
              <a:off x="1153440" y="2362320"/>
              <a:ext cx="1524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51280" y="2978280"/>
              <a:ext cx="104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Office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53080" y="3619440"/>
              <a:ext cx="1510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tockroo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54160" y="4132440"/>
              <a:ext cx="19224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hipping and receiv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52720" y="486576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Locker roo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3800" y="5506920"/>
              <a:ext cx="135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Toolroo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44640" y="2244600"/>
              <a:ext cx="5613480" cy="1876680"/>
            </a:xfrm>
            <a:custGeom>
              <a:avLst/>
              <a:gdLst/>
              <a:ahLst/>
              <a:rect l="l" t="t" r="r" b="b"/>
              <a:pathLst>
                <a:path w="3536" h="1182">
                  <a:moveTo>
                    <a:pt x="0" y="0"/>
                  </a:moveTo>
                  <a:lnTo>
                    <a:pt x="1609" y="0"/>
                  </a:lnTo>
                  <a:lnTo>
                    <a:pt x="3536" y="1182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42840" y="4740120"/>
              <a:ext cx="3567240" cy="641520"/>
            </a:xfrm>
            <a:custGeom>
              <a:avLst/>
              <a:gdLst/>
              <a:ahLst/>
              <a:rect l="l" t="t" r="r" b="b"/>
              <a:pathLst>
                <a:path w="2247" h="404">
                  <a:moveTo>
                    <a:pt x="0" y="0"/>
                  </a:moveTo>
                  <a:lnTo>
                    <a:pt x="1609" y="0"/>
                  </a:lnTo>
                  <a:lnTo>
                    <a:pt x="2247" y="404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52560" y="4116240"/>
              <a:ext cx="4073400" cy="944640"/>
            </a:xfrm>
            <a:custGeom>
              <a:avLst/>
              <a:gdLst/>
              <a:ahLst/>
              <a:rect l="l" t="t" r="r" b="b"/>
              <a:pathLst>
                <a:path w="2566" h="595">
                  <a:moveTo>
                    <a:pt x="0" y="0"/>
                  </a:moveTo>
                  <a:lnTo>
                    <a:pt x="1609" y="0"/>
                  </a:lnTo>
                  <a:lnTo>
                    <a:pt x="2566" y="595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50760" y="3506760"/>
              <a:ext cx="4557960" cy="1244520"/>
            </a:xfrm>
            <a:custGeom>
              <a:avLst/>
              <a:gdLst/>
              <a:ahLst/>
              <a:rect l="l" t="t" r="r" b="b"/>
              <a:pathLst>
                <a:path w="2871" h="784">
                  <a:moveTo>
                    <a:pt x="0" y="0"/>
                  </a:moveTo>
                  <a:lnTo>
                    <a:pt x="1609" y="0"/>
                  </a:lnTo>
                  <a:lnTo>
                    <a:pt x="2871" y="784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49320" y="2854440"/>
              <a:ext cx="5097600" cy="1579320"/>
            </a:xfrm>
            <a:custGeom>
              <a:avLst/>
              <a:gdLst/>
              <a:ahLst/>
              <a:rect l="l" t="t" r="r" b="b"/>
              <a:pathLst>
                <a:path w="3211" h="995">
                  <a:moveTo>
                    <a:pt x="0" y="0"/>
                  </a:moveTo>
                  <a:lnTo>
                    <a:pt x="1609" y="0"/>
                  </a:lnTo>
                  <a:lnTo>
                    <a:pt x="3211" y="995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39960" y="5372280"/>
              <a:ext cx="3062160" cy="314280"/>
            </a:xfrm>
            <a:custGeom>
              <a:avLst/>
              <a:gdLst/>
              <a:ahLst/>
              <a:rect l="l" t="t" r="r" b="b"/>
              <a:pathLst>
                <a:path w="1929" h="198">
                  <a:moveTo>
                    <a:pt x="0" y="0"/>
                  </a:moveTo>
                  <a:lnTo>
                    <a:pt x="1609" y="0"/>
                  </a:lnTo>
                  <a:lnTo>
                    <a:pt x="1929" y="198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46080" y="4121280"/>
              <a:ext cx="5608800" cy="1876320"/>
            </a:xfrm>
            <a:custGeom>
              <a:avLst/>
              <a:gdLst/>
              <a:ahLst/>
              <a:rect l="l" t="t" r="r" b="b"/>
              <a:pathLst>
                <a:path w="3533" h="1182">
                  <a:moveTo>
                    <a:pt x="0" y="1182"/>
                  </a:moveTo>
                  <a:lnTo>
                    <a:pt x="1609" y="1182"/>
                  </a:lnTo>
                  <a:lnTo>
                    <a:pt x="3533" y="0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486240" y="3823920"/>
              <a:ext cx="2568600" cy="15526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497400" y="3184200"/>
              <a:ext cx="1536480" cy="9334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3495600" y="2550600"/>
              <a:ext cx="490680" cy="2955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505320" y="2883960"/>
              <a:ext cx="1022400" cy="6210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3503520" y="3511440"/>
              <a:ext cx="2063880" cy="12477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7360" y="45360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Relationship Diagramming Example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939960" y="2244600"/>
            <a:ext cx="5618160" cy="3753000"/>
            <a:chOff x="939960" y="2244600"/>
            <a:chExt cx="5618160" cy="3753000"/>
          </a:xfrm>
        </p:grpSpPr>
        <p:sp>
          <p:nvSpPr>
            <p:cNvPr id="618" name=""/>
            <p:cNvSpPr/>
            <p:nvPr/>
          </p:nvSpPr>
          <p:spPr>
            <a:xfrm>
              <a:off x="3789720" y="389088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53240" y="39020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46640" y="29606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37160" y="2646360"/>
              <a:ext cx="50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38000" y="360216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2880" y="5148360"/>
              <a:ext cx="41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38000" y="484488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47400" y="453240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46160" y="327492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46640" y="42181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46160" y="453240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06760" y="421812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59320" y="3591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49920" y="3905280"/>
              <a:ext cx="41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81600" y="3274920"/>
              <a:ext cx="3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939960" y="2244600"/>
              <a:ext cx="5618160" cy="3753000"/>
              <a:chOff x="939960" y="2244600"/>
              <a:chExt cx="5618160" cy="375300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1151280" y="2362320"/>
                <a:ext cx="1925280" cy="3538440"/>
                <a:chOff x="1151280" y="2362320"/>
                <a:chExt cx="1925280" cy="35384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153440" y="2362320"/>
                  <a:ext cx="15242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Production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51280" y="2978280"/>
                  <a:ext cx="1045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Office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53080" y="3619440"/>
                  <a:ext cx="15102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tockroom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54160" y="4132440"/>
                  <a:ext cx="1922400" cy="60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hipping and receiving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52720" y="4865760"/>
                  <a:ext cx="17222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Locker room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53800" y="5506920"/>
                  <a:ext cx="13532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Toolroom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944640" y="2244600"/>
                <a:ext cx="5613480" cy="1876680"/>
              </a:xfrm>
              <a:custGeom>
                <a:avLst/>
                <a:gdLst/>
                <a:ahLst/>
                <a:rect l="l" t="t" r="r" b="b"/>
                <a:pathLst>
                  <a:path w="3536" h="1182">
                    <a:moveTo>
                      <a:pt x="0" y="0"/>
                    </a:moveTo>
                    <a:lnTo>
                      <a:pt x="1609" y="0"/>
                    </a:lnTo>
                    <a:lnTo>
                      <a:pt x="3536" y="1182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942840" y="4740120"/>
                <a:ext cx="3567240" cy="641520"/>
              </a:xfrm>
              <a:custGeom>
                <a:avLst/>
                <a:gdLst/>
                <a:ahLst/>
                <a:rect l="l" t="t" r="r" b="b"/>
                <a:pathLst>
                  <a:path w="2247" h="404">
                    <a:moveTo>
                      <a:pt x="0" y="0"/>
                    </a:moveTo>
                    <a:lnTo>
                      <a:pt x="1609" y="0"/>
                    </a:lnTo>
                    <a:lnTo>
                      <a:pt x="2247" y="404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952560" y="4116240"/>
                <a:ext cx="4073400" cy="944640"/>
              </a:xfrm>
              <a:custGeom>
                <a:avLst/>
                <a:gdLst/>
                <a:ahLst/>
                <a:rect l="l" t="t" r="r" b="b"/>
                <a:pathLst>
                  <a:path w="2566" h="595">
                    <a:moveTo>
                      <a:pt x="0" y="0"/>
                    </a:moveTo>
                    <a:lnTo>
                      <a:pt x="1609" y="0"/>
                    </a:lnTo>
                    <a:lnTo>
                      <a:pt x="2566" y="595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950760" y="3506760"/>
                <a:ext cx="4557960" cy="1244520"/>
              </a:xfrm>
              <a:custGeom>
                <a:avLst/>
                <a:gdLst/>
                <a:ahLst/>
                <a:rect l="l" t="t" r="r" b="b"/>
                <a:pathLst>
                  <a:path w="2871" h="784">
                    <a:moveTo>
                      <a:pt x="0" y="0"/>
                    </a:moveTo>
                    <a:lnTo>
                      <a:pt x="1609" y="0"/>
                    </a:lnTo>
                    <a:lnTo>
                      <a:pt x="2871" y="784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49320" y="2854440"/>
                <a:ext cx="5097600" cy="1579320"/>
              </a:xfrm>
              <a:custGeom>
                <a:avLst/>
                <a:gdLst/>
                <a:ahLst/>
                <a:rect l="l" t="t" r="r" b="b"/>
                <a:pathLst>
                  <a:path w="3211" h="995">
                    <a:moveTo>
                      <a:pt x="0" y="0"/>
                    </a:moveTo>
                    <a:lnTo>
                      <a:pt x="1609" y="0"/>
                    </a:lnTo>
                    <a:lnTo>
                      <a:pt x="3211" y="995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39960" y="5372280"/>
                <a:ext cx="3062160" cy="314280"/>
              </a:xfrm>
              <a:custGeom>
                <a:avLst/>
                <a:gdLst/>
                <a:ahLst/>
                <a:rect l="l" t="t" r="r" b="b"/>
                <a:pathLst>
                  <a:path w="1929" h="198">
                    <a:moveTo>
                      <a:pt x="0" y="0"/>
                    </a:moveTo>
                    <a:lnTo>
                      <a:pt x="1609" y="0"/>
                    </a:lnTo>
                    <a:lnTo>
                      <a:pt x="1929" y="198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946080" y="4121280"/>
                <a:ext cx="5608800" cy="1876320"/>
              </a:xfrm>
              <a:custGeom>
                <a:avLst/>
                <a:gdLst/>
                <a:ahLst/>
                <a:rect l="l" t="t" r="r" b="b"/>
                <a:pathLst>
                  <a:path w="3533" h="1182">
                    <a:moveTo>
                      <a:pt x="0" y="1182"/>
                    </a:moveTo>
                    <a:lnTo>
                      <a:pt x="1609" y="1182"/>
                    </a:lnTo>
                    <a:lnTo>
                      <a:pt x="3533" y="0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86240" y="3823920"/>
                <a:ext cx="2568600" cy="155268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3497400" y="3184200"/>
                <a:ext cx="1536480" cy="93348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3495600" y="2550600"/>
                <a:ext cx="490680" cy="29556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3505320" y="2883960"/>
                <a:ext cx="1022400" cy="62100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3503520" y="3511440"/>
                <a:ext cx="2063880" cy="124776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428880" y="1417680"/>
            <a:ext cx="2467080" cy="243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Absolutely necessary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Especially important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Important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Okay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Unimportant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Undesirable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Objectives of Facility Layout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liminate waste or redundant movemen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acilitate the entry, exit, and placement of material, products, or peopl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Incorporate safety and security measure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mote product and service quality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ncourage proper maintenance activitie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vide a visual control of operations or activitie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vide flexibility to adapt to changing condition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Increase capacity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7360" y="45360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Relationship Diagramming Example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939960" y="2244600"/>
            <a:ext cx="5621040" cy="3753000"/>
            <a:chOff x="939960" y="2244600"/>
            <a:chExt cx="5621040" cy="3753000"/>
          </a:xfrm>
        </p:grpSpPr>
        <p:sp>
          <p:nvSpPr>
            <p:cNvPr id="656" name=""/>
            <p:cNvSpPr/>
            <p:nvPr/>
          </p:nvSpPr>
          <p:spPr>
            <a:xfrm>
              <a:off x="3513240" y="2554200"/>
              <a:ext cx="3047760" cy="1876680"/>
            </a:xfrm>
            <a:custGeom>
              <a:avLst/>
              <a:gdLst/>
              <a:ahLst/>
              <a:rect l="l" t="t" r="r" b="b"/>
              <a:pathLst>
                <a:path w="1920" h="1182">
                  <a:moveTo>
                    <a:pt x="0" y="187"/>
                  </a:moveTo>
                  <a:lnTo>
                    <a:pt x="303" y="0"/>
                  </a:lnTo>
                  <a:lnTo>
                    <a:pt x="1920" y="995"/>
                  </a:lnTo>
                  <a:lnTo>
                    <a:pt x="1600" y="118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89720" y="389088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53240" y="39020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6640" y="29606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37160" y="2646360"/>
              <a:ext cx="50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38000" y="360216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82880" y="5148360"/>
              <a:ext cx="41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38000" y="484488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47400" y="453240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46160" y="327492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6640" y="42181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46160" y="453240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06760" y="421812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59320" y="3591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49920" y="3905280"/>
              <a:ext cx="41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81600" y="3274920"/>
              <a:ext cx="3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939960" y="2244600"/>
              <a:ext cx="5618160" cy="3753000"/>
              <a:chOff x="939960" y="2244600"/>
              <a:chExt cx="5618160" cy="375300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1151280" y="2362320"/>
                <a:ext cx="1925280" cy="3538440"/>
                <a:chOff x="1151280" y="2362320"/>
                <a:chExt cx="1925280" cy="3538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1153440" y="2362320"/>
                  <a:ext cx="15242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Production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151280" y="2978280"/>
                  <a:ext cx="1045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Offices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153080" y="3619440"/>
                  <a:ext cx="15102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tockroom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154160" y="4132440"/>
                  <a:ext cx="1922400" cy="60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Shipping and receiving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152720" y="4865760"/>
                  <a:ext cx="17222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Locker room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153800" y="5506920"/>
                  <a:ext cx="13532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Toolroom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>
                <a:off x="944640" y="2244600"/>
                <a:ext cx="5613480" cy="1876680"/>
              </a:xfrm>
              <a:custGeom>
                <a:avLst/>
                <a:gdLst/>
                <a:ahLst/>
                <a:rect l="l" t="t" r="r" b="b"/>
                <a:pathLst>
                  <a:path w="3536" h="1182">
                    <a:moveTo>
                      <a:pt x="0" y="0"/>
                    </a:moveTo>
                    <a:lnTo>
                      <a:pt x="1609" y="0"/>
                    </a:lnTo>
                    <a:lnTo>
                      <a:pt x="3536" y="1182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42840" y="4740480"/>
                <a:ext cx="3567240" cy="641160"/>
              </a:xfrm>
              <a:custGeom>
                <a:avLst/>
                <a:gdLst/>
                <a:ahLst/>
                <a:rect l="l" t="t" r="r" b="b"/>
                <a:pathLst>
                  <a:path w="2247" h="404">
                    <a:moveTo>
                      <a:pt x="0" y="0"/>
                    </a:moveTo>
                    <a:lnTo>
                      <a:pt x="1609" y="0"/>
                    </a:lnTo>
                    <a:lnTo>
                      <a:pt x="2247" y="404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952560" y="4116600"/>
                <a:ext cx="4073400" cy="944280"/>
              </a:xfrm>
              <a:custGeom>
                <a:avLst/>
                <a:gdLst/>
                <a:ahLst/>
                <a:rect l="l" t="t" r="r" b="b"/>
                <a:pathLst>
                  <a:path w="2566" h="595">
                    <a:moveTo>
                      <a:pt x="0" y="0"/>
                    </a:moveTo>
                    <a:lnTo>
                      <a:pt x="1609" y="0"/>
                    </a:lnTo>
                    <a:lnTo>
                      <a:pt x="2566" y="595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950760" y="3506760"/>
                <a:ext cx="4557960" cy="1244520"/>
              </a:xfrm>
              <a:custGeom>
                <a:avLst/>
                <a:gdLst/>
                <a:ahLst/>
                <a:rect l="l" t="t" r="r" b="b"/>
                <a:pathLst>
                  <a:path w="2871" h="784">
                    <a:moveTo>
                      <a:pt x="0" y="0"/>
                    </a:moveTo>
                    <a:lnTo>
                      <a:pt x="1609" y="0"/>
                    </a:lnTo>
                    <a:lnTo>
                      <a:pt x="2871" y="784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49320" y="2854440"/>
                <a:ext cx="5097600" cy="1579320"/>
              </a:xfrm>
              <a:custGeom>
                <a:avLst/>
                <a:gdLst/>
                <a:ahLst/>
                <a:rect l="l" t="t" r="r" b="b"/>
                <a:pathLst>
                  <a:path w="3211" h="995">
                    <a:moveTo>
                      <a:pt x="0" y="0"/>
                    </a:moveTo>
                    <a:lnTo>
                      <a:pt x="1609" y="0"/>
                    </a:lnTo>
                    <a:lnTo>
                      <a:pt x="3211" y="995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39960" y="5372280"/>
                <a:ext cx="3062160" cy="314280"/>
              </a:xfrm>
              <a:custGeom>
                <a:avLst/>
                <a:gdLst/>
                <a:ahLst/>
                <a:rect l="l" t="t" r="r" b="b"/>
                <a:pathLst>
                  <a:path w="1929" h="198">
                    <a:moveTo>
                      <a:pt x="0" y="0"/>
                    </a:moveTo>
                    <a:lnTo>
                      <a:pt x="1609" y="0"/>
                    </a:lnTo>
                    <a:lnTo>
                      <a:pt x="1929" y="198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46080" y="4121280"/>
                <a:ext cx="5608800" cy="1876320"/>
              </a:xfrm>
              <a:custGeom>
                <a:avLst/>
                <a:gdLst/>
                <a:ahLst/>
                <a:rect l="l" t="t" r="r" b="b"/>
                <a:pathLst>
                  <a:path w="3533" h="1182">
                    <a:moveTo>
                      <a:pt x="0" y="1182"/>
                    </a:moveTo>
                    <a:lnTo>
                      <a:pt x="1609" y="1182"/>
                    </a:lnTo>
                    <a:lnTo>
                      <a:pt x="3533" y="0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3486240" y="3823920"/>
                <a:ext cx="2568600" cy="155268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497400" y="3184200"/>
                <a:ext cx="1536480" cy="93348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3495600" y="2551320"/>
                <a:ext cx="490680" cy="29520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3505320" y="2884680"/>
                <a:ext cx="1022400" cy="62064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3503520" y="3511440"/>
                <a:ext cx="2063880" cy="124776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428880" y="1417680"/>
            <a:ext cx="2467080" cy="243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Absolutely necessary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Especially important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Important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Okay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Unimportant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02480" indent="0">
              <a:lnSpc>
                <a:spcPct val="90000"/>
              </a:lnSpc>
              <a:buNone/>
              <a:tabLst>
                <a:tab algn="l" pos="0"/>
                <a:tab algn="ctr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Undesirable</a:t>
            </a:r>
            <a:endParaRPr b="1" i="1" lang="en-US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428960" y="58831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5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28640" y="46836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lationship Diagram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28640" y="46836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lationship Diagram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696680" y="2114640"/>
            <a:ext cx="5897880" cy="4061880"/>
            <a:chOff x="1696680" y="2114640"/>
            <a:chExt cx="5897880" cy="4061880"/>
          </a:xfrm>
        </p:grpSpPr>
        <p:sp>
          <p:nvSpPr>
            <p:cNvPr id="697" name=""/>
            <p:cNvSpPr/>
            <p:nvPr/>
          </p:nvSpPr>
          <p:spPr>
            <a:xfrm>
              <a:off x="3005280" y="2752560"/>
              <a:ext cx="4178160" cy="2329200"/>
            </a:xfrm>
            <a:custGeom>
              <a:avLst/>
              <a:gdLst/>
              <a:ahLst/>
              <a:rect l="l" t="t" r="r" b="b"/>
              <a:pathLst>
                <a:path w="2587" h="1449">
                  <a:moveTo>
                    <a:pt x="0" y="418"/>
                  </a:moveTo>
                  <a:lnTo>
                    <a:pt x="0" y="0"/>
                  </a:lnTo>
                  <a:lnTo>
                    <a:pt x="2587" y="0"/>
                  </a:lnTo>
                  <a:lnTo>
                    <a:pt x="2587" y="1449"/>
                  </a:lnTo>
                  <a:lnTo>
                    <a:pt x="1973" y="1449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7480" y="2805120"/>
              <a:ext cx="4064040" cy="2230560"/>
            </a:xfrm>
            <a:custGeom>
              <a:avLst/>
              <a:gdLst/>
              <a:ahLst/>
              <a:rect l="l" t="t" r="r" b="b"/>
              <a:pathLst>
                <a:path w="2587" h="1449">
                  <a:moveTo>
                    <a:pt x="0" y="418"/>
                  </a:moveTo>
                  <a:lnTo>
                    <a:pt x="0" y="0"/>
                  </a:lnTo>
                  <a:lnTo>
                    <a:pt x="2587" y="0"/>
                  </a:lnTo>
                  <a:lnTo>
                    <a:pt x="2587" y="1449"/>
                  </a:lnTo>
                  <a:lnTo>
                    <a:pt x="1973" y="1449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84680" y="3641760"/>
              <a:ext cx="11286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160800" y="3035160"/>
              <a:ext cx="2836800" cy="409680"/>
            </a:xfrm>
            <a:custGeom>
              <a:avLst/>
              <a:gdLst/>
              <a:ahLst/>
              <a:rect l="l" t="t" r="r" b="b"/>
              <a:pathLst>
                <a:path w="1787" h="258">
                  <a:moveTo>
                    <a:pt x="0" y="258"/>
                  </a:moveTo>
                  <a:lnTo>
                    <a:pt x="0" y="0"/>
                  </a:lnTo>
                  <a:lnTo>
                    <a:pt x="1787" y="0"/>
                  </a:lnTo>
                  <a:lnTo>
                    <a:pt x="1787" y="258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25960" y="3090960"/>
              <a:ext cx="2711160" cy="393480"/>
            </a:xfrm>
            <a:custGeom>
              <a:avLst/>
              <a:gdLst/>
              <a:ahLst/>
              <a:rect l="l" t="t" r="r" b="b"/>
              <a:pathLst>
                <a:path w="1708" h="248">
                  <a:moveTo>
                    <a:pt x="0" y="248"/>
                  </a:moveTo>
                  <a:lnTo>
                    <a:pt x="0" y="0"/>
                  </a:lnTo>
                  <a:lnTo>
                    <a:pt x="1708" y="0"/>
                  </a:lnTo>
                  <a:lnTo>
                    <a:pt x="1708" y="248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5908680" y="3827520"/>
              <a:ext cx="114120" cy="1092240"/>
              <a:chOff x="5908680" y="3827520"/>
              <a:chExt cx="114120" cy="1092240"/>
            </a:xfrm>
          </p:grpSpPr>
          <p:sp>
            <p:nvSpPr>
              <p:cNvPr id="703" name=""/>
              <p:cNvSpPr/>
              <p:nvPr/>
            </p:nvSpPr>
            <p:spPr>
              <a:xfrm>
                <a:off x="5908680" y="3827520"/>
                <a:ext cx="0" cy="109224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65920" y="3827520"/>
                <a:ext cx="0" cy="109224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22800" y="3827520"/>
                <a:ext cx="0" cy="109224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4702320" y="4932360"/>
              <a:ext cx="1091880" cy="228600"/>
              <a:chOff x="4702320" y="4932360"/>
              <a:chExt cx="1091880" cy="228600"/>
            </a:xfrm>
          </p:grpSpPr>
          <p:sp>
            <p:nvSpPr>
              <p:cNvPr id="707" name=""/>
              <p:cNvSpPr/>
              <p:nvPr/>
            </p:nvSpPr>
            <p:spPr>
              <a:xfrm>
                <a:off x="4702320" y="516096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702320" y="510372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702320" y="504684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702320" y="498960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02320" y="493236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111480" y="3567240"/>
              <a:ext cx="1457280" cy="1523880"/>
              <a:chOff x="3111480" y="3567240"/>
              <a:chExt cx="1457280" cy="152388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3316320" y="5024520"/>
                <a:ext cx="1015920" cy="66600"/>
                <a:chOff x="3316320" y="5024520"/>
                <a:chExt cx="1015920" cy="666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3316320" y="5024520"/>
                  <a:ext cx="101592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316320" y="5091120"/>
                  <a:ext cx="101592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502160" y="3807000"/>
                <a:ext cx="66600" cy="1042920"/>
                <a:chOff x="4502160" y="3807000"/>
                <a:chExt cx="66600" cy="10429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502160" y="3807000"/>
                  <a:ext cx="0" cy="104292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568760" y="3807000"/>
                  <a:ext cx="0" cy="104292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 flipV="1">
                <a:off x="3219480" y="3731760"/>
                <a:ext cx="1212840" cy="121284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00400" y="3713400"/>
                <a:ext cx="1289160" cy="128880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111480" y="3757680"/>
                <a:ext cx="0" cy="125100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314880" y="3567240"/>
                <a:ext cx="1009440" cy="101520"/>
              </a:xfrm>
              <a:custGeom>
                <a:avLst/>
                <a:gdLst/>
                <a:ahLst/>
                <a:rect l="l" t="t" r="r" b="b"/>
                <a:pathLst>
                  <a:path w="636" h="64">
                    <a:moveTo>
                      <a:pt x="0" y="60"/>
                    </a:moveTo>
                    <a:lnTo>
                      <a:pt x="56" y="0"/>
                    </a:lnTo>
                    <a:lnTo>
                      <a:pt x="112" y="56"/>
                    </a:lnTo>
                    <a:lnTo>
                      <a:pt x="168" y="0"/>
                    </a:lnTo>
                    <a:lnTo>
                      <a:pt x="220" y="52"/>
                    </a:lnTo>
                    <a:lnTo>
                      <a:pt x="268" y="4"/>
                    </a:lnTo>
                    <a:lnTo>
                      <a:pt x="320" y="56"/>
                    </a:lnTo>
                    <a:lnTo>
                      <a:pt x="372" y="4"/>
                    </a:lnTo>
                    <a:lnTo>
                      <a:pt x="424" y="56"/>
                    </a:lnTo>
                    <a:lnTo>
                      <a:pt x="476" y="4"/>
                    </a:lnTo>
                    <a:lnTo>
                      <a:pt x="536" y="64"/>
                    </a:lnTo>
                    <a:lnTo>
                      <a:pt x="588" y="12"/>
                    </a:lnTo>
                    <a:lnTo>
                      <a:pt x="636" y="6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2243160" y="2343240"/>
              <a:ext cx="5122800" cy="2597040"/>
            </a:xfrm>
            <a:custGeom>
              <a:avLst/>
              <a:gdLst/>
              <a:ahLst/>
              <a:rect l="l" t="t" r="r" b="b"/>
              <a:pathLst>
                <a:path w="3227" h="1636">
                  <a:moveTo>
                    <a:pt x="436" y="1636"/>
                  </a:moveTo>
                  <a:lnTo>
                    <a:pt x="0" y="1636"/>
                  </a:lnTo>
                  <a:lnTo>
                    <a:pt x="0" y="0"/>
                  </a:lnTo>
                  <a:lnTo>
                    <a:pt x="3227" y="0"/>
                  </a:lnTo>
                  <a:lnTo>
                    <a:pt x="3227" y="747"/>
                  </a:lnTo>
                  <a:lnTo>
                    <a:pt x="2480" y="747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92400" y="2279520"/>
              <a:ext cx="5224320" cy="2730600"/>
            </a:xfrm>
            <a:custGeom>
              <a:avLst/>
              <a:gdLst/>
              <a:ahLst/>
              <a:rect l="l" t="t" r="r" b="b"/>
              <a:pathLst>
                <a:path w="3291" h="1720">
                  <a:moveTo>
                    <a:pt x="513" y="1719"/>
                  </a:moveTo>
                  <a:lnTo>
                    <a:pt x="0" y="1720"/>
                  </a:lnTo>
                  <a:lnTo>
                    <a:pt x="0" y="0"/>
                  </a:lnTo>
                  <a:lnTo>
                    <a:pt x="3291" y="0"/>
                  </a:lnTo>
                  <a:lnTo>
                    <a:pt x="3291" y="827"/>
                  </a:lnTo>
                  <a:lnTo>
                    <a:pt x="2475" y="827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41640" y="2222640"/>
              <a:ext cx="5332320" cy="2844720"/>
            </a:xfrm>
            <a:custGeom>
              <a:avLst/>
              <a:gdLst/>
              <a:ahLst/>
              <a:rect l="l" t="t" r="r" b="b"/>
              <a:pathLst>
                <a:path w="3359" h="1792">
                  <a:moveTo>
                    <a:pt x="561" y="1791"/>
                  </a:moveTo>
                  <a:lnTo>
                    <a:pt x="0" y="1792"/>
                  </a:lnTo>
                  <a:lnTo>
                    <a:pt x="0" y="0"/>
                  </a:lnTo>
                  <a:lnTo>
                    <a:pt x="3359" y="0"/>
                  </a:lnTo>
                  <a:lnTo>
                    <a:pt x="3359" y="895"/>
                  </a:lnTo>
                  <a:lnTo>
                    <a:pt x="2523" y="895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90880" y="2171880"/>
              <a:ext cx="5446440" cy="2952720"/>
            </a:xfrm>
            <a:custGeom>
              <a:avLst/>
              <a:gdLst/>
              <a:ahLst/>
              <a:rect l="l" t="t" r="r" b="b"/>
              <a:pathLst>
                <a:path w="3431" h="1860">
                  <a:moveTo>
                    <a:pt x="590" y="1859"/>
                  </a:moveTo>
                  <a:lnTo>
                    <a:pt x="0" y="1860"/>
                  </a:lnTo>
                  <a:lnTo>
                    <a:pt x="0" y="0"/>
                  </a:lnTo>
                  <a:lnTo>
                    <a:pt x="3431" y="0"/>
                  </a:lnTo>
                  <a:lnTo>
                    <a:pt x="3431" y="955"/>
                  </a:lnTo>
                  <a:lnTo>
                    <a:pt x="2551" y="955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39760" y="2114640"/>
              <a:ext cx="5554800" cy="3060720"/>
            </a:xfrm>
            <a:custGeom>
              <a:avLst/>
              <a:gdLst/>
              <a:ahLst/>
              <a:rect l="l" t="t" r="r" b="b"/>
              <a:pathLst>
                <a:path w="3499" h="1928">
                  <a:moveTo>
                    <a:pt x="667" y="1927"/>
                  </a:moveTo>
                  <a:lnTo>
                    <a:pt x="0" y="1928"/>
                  </a:lnTo>
                  <a:lnTo>
                    <a:pt x="0" y="0"/>
                  </a:lnTo>
                  <a:lnTo>
                    <a:pt x="3499" y="0"/>
                  </a:lnTo>
                  <a:lnTo>
                    <a:pt x="3499" y="1019"/>
                  </a:lnTo>
                  <a:lnTo>
                    <a:pt x="2611" y="1019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3022560" y="5135400"/>
              <a:ext cx="3054240" cy="1041120"/>
              <a:chOff x="3022560" y="5135400"/>
              <a:chExt cx="3054240" cy="1041120"/>
            </a:xfrm>
          </p:grpSpPr>
          <p:sp>
            <p:nvSpPr>
              <p:cNvPr id="729" name=""/>
              <p:cNvSpPr/>
              <p:nvPr/>
            </p:nvSpPr>
            <p:spPr>
              <a:xfrm>
                <a:off x="3219480" y="5135400"/>
                <a:ext cx="2654280" cy="831600"/>
              </a:xfrm>
              <a:custGeom>
                <a:avLst/>
                <a:gdLst/>
                <a:ahLst/>
                <a:rect l="l" t="t" r="r" b="b"/>
                <a:pathLst>
                  <a:path w="1672" h="524">
                    <a:moveTo>
                      <a:pt x="0" y="28"/>
                    </a:moveTo>
                    <a:lnTo>
                      <a:pt x="0" y="524"/>
                    </a:lnTo>
                    <a:lnTo>
                      <a:pt x="1672" y="524"/>
                    </a:lnTo>
                    <a:lnTo>
                      <a:pt x="167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168720" y="5192280"/>
                <a:ext cx="2749320" cy="831960"/>
              </a:xfrm>
              <a:custGeom>
                <a:avLst/>
                <a:gdLst/>
                <a:ahLst/>
                <a:rect l="l" t="t" r="r" b="b"/>
                <a:pathLst>
                  <a:path w="1672" h="524">
                    <a:moveTo>
                      <a:pt x="0" y="28"/>
                    </a:moveTo>
                    <a:lnTo>
                      <a:pt x="0" y="524"/>
                    </a:lnTo>
                    <a:lnTo>
                      <a:pt x="1672" y="524"/>
                    </a:lnTo>
                    <a:lnTo>
                      <a:pt x="167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124080" y="5179680"/>
                <a:ext cx="2845080" cy="895320"/>
              </a:xfrm>
              <a:custGeom>
                <a:avLst/>
                <a:gdLst/>
                <a:ahLst/>
                <a:rect l="l" t="t" r="r" b="b"/>
                <a:pathLst>
                  <a:path w="1672" h="524">
                    <a:moveTo>
                      <a:pt x="0" y="28"/>
                    </a:moveTo>
                    <a:lnTo>
                      <a:pt x="0" y="524"/>
                    </a:lnTo>
                    <a:lnTo>
                      <a:pt x="1672" y="524"/>
                    </a:lnTo>
                    <a:lnTo>
                      <a:pt x="167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073320" y="5198760"/>
                <a:ext cx="2952720" cy="927000"/>
              </a:xfrm>
              <a:custGeom>
                <a:avLst/>
                <a:gdLst/>
                <a:ahLst/>
                <a:rect l="l" t="t" r="r" b="b"/>
                <a:pathLst>
                  <a:path w="1672" h="524">
                    <a:moveTo>
                      <a:pt x="0" y="28"/>
                    </a:moveTo>
                    <a:lnTo>
                      <a:pt x="0" y="524"/>
                    </a:lnTo>
                    <a:lnTo>
                      <a:pt x="1672" y="524"/>
                    </a:lnTo>
                    <a:lnTo>
                      <a:pt x="167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022560" y="5167080"/>
                <a:ext cx="3054240" cy="1009440"/>
              </a:xfrm>
              <a:custGeom>
                <a:avLst/>
                <a:gdLst/>
                <a:ahLst/>
                <a:rect l="l" t="t" r="r" b="b"/>
                <a:pathLst>
                  <a:path w="1672" h="524">
                    <a:moveTo>
                      <a:pt x="0" y="28"/>
                    </a:moveTo>
                    <a:lnTo>
                      <a:pt x="0" y="524"/>
                    </a:lnTo>
                    <a:lnTo>
                      <a:pt x="1672" y="524"/>
                    </a:lnTo>
                    <a:lnTo>
                      <a:pt x="167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220120" y="386244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Office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96680" y="528804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tockroo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71920" y="3862440"/>
              <a:ext cx="10051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Locker roo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74040" y="5288040"/>
              <a:ext cx="111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Toolroo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62680" y="3862440"/>
              <a:ext cx="1220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hipping and receiv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77160" y="528804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2854440" y="3402000"/>
              <a:ext cx="3371760" cy="1916280"/>
              <a:chOff x="2854440" y="3402000"/>
              <a:chExt cx="3371760" cy="1916280"/>
            </a:xfrm>
          </p:grpSpPr>
          <p:sp>
            <p:nvSpPr>
              <p:cNvPr id="741" name=""/>
              <p:cNvSpPr/>
              <p:nvPr/>
            </p:nvSpPr>
            <p:spPr>
              <a:xfrm>
                <a:off x="2855880" y="3402000"/>
                <a:ext cx="507960" cy="507960"/>
              </a:xfrm>
              <a:prstGeom prst="ellipse">
                <a:avLst/>
              </a:prstGeom>
              <a:solidFill>
                <a:srgbClr val="8154d1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854440" y="4808520"/>
                <a:ext cx="507960" cy="507960"/>
              </a:xfrm>
              <a:prstGeom prst="ellipse">
                <a:avLst/>
              </a:prstGeom>
              <a:solidFill>
                <a:srgbClr val="ffcd70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309920" y="4810320"/>
                <a:ext cx="508320" cy="507960"/>
              </a:xfrm>
              <a:prstGeom prst="ellipse">
                <a:avLst/>
              </a:prstGeom>
              <a:solidFill>
                <a:srgbClr val="f87f66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716440" y="4810320"/>
                <a:ext cx="508320" cy="507960"/>
              </a:xfrm>
              <a:prstGeom prst="ellipse">
                <a:avLst/>
              </a:prstGeom>
              <a:solidFill>
                <a:srgbClr val="b3c4ef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08480" y="3402000"/>
                <a:ext cx="507960" cy="507960"/>
              </a:xfrm>
              <a:prstGeom prst="ellipse">
                <a:avLst/>
              </a:prstGeom>
              <a:solidFill>
                <a:srgbClr val="6876e7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18240" y="3402000"/>
                <a:ext cx="507960" cy="507960"/>
              </a:xfrm>
              <a:prstGeom prst="ellipse">
                <a:avLst/>
              </a:prstGeom>
              <a:solidFill>
                <a:srgbClr val="15a5ad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747" name=""/>
          <p:cNvSpPr/>
          <p:nvPr/>
        </p:nvSpPr>
        <p:spPr>
          <a:xfrm>
            <a:off x="1317240" y="1427040"/>
            <a:ext cx="52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(a) Relationship diagram of original layout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748" name=""/>
          <p:cNvSpPr/>
          <p:nvPr/>
        </p:nvSpPr>
        <p:spPr>
          <a:xfrm>
            <a:off x="387000" y="6110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6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339680" y="4680000"/>
            <a:ext cx="1380600" cy="1554120"/>
            <a:chOff x="7339680" y="4680000"/>
            <a:chExt cx="1380600" cy="1554120"/>
          </a:xfrm>
        </p:grpSpPr>
        <p:sp>
          <p:nvSpPr>
            <p:cNvPr id="750" name=""/>
            <p:cNvSpPr/>
            <p:nvPr/>
          </p:nvSpPr>
          <p:spPr>
            <a:xfrm>
              <a:off x="7339680" y="4680000"/>
              <a:ext cx="837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Key: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8209080" y="4762440"/>
              <a:ext cx="507960" cy="168120"/>
              <a:chOff x="8209080" y="4762440"/>
              <a:chExt cx="507960" cy="168120"/>
            </a:xfrm>
          </p:grpSpPr>
          <p:sp>
            <p:nvSpPr>
              <p:cNvPr id="752" name=""/>
              <p:cNvSpPr/>
              <p:nvPr/>
            </p:nvSpPr>
            <p:spPr>
              <a:xfrm>
                <a:off x="8209080" y="48038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209080" y="484668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09080" y="47624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09080" y="49305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09080" y="488772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8209080" y="5032440"/>
              <a:ext cx="507960" cy="114120"/>
              <a:chOff x="8209080" y="5032440"/>
              <a:chExt cx="507960" cy="114120"/>
            </a:xfrm>
          </p:grpSpPr>
          <p:sp>
            <p:nvSpPr>
              <p:cNvPr id="758" name=""/>
              <p:cNvSpPr/>
              <p:nvPr/>
            </p:nvSpPr>
            <p:spPr>
              <a:xfrm>
                <a:off x="8209080" y="510840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09080" y="50324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209080" y="50702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09080" y="51465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8209080" y="5297400"/>
              <a:ext cx="507960" cy="79560"/>
              <a:chOff x="8209080" y="5297400"/>
              <a:chExt cx="507960" cy="79560"/>
            </a:xfrm>
          </p:grpSpPr>
          <p:sp>
            <p:nvSpPr>
              <p:cNvPr id="763" name=""/>
              <p:cNvSpPr/>
              <p:nvPr/>
            </p:nvSpPr>
            <p:spPr>
              <a:xfrm>
                <a:off x="8209080" y="529740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209080" y="53373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09080" y="53769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8209080" y="5559480"/>
              <a:ext cx="507960" cy="42840"/>
              <a:chOff x="8209080" y="5559480"/>
              <a:chExt cx="507960" cy="42840"/>
            </a:xfrm>
          </p:grpSpPr>
          <p:sp>
            <p:nvSpPr>
              <p:cNvPr id="767" name=""/>
              <p:cNvSpPr/>
              <p:nvPr/>
            </p:nvSpPr>
            <p:spPr>
              <a:xfrm>
                <a:off x="8209080" y="555948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209080" y="560232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8209080" y="5810400"/>
              <a:ext cx="507960" cy="0"/>
            </a:xfrm>
            <a:prstGeom prst="line">
              <a:avLst/>
            </a:prstGeom>
            <a:ln w="1908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04040" y="6013440"/>
              <a:ext cx="516240" cy="109440"/>
            </a:xfrm>
            <a:custGeom>
              <a:avLst/>
              <a:gdLst/>
              <a:ahLst/>
              <a:rect l="l" t="t" r="r" b="b"/>
              <a:pathLst>
                <a:path w="325" h="69">
                  <a:moveTo>
                    <a:pt x="0" y="69"/>
                  </a:moveTo>
                  <a:lnTo>
                    <a:pt x="69" y="0"/>
                  </a:lnTo>
                  <a:lnTo>
                    <a:pt x="133" y="64"/>
                  </a:lnTo>
                  <a:lnTo>
                    <a:pt x="197" y="0"/>
                  </a:lnTo>
                  <a:lnTo>
                    <a:pt x="261" y="64"/>
                  </a:lnTo>
                  <a:lnTo>
                    <a:pt x="325" y="0"/>
                  </a:lnTo>
                </a:path>
              </a:pathLst>
            </a:custGeom>
            <a:noFill/>
            <a:ln w="1908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28640" y="46836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lationship Diagram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7000" y="6110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6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773" name=""/>
          <p:cNvSpPr/>
          <p:nvPr/>
        </p:nvSpPr>
        <p:spPr>
          <a:xfrm>
            <a:off x="1317240" y="142704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(b) Relationship diagram of revised layout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743480" y="2389320"/>
            <a:ext cx="5343120" cy="3403440"/>
            <a:chOff x="1743480" y="2389320"/>
            <a:chExt cx="5343120" cy="3403440"/>
          </a:xfrm>
        </p:grpSpPr>
        <p:sp>
          <p:nvSpPr>
            <p:cNvPr id="775" name=""/>
            <p:cNvSpPr/>
            <p:nvPr/>
          </p:nvSpPr>
          <p:spPr>
            <a:xfrm>
              <a:off x="4560840" y="3170160"/>
              <a:ext cx="11286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1280" y="2389320"/>
              <a:ext cx="2931840" cy="561960"/>
            </a:xfrm>
            <a:custGeom>
              <a:avLst/>
              <a:gdLst/>
              <a:ahLst/>
              <a:rect l="l" t="t" r="r" b="b"/>
              <a:pathLst>
                <a:path w="1787" h="258">
                  <a:moveTo>
                    <a:pt x="0" y="258"/>
                  </a:moveTo>
                  <a:lnTo>
                    <a:pt x="0" y="0"/>
                  </a:lnTo>
                  <a:lnTo>
                    <a:pt x="1787" y="0"/>
                  </a:lnTo>
                  <a:lnTo>
                    <a:pt x="1787" y="258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09960" y="2444760"/>
              <a:ext cx="2813040" cy="546120"/>
            </a:xfrm>
            <a:custGeom>
              <a:avLst/>
              <a:gdLst/>
              <a:ahLst/>
              <a:rect l="l" t="t" r="r" b="b"/>
              <a:pathLst>
                <a:path w="1708" h="248">
                  <a:moveTo>
                    <a:pt x="0" y="248"/>
                  </a:moveTo>
                  <a:lnTo>
                    <a:pt x="0" y="0"/>
                  </a:lnTo>
                  <a:lnTo>
                    <a:pt x="1708" y="0"/>
                  </a:lnTo>
                  <a:lnTo>
                    <a:pt x="1708" y="248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65840" y="3333600"/>
              <a:ext cx="0" cy="109224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4587840" y="4476600"/>
              <a:ext cx="1091880" cy="171360"/>
              <a:chOff x="4587840" y="4476600"/>
              <a:chExt cx="1091880" cy="171360"/>
            </a:xfrm>
          </p:grpSpPr>
          <p:sp>
            <p:nvSpPr>
              <p:cNvPr id="780" name=""/>
              <p:cNvSpPr/>
              <p:nvPr/>
            </p:nvSpPr>
            <p:spPr>
              <a:xfrm>
                <a:off x="4587840" y="464796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587840" y="459072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587840" y="453384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587840" y="4476600"/>
                <a:ext cx="10918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3193920" y="4464000"/>
              <a:ext cx="101628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3920" y="4511520"/>
              <a:ext cx="101628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3100320" y="3214440"/>
              <a:ext cx="1212840" cy="121284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90960" y="3219480"/>
              <a:ext cx="1288800" cy="128916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997360" y="3263760"/>
              <a:ext cx="0" cy="125100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05000" y="4641840"/>
              <a:ext cx="2730600" cy="793800"/>
            </a:xfrm>
            <a:custGeom>
              <a:avLst/>
              <a:gdLst/>
              <a:ahLst/>
              <a:rect l="l" t="t" r="r" b="b"/>
              <a:pathLst>
                <a:path w="1672" h="524">
                  <a:moveTo>
                    <a:pt x="0" y="28"/>
                  </a:moveTo>
                  <a:lnTo>
                    <a:pt x="0" y="524"/>
                  </a:lnTo>
                  <a:lnTo>
                    <a:pt x="1672" y="524"/>
                  </a:lnTo>
                  <a:lnTo>
                    <a:pt x="1672" y="0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99080"/>
              <a:ext cx="2857680" cy="787320"/>
            </a:xfrm>
            <a:custGeom>
              <a:avLst/>
              <a:gdLst/>
              <a:ahLst/>
              <a:rect l="l" t="t" r="r" b="b"/>
              <a:pathLst>
                <a:path w="1672" h="524">
                  <a:moveTo>
                    <a:pt x="0" y="28"/>
                  </a:moveTo>
                  <a:lnTo>
                    <a:pt x="0" y="524"/>
                  </a:lnTo>
                  <a:lnTo>
                    <a:pt x="1672" y="524"/>
                  </a:lnTo>
                  <a:lnTo>
                    <a:pt x="1672" y="0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05640" y="3368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Office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98720" y="259236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tockroo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81680" y="4781520"/>
              <a:ext cx="10047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Locker roo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43480" y="4781520"/>
              <a:ext cx="111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Toolroo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48200" y="3368520"/>
              <a:ext cx="1220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hipping and receiv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18160" y="478152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32560" y="4305240"/>
              <a:ext cx="507960" cy="507960"/>
            </a:xfrm>
            <a:prstGeom prst="ellipse">
              <a:avLst/>
            </a:prstGeom>
            <a:solidFill>
              <a:srgbClr val="6876e7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4327560" y="3313080"/>
              <a:ext cx="214200" cy="1042920"/>
              <a:chOff x="4327560" y="3313080"/>
              <a:chExt cx="214200" cy="1042920"/>
            </a:xfrm>
          </p:grpSpPr>
          <p:sp>
            <p:nvSpPr>
              <p:cNvPr id="799" name=""/>
              <p:cNvSpPr/>
              <p:nvPr/>
            </p:nvSpPr>
            <p:spPr>
              <a:xfrm>
                <a:off x="4379760" y="3313080"/>
                <a:ext cx="0" cy="104292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33760" y="3313080"/>
                <a:ext cx="0" cy="104292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487760" y="3313080"/>
                <a:ext cx="0" cy="104292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41760" y="3313080"/>
                <a:ext cx="0" cy="104292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327560" y="3313080"/>
                <a:ext cx="0" cy="104292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 flipV="1">
              <a:off x="3156120" y="3230280"/>
              <a:ext cx="1212840" cy="121284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11400" y="3211560"/>
              <a:ext cx="1289160" cy="128916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30640" y="4560840"/>
              <a:ext cx="101592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14800" y="4614840"/>
              <a:ext cx="101592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9760" y="4662360"/>
              <a:ext cx="101628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16280" y="3274920"/>
              <a:ext cx="112896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606920" y="3224160"/>
              <a:ext cx="11286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613400" y="3117960"/>
              <a:ext cx="11286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92520" y="3063960"/>
              <a:ext cx="112896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4562640" y="3328920"/>
              <a:ext cx="1223640" cy="122400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491000" y="3254400"/>
              <a:ext cx="1224000" cy="122400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522680" y="3300480"/>
              <a:ext cx="1224000" cy="122400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62240" y="3157560"/>
              <a:ext cx="11430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89360" y="3144960"/>
              <a:ext cx="4197240" cy="2647800"/>
            </a:xfrm>
            <a:custGeom>
              <a:avLst/>
              <a:gdLst/>
              <a:ahLst/>
              <a:rect l="l" t="t" r="r" b="b"/>
              <a:pathLst>
                <a:path w="2644" h="1668">
                  <a:moveTo>
                    <a:pt x="0" y="960"/>
                  </a:moveTo>
                  <a:lnTo>
                    <a:pt x="0" y="1668"/>
                  </a:lnTo>
                  <a:lnTo>
                    <a:pt x="2644" y="1668"/>
                  </a:lnTo>
                  <a:lnTo>
                    <a:pt x="2644" y="0"/>
                  </a:lnTo>
                  <a:lnTo>
                    <a:pt x="1964" y="0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46240" y="3201840"/>
              <a:ext cx="4083120" cy="2533680"/>
            </a:xfrm>
            <a:custGeom>
              <a:avLst/>
              <a:gdLst/>
              <a:ahLst/>
              <a:rect l="l" t="t" r="r" b="b"/>
              <a:pathLst>
                <a:path w="2572" h="1596">
                  <a:moveTo>
                    <a:pt x="0" y="888"/>
                  </a:moveTo>
                  <a:lnTo>
                    <a:pt x="0" y="1596"/>
                  </a:lnTo>
                  <a:lnTo>
                    <a:pt x="2572" y="1596"/>
                  </a:lnTo>
                  <a:lnTo>
                    <a:pt x="2572" y="0"/>
                  </a:lnTo>
                  <a:lnTo>
                    <a:pt x="1908" y="0"/>
                  </a:lnTo>
                </a:path>
              </a:pathLst>
            </a:custGeom>
            <a:noFill/>
            <a:ln w="284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41760" y="2908440"/>
              <a:ext cx="507960" cy="507960"/>
            </a:xfrm>
            <a:prstGeom prst="ellipse">
              <a:avLst/>
            </a:prstGeom>
            <a:solidFill>
              <a:srgbClr val="8154d1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79960" y="2932200"/>
              <a:ext cx="507960" cy="507960"/>
            </a:xfrm>
            <a:prstGeom prst="ellipse">
              <a:avLst/>
            </a:prstGeom>
            <a:solidFill>
              <a:srgbClr val="ffcd70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603760" y="2908440"/>
              <a:ext cx="507960" cy="507960"/>
            </a:xfrm>
            <a:prstGeom prst="ellipse">
              <a:avLst/>
            </a:prstGeom>
            <a:solidFill>
              <a:srgbClr val="15a5ad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76720" y="4316400"/>
              <a:ext cx="507960" cy="507960"/>
            </a:xfrm>
            <a:prstGeom prst="ellipse">
              <a:avLst/>
            </a:prstGeom>
            <a:solidFill>
              <a:srgbClr val="b3c4ef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43200" y="4316400"/>
              <a:ext cx="507960" cy="507960"/>
            </a:xfrm>
            <a:prstGeom prst="ellipse">
              <a:avLst/>
            </a:prstGeom>
            <a:solidFill>
              <a:srgbClr val="f87f66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7339680" y="4680000"/>
            <a:ext cx="1380600" cy="1554120"/>
            <a:chOff x="7339680" y="4680000"/>
            <a:chExt cx="1380600" cy="1554120"/>
          </a:xfrm>
        </p:grpSpPr>
        <p:sp>
          <p:nvSpPr>
            <p:cNvPr id="825" name=""/>
            <p:cNvSpPr/>
            <p:nvPr/>
          </p:nvSpPr>
          <p:spPr>
            <a:xfrm>
              <a:off x="7339680" y="4680000"/>
              <a:ext cx="837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Key: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8209080" y="4762440"/>
              <a:ext cx="507960" cy="168120"/>
              <a:chOff x="8209080" y="4762440"/>
              <a:chExt cx="507960" cy="168120"/>
            </a:xfrm>
          </p:grpSpPr>
          <p:sp>
            <p:nvSpPr>
              <p:cNvPr id="827" name=""/>
              <p:cNvSpPr/>
              <p:nvPr/>
            </p:nvSpPr>
            <p:spPr>
              <a:xfrm>
                <a:off x="8209080" y="48038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209080" y="484668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209080" y="47624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209080" y="49305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209080" y="488772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8209080" y="5032440"/>
              <a:ext cx="507960" cy="114120"/>
              <a:chOff x="8209080" y="5032440"/>
              <a:chExt cx="507960" cy="114120"/>
            </a:xfrm>
          </p:grpSpPr>
          <p:sp>
            <p:nvSpPr>
              <p:cNvPr id="833" name=""/>
              <p:cNvSpPr/>
              <p:nvPr/>
            </p:nvSpPr>
            <p:spPr>
              <a:xfrm>
                <a:off x="8209080" y="510840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209080" y="50324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209080" y="507024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209080" y="51465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8209080" y="5297400"/>
              <a:ext cx="507960" cy="79560"/>
              <a:chOff x="8209080" y="5297400"/>
              <a:chExt cx="507960" cy="79560"/>
            </a:xfrm>
          </p:grpSpPr>
          <p:sp>
            <p:nvSpPr>
              <p:cNvPr id="838" name=""/>
              <p:cNvSpPr/>
              <p:nvPr/>
            </p:nvSpPr>
            <p:spPr>
              <a:xfrm>
                <a:off x="8209080" y="529740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209080" y="53373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209080" y="537696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8209080" y="5559480"/>
              <a:ext cx="507960" cy="42840"/>
              <a:chOff x="8209080" y="5559480"/>
              <a:chExt cx="507960" cy="42840"/>
            </a:xfrm>
          </p:grpSpPr>
          <p:sp>
            <p:nvSpPr>
              <p:cNvPr id="842" name=""/>
              <p:cNvSpPr/>
              <p:nvPr/>
            </p:nvSpPr>
            <p:spPr>
              <a:xfrm>
                <a:off x="8209080" y="555948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209080" y="5602320"/>
                <a:ext cx="507960" cy="0"/>
              </a:xfrm>
              <a:prstGeom prst="line">
                <a:avLst/>
              </a:prstGeom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8209080" y="5810400"/>
              <a:ext cx="507960" cy="0"/>
            </a:xfrm>
            <a:prstGeom prst="line">
              <a:avLst/>
            </a:prstGeom>
            <a:ln w="1908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04040" y="6013440"/>
              <a:ext cx="516240" cy="109440"/>
            </a:xfrm>
            <a:custGeom>
              <a:avLst/>
              <a:gdLst/>
              <a:ahLst/>
              <a:rect l="l" t="t" r="r" b="b"/>
              <a:pathLst>
                <a:path w="325" h="69">
                  <a:moveTo>
                    <a:pt x="0" y="69"/>
                  </a:moveTo>
                  <a:lnTo>
                    <a:pt x="69" y="0"/>
                  </a:lnTo>
                  <a:lnTo>
                    <a:pt x="133" y="64"/>
                  </a:lnTo>
                  <a:lnTo>
                    <a:pt x="197" y="0"/>
                  </a:lnTo>
                  <a:lnTo>
                    <a:pt x="261" y="64"/>
                  </a:lnTo>
                  <a:lnTo>
                    <a:pt x="325" y="0"/>
                  </a:lnTo>
                </a:path>
              </a:pathLst>
            </a:custGeom>
            <a:noFill/>
            <a:ln w="1908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omputerized Layout Solution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09440" y="2305080"/>
            <a:ext cx="43988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CRAFT - block diagramming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CORELAP - relationship diagramming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Simulation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986360" y="2593800"/>
            <a:ext cx="3656160" cy="325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6246720" y="1913040"/>
            <a:ext cx="2239920" cy="226368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5736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Service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655280"/>
            <a:ext cx="8458200" cy="46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sually process layouts due to customers need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Minimize flow of customers or paperwork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tailing tries to maximize customer exposure to produc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mputer programs consider shelf space, demand, profitability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ayouts must be aesthetically pleasing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17240" y="706320"/>
            <a:ext cx="8281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Designing Product Layout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duct layouts or assembly lin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evelop precedence diagram of task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Jobs divided into work elemen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ssign work elements to workstation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ry to balance the amount work of each workstation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71320" y="1839960"/>
            <a:ext cx="54450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ecedence diagram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Network showing order of tasks and restrictions on their performanc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ycle tim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aximum time product spends at any one workstation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934240" y="2093760"/>
            <a:ext cx="2574720" cy="294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71320" y="1839960"/>
            <a:ext cx="54450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ecedence diagram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Network showing order of tasks and restrictions on their performanc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ycle tim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aximum time product spends at any one workstation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5934240" y="2093760"/>
            <a:ext cx="2574720" cy="29433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1835280" y="1693800"/>
            <a:ext cx="6137280" cy="4416480"/>
          </a:xfrm>
          <a:prstGeom prst="rect">
            <a:avLst/>
          </a:prstGeom>
          <a:solidFill>
            <a:srgbClr val="ffcd70"/>
          </a:solidFill>
          <a:ln w="1908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513880" y="2692440"/>
            <a:ext cx="4781880" cy="971640"/>
            <a:chOff x="2513880" y="2692440"/>
            <a:chExt cx="4781880" cy="971640"/>
          </a:xfrm>
        </p:grpSpPr>
        <p:sp>
          <p:nvSpPr>
            <p:cNvPr id="862" name=""/>
            <p:cNvSpPr/>
            <p:nvPr/>
          </p:nvSpPr>
          <p:spPr>
            <a:xfrm>
              <a:off x="2513880" y="2935080"/>
              <a:ext cx="9838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222222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222222"/>
                  </a:solidFill>
                  <a:latin typeface="Times New Roman"/>
                </a:rPr>
                <a:t>d</a:t>
              </a:r>
              <a:r>
                <a:rPr b="1" i="1" lang="en-US" sz="3200" spc="-1" strike="noStrike">
                  <a:solidFill>
                    <a:srgbClr val="222222"/>
                  </a:solidFill>
                  <a:latin typeface="Arial"/>
                </a:rPr>
                <a:t> = </a:t>
              </a:r>
              <a:endParaRPr b="0" lang="en-US" sz="3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3437640" y="2692440"/>
              <a:ext cx="3858120" cy="971640"/>
              <a:chOff x="3437640" y="2692440"/>
              <a:chExt cx="3858120" cy="971640"/>
            </a:xfrm>
          </p:grpSpPr>
          <p:sp>
            <p:nvSpPr>
              <p:cNvPr id="864" name=""/>
              <p:cNvSpPr/>
              <p:nvPr/>
            </p:nvSpPr>
            <p:spPr>
              <a:xfrm>
                <a:off x="3437640" y="2692440"/>
                <a:ext cx="3858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production time available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desired units of output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41600" y="3219480"/>
                <a:ext cx="3838680" cy="0"/>
              </a:xfrm>
              <a:prstGeom prst="line">
                <a:avLst/>
              </a:prstGeom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866" name=""/>
          <p:cNvSpPr/>
          <p:nvPr/>
        </p:nvSpPr>
        <p:spPr>
          <a:xfrm>
            <a:off x="3130200" y="195120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22"/>
                </a:solidFill>
                <a:latin typeface="Arial"/>
              </a:rPr>
              <a:t>Cycle time example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2242440" y="3774960"/>
            <a:ext cx="5288760" cy="971640"/>
            <a:chOff x="2242440" y="3774960"/>
            <a:chExt cx="5288760" cy="971640"/>
          </a:xfrm>
        </p:grpSpPr>
        <p:sp>
          <p:nvSpPr>
            <p:cNvPr id="868" name=""/>
            <p:cNvSpPr/>
            <p:nvPr/>
          </p:nvSpPr>
          <p:spPr>
            <a:xfrm>
              <a:off x="2242440" y="4017960"/>
              <a:ext cx="9838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222222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222222"/>
                  </a:solidFill>
                  <a:latin typeface="Times New Roman"/>
                </a:rPr>
                <a:t>d</a:t>
              </a:r>
              <a:r>
                <a:rPr b="1" i="1" lang="en-US" sz="3200" spc="-1" strike="noStrike">
                  <a:solidFill>
                    <a:srgbClr val="222222"/>
                  </a:solidFill>
                  <a:latin typeface="Arial"/>
                </a:rPr>
                <a:t> = </a:t>
              </a:r>
              <a:endParaRPr b="0" lang="en-US" sz="3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80960" y="3774960"/>
              <a:ext cx="4350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(8 hours x 60 minutes / hour)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(120 units)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70160" y="4302000"/>
              <a:ext cx="424836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3081600" y="4773600"/>
            <a:ext cx="3772800" cy="971640"/>
            <a:chOff x="3081600" y="4773600"/>
            <a:chExt cx="3772800" cy="971640"/>
          </a:xfrm>
        </p:grpSpPr>
        <p:sp>
          <p:nvSpPr>
            <p:cNvPr id="872" name=""/>
            <p:cNvSpPr/>
            <p:nvPr/>
          </p:nvSpPr>
          <p:spPr>
            <a:xfrm>
              <a:off x="3081600" y="4987800"/>
              <a:ext cx="37728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222222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222222"/>
                  </a:solidFill>
                  <a:latin typeface="Times New Roman"/>
                </a:rPr>
                <a:t>d</a:t>
              </a:r>
              <a:r>
                <a:rPr b="1" i="1" lang="en-US" sz="32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222222"/>
                  </a:solidFill>
                  <a:latin typeface="Arial"/>
                </a:rPr>
                <a:t>=          = 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4 minute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043160" y="4773600"/>
              <a:ext cx="735120" cy="971640"/>
              <a:chOff x="4043160" y="4773600"/>
              <a:chExt cx="735120" cy="971640"/>
            </a:xfrm>
          </p:grpSpPr>
          <p:sp>
            <p:nvSpPr>
              <p:cNvPr id="874" name=""/>
              <p:cNvSpPr/>
              <p:nvPr/>
            </p:nvSpPr>
            <p:spPr>
              <a:xfrm>
                <a:off x="4069440" y="4773600"/>
                <a:ext cx="6883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480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120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43160" y="5271840"/>
                <a:ext cx="735120" cy="0"/>
              </a:xfrm>
              <a:prstGeom prst="line">
                <a:avLst/>
              </a:prstGeom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58800" y="566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low Time vs Cycle Tim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58800" y="165708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ycle time = max time spent at any station 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low time = time to complete all station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cess Layou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Machines grouped by process they perform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duct Layou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Linear arrangement of workstations to produce a specific product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ixed Position Layou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Used in projects where the product cannot be moved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Basic Types of Layout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58800" y="566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low Time vs Cycle Tim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58800" y="165708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ycle time = max time spent at any station 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low time = time to complete all station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876320" y="3968640"/>
            <a:ext cx="5510160" cy="1077840"/>
            <a:chOff x="1876320" y="3968640"/>
            <a:chExt cx="5510160" cy="1077840"/>
          </a:xfrm>
        </p:grpSpPr>
        <p:grpSp>
          <p:nvGrpSpPr>
            <p:cNvPr id="881" name=""/>
            <p:cNvGrpSpPr/>
            <p:nvPr/>
          </p:nvGrpSpPr>
          <p:grpSpPr>
            <a:xfrm>
              <a:off x="1876320" y="3968640"/>
              <a:ext cx="5510160" cy="635040"/>
              <a:chOff x="1876320" y="3968640"/>
              <a:chExt cx="5510160" cy="635040"/>
            </a:xfrm>
          </p:grpSpPr>
          <p:sp>
            <p:nvSpPr>
              <p:cNvPr id="882" name=""/>
              <p:cNvSpPr/>
              <p:nvPr/>
            </p:nvSpPr>
            <p:spPr>
              <a:xfrm>
                <a:off x="1876320" y="4286160"/>
                <a:ext cx="8542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518160" y="4286160"/>
                <a:ext cx="8683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71880" y="4286160"/>
                <a:ext cx="103824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254400" y="4286160"/>
                <a:ext cx="10522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886" name=""/>
              <p:cNvGrpSpPr/>
              <p:nvPr/>
            </p:nvGrpSpPr>
            <p:grpSpPr>
              <a:xfrm>
                <a:off x="2689200" y="3968640"/>
                <a:ext cx="635040" cy="635040"/>
                <a:chOff x="2689200" y="3968640"/>
                <a:chExt cx="635040" cy="63504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2689200" y="3968640"/>
                  <a:ext cx="635040" cy="63504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830680" y="4059000"/>
                  <a:ext cx="3506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321080" y="3968640"/>
                <a:ext cx="635040" cy="635040"/>
                <a:chOff x="4321080" y="3968640"/>
                <a:chExt cx="635040" cy="63504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4321080" y="3968640"/>
                  <a:ext cx="635040" cy="63504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464000" y="4059000"/>
                  <a:ext cx="3506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938920" y="3968640"/>
                <a:ext cx="635040" cy="635040"/>
                <a:chOff x="5938920" y="3968640"/>
                <a:chExt cx="635040" cy="6350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938920" y="3968640"/>
                  <a:ext cx="635040" cy="63504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080400" y="4059000"/>
                  <a:ext cx="3506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895" name=""/>
            <p:cNvSpPr/>
            <p:nvPr/>
          </p:nvSpPr>
          <p:spPr>
            <a:xfrm>
              <a:off x="2311200" y="465264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4 minute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54240" y="465264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4 minute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72080" y="465264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4 minute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844280" y="5365800"/>
            <a:ext cx="5576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Flow time = 4 + 4 + 4 = 12 minute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Cycle time = max (4, 4, 4) = 4 minute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8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fficiency of  Lin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683000" y="1631880"/>
            <a:ext cx="5821200" cy="2593080"/>
            <a:chOff x="1683000" y="1631880"/>
            <a:chExt cx="5821200" cy="2593080"/>
          </a:xfrm>
        </p:grpSpPr>
        <p:grpSp>
          <p:nvGrpSpPr>
            <p:cNvPr id="901" name=""/>
            <p:cNvGrpSpPr/>
            <p:nvPr/>
          </p:nvGrpSpPr>
          <p:grpSpPr>
            <a:xfrm>
              <a:off x="1683000" y="2141640"/>
              <a:ext cx="1732680" cy="2083320"/>
              <a:chOff x="1683000" y="2141640"/>
              <a:chExt cx="1732680" cy="20833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2579040" y="2141640"/>
                <a:ext cx="836640" cy="1724040"/>
                <a:chOff x="2579040" y="2141640"/>
                <a:chExt cx="836640" cy="1724040"/>
              </a:xfrm>
            </p:grpSpPr>
            <p:grpSp>
              <p:nvGrpSpPr>
                <p:cNvPr id="903" name=""/>
                <p:cNvGrpSpPr/>
                <p:nvPr/>
              </p:nvGrpSpPr>
              <p:grpSpPr>
                <a:xfrm>
                  <a:off x="2579040" y="2141640"/>
                  <a:ext cx="604440" cy="1724040"/>
                  <a:chOff x="2579040" y="2141640"/>
                  <a:chExt cx="604440" cy="172404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>
                    <a:off x="2579040" y="2779560"/>
                    <a:ext cx="60444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800" spc="-1" strike="noStrike">
                        <a:solidFill>
                          <a:srgbClr val="eeeeee"/>
                        </a:solidFill>
                        <a:latin typeface="Symbol"/>
                        <a:ea typeface="Symbol"/>
                      </a:rPr>
                      <a:t></a:t>
                    </a:r>
                    <a:endParaRPr b="0" lang="en-US" sz="4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86960" y="2141640"/>
                    <a:ext cx="581760" cy="17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33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eeeeee"/>
                        </a:solidFill>
                        <a:latin typeface="Times New Roman"/>
                      </a:rPr>
                      <a:t>i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  <a:p>
                    <a:pPr algn="ctr">
                      <a:lnSpc>
                        <a:spcPct val="33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eeeeee"/>
                        </a:solidFill>
                        <a:latin typeface="Times New Roman"/>
                      </a:rPr>
                      <a:t>i</a:t>
                    </a:r>
                    <a:r>
                      <a:rPr b="1" i="1" lang="en-US" sz="1600" spc="-1" strike="noStrike">
                        <a:solidFill>
                          <a:srgbClr val="eeeeee"/>
                        </a:solidFill>
                        <a:latin typeface="Arial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eeeeee"/>
                        </a:solidFill>
                        <a:latin typeface="Arial"/>
                      </a:rPr>
                      <a:t>= 1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906" name=""/>
                <p:cNvSpPr/>
                <p:nvPr/>
              </p:nvSpPr>
              <p:spPr>
                <a:xfrm>
                  <a:off x="3101040" y="2941560"/>
                  <a:ext cx="314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eeeeee"/>
                      </a:solidFill>
                      <a:latin typeface="Times New Roman"/>
                    </a:rPr>
                    <a:t>t</a:t>
                  </a:r>
                  <a:r>
                    <a:rPr b="1" i="1" lang="en-US" sz="2400" spc="-1" strike="noStrike" baseline="-25000">
                      <a:solidFill>
                        <a:srgbClr val="eeeeee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907" name=""/>
              <p:cNvSpPr/>
              <p:nvPr/>
            </p:nvSpPr>
            <p:spPr>
              <a:xfrm>
                <a:off x="2583360" y="3714840"/>
                <a:ext cx="641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eeeee"/>
                    </a:solidFill>
                    <a:latin typeface="Times New Roman"/>
                  </a:rPr>
                  <a:t>nC</a:t>
                </a:r>
                <a:r>
                  <a:rPr b="1" i="1" lang="en-US" sz="2400" spc="-1" strike="noStrike" baseline="-25000">
                    <a:solidFill>
                      <a:srgbClr val="eeeeee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454120" y="3746520"/>
                <a:ext cx="91620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683000" y="3495600"/>
                <a:ext cx="72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E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 =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5028120" y="2141640"/>
              <a:ext cx="1742040" cy="2083320"/>
              <a:chOff x="5028120" y="2141640"/>
              <a:chExt cx="1742040" cy="208332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5933520" y="2141640"/>
                <a:ext cx="836640" cy="1724040"/>
                <a:chOff x="5933520" y="2141640"/>
                <a:chExt cx="836640" cy="1724040"/>
              </a:xfrm>
            </p:grpSpPr>
            <p:grpSp>
              <p:nvGrpSpPr>
                <p:cNvPr id="912" name=""/>
                <p:cNvGrpSpPr/>
                <p:nvPr/>
              </p:nvGrpSpPr>
              <p:grpSpPr>
                <a:xfrm>
                  <a:off x="5933520" y="2141640"/>
                  <a:ext cx="604440" cy="1724040"/>
                  <a:chOff x="5933520" y="2141640"/>
                  <a:chExt cx="604440" cy="172404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5933520" y="2779560"/>
                    <a:ext cx="60444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800" spc="-1" strike="noStrike">
                        <a:solidFill>
                          <a:srgbClr val="eeeeee"/>
                        </a:solidFill>
                        <a:latin typeface="Symbol"/>
                        <a:ea typeface="Symbol"/>
                      </a:rPr>
                      <a:t></a:t>
                    </a:r>
                    <a:endParaRPr b="0" lang="en-US" sz="4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5941440" y="2141640"/>
                    <a:ext cx="581760" cy="17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33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eeeeee"/>
                        </a:solidFill>
                        <a:latin typeface="Times New Roman"/>
                      </a:rPr>
                      <a:t>i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  <a:p>
                    <a:pPr algn="ctr">
                      <a:lnSpc>
                        <a:spcPct val="33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eeeeee"/>
                        </a:solidFill>
                        <a:latin typeface="Times New Roman"/>
                      </a:rPr>
                      <a:t>i</a:t>
                    </a:r>
                    <a:r>
                      <a:rPr b="1" i="1" lang="en-US" sz="1600" spc="-1" strike="noStrike">
                        <a:solidFill>
                          <a:srgbClr val="eeeeee"/>
                        </a:solidFill>
                        <a:latin typeface="Arial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eeeeee"/>
                        </a:solidFill>
                        <a:latin typeface="Arial"/>
                      </a:rPr>
                      <a:t>= 1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915" name=""/>
                <p:cNvSpPr/>
                <p:nvPr/>
              </p:nvSpPr>
              <p:spPr>
                <a:xfrm>
                  <a:off x="6455520" y="2941560"/>
                  <a:ext cx="314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eeeeee"/>
                      </a:solidFill>
                      <a:latin typeface="Times New Roman"/>
                    </a:rPr>
                    <a:t>t</a:t>
                  </a:r>
                  <a:r>
                    <a:rPr b="1" i="1" lang="en-US" sz="2400" spc="-1" strike="noStrike" baseline="-25000">
                      <a:solidFill>
                        <a:srgbClr val="eeeeee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916" name=""/>
              <p:cNvSpPr/>
              <p:nvPr/>
            </p:nvSpPr>
            <p:spPr>
              <a:xfrm>
                <a:off x="6021720" y="37148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eeeeee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08600" y="3746520"/>
                <a:ext cx="91620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28120" y="3495600"/>
                <a:ext cx="74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 =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1911240" y="181440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Efficiency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87840" y="1631880"/>
              <a:ext cx="291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Minimum number of workstation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330560" y="44146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922" name=""/>
          <p:cNvSpPr/>
          <p:nvPr/>
        </p:nvSpPr>
        <p:spPr>
          <a:xfrm>
            <a:off x="2315880" y="4789440"/>
            <a:ext cx="45709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8088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= completion time for element </a:t>
            </a: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= number of work elements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= actual number of workstations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= actual cycle time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= desired cycle time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5000760" y="1846800"/>
            <a:ext cx="4356000" cy="4371840"/>
            <a:chOff x="5000760" y="1846800"/>
            <a:chExt cx="4356000" cy="4371840"/>
          </a:xfrm>
        </p:grpSpPr>
        <p:sp>
          <p:nvSpPr>
            <p:cNvPr id="924" name=""/>
            <p:cNvSpPr/>
            <p:nvPr/>
          </p:nvSpPr>
          <p:spPr>
            <a:xfrm flipH="1" rot="2725200">
              <a:off x="5252400" y="2873160"/>
              <a:ext cx="3852720" cy="2319120"/>
            </a:xfrm>
            <a:custGeom>
              <a:avLst/>
              <a:gdLst/>
              <a:ahLst/>
              <a:rect l="l" t="t" r="r" b="b"/>
              <a:pathLst>
                <a:path w="3217" h="1265">
                  <a:moveTo>
                    <a:pt x="3217" y="595"/>
                  </a:moveTo>
                  <a:lnTo>
                    <a:pt x="2222" y="28"/>
                  </a:lnTo>
                  <a:lnTo>
                    <a:pt x="2220" y="26"/>
                  </a:lnTo>
                  <a:lnTo>
                    <a:pt x="2210" y="22"/>
                  </a:lnTo>
                  <a:lnTo>
                    <a:pt x="2196" y="16"/>
                  </a:lnTo>
                  <a:lnTo>
                    <a:pt x="2178" y="10"/>
                  </a:lnTo>
                  <a:lnTo>
                    <a:pt x="2155" y="4"/>
                  </a:lnTo>
                  <a:lnTo>
                    <a:pt x="2129" y="0"/>
                  </a:lnTo>
                  <a:lnTo>
                    <a:pt x="2097" y="0"/>
                  </a:lnTo>
                  <a:lnTo>
                    <a:pt x="2064" y="2"/>
                  </a:lnTo>
                  <a:lnTo>
                    <a:pt x="2052" y="4"/>
                  </a:lnTo>
                  <a:lnTo>
                    <a:pt x="2028" y="6"/>
                  </a:lnTo>
                  <a:lnTo>
                    <a:pt x="1996" y="10"/>
                  </a:lnTo>
                  <a:lnTo>
                    <a:pt x="1957" y="16"/>
                  </a:lnTo>
                  <a:lnTo>
                    <a:pt x="1909" y="22"/>
                  </a:lnTo>
                  <a:lnTo>
                    <a:pt x="1854" y="30"/>
                  </a:lnTo>
                  <a:lnTo>
                    <a:pt x="1793" y="37"/>
                  </a:lnTo>
                  <a:lnTo>
                    <a:pt x="1725" y="47"/>
                  </a:lnTo>
                  <a:lnTo>
                    <a:pt x="1652" y="57"/>
                  </a:lnTo>
                  <a:lnTo>
                    <a:pt x="1575" y="67"/>
                  </a:lnTo>
                  <a:lnTo>
                    <a:pt x="1494" y="79"/>
                  </a:lnTo>
                  <a:lnTo>
                    <a:pt x="1409" y="89"/>
                  </a:lnTo>
                  <a:lnTo>
                    <a:pt x="1324" y="101"/>
                  </a:lnTo>
                  <a:lnTo>
                    <a:pt x="1235" y="113"/>
                  </a:lnTo>
                  <a:lnTo>
                    <a:pt x="1146" y="124"/>
                  </a:lnTo>
                  <a:lnTo>
                    <a:pt x="1057" y="136"/>
                  </a:lnTo>
                  <a:lnTo>
                    <a:pt x="966" y="148"/>
                  </a:lnTo>
                  <a:lnTo>
                    <a:pt x="876" y="162"/>
                  </a:lnTo>
                  <a:lnTo>
                    <a:pt x="789" y="172"/>
                  </a:lnTo>
                  <a:lnTo>
                    <a:pt x="704" y="184"/>
                  </a:lnTo>
                  <a:lnTo>
                    <a:pt x="623" y="196"/>
                  </a:lnTo>
                  <a:lnTo>
                    <a:pt x="544" y="206"/>
                  </a:lnTo>
                  <a:lnTo>
                    <a:pt x="471" y="215"/>
                  </a:lnTo>
                  <a:lnTo>
                    <a:pt x="402" y="225"/>
                  </a:lnTo>
                  <a:lnTo>
                    <a:pt x="338" y="233"/>
                  </a:lnTo>
                  <a:lnTo>
                    <a:pt x="281" y="241"/>
                  </a:lnTo>
                  <a:lnTo>
                    <a:pt x="230" y="249"/>
                  </a:lnTo>
                  <a:lnTo>
                    <a:pt x="188" y="253"/>
                  </a:lnTo>
                  <a:lnTo>
                    <a:pt x="152" y="259"/>
                  </a:lnTo>
                  <a:lnTo>
                    <a:pt x="129" y="263"/>
                  </a:lnTo>
                  <a:lnTo>
                    <a:pt x="113" y="265"/>
                  </a:lnTo>
                  <a:lnTo>
                    <a:pt x="107" y="265"/>
                  </a:lnTo>
                  <a:lnTo>
                    <a:pt x="103" y="265"/>
                  </a:lnTo>
                  <a:lnTo>
                    <a:pt x="91" y="267"/>
                  </a:lnTo>
                  <a:lnTo>
                    <a:pt x="73" y="271"/>
                  </a:lnTo>
                  <a:lnTo>
                    <a:pt x="53" y="277"/>
                  </a:lnTo>
                  <a:lnTo>
                    <a:pt x="34" y="285"/>
                  </a:lnTo>
                  <a:lnTo>
                    <a:pt x="16" y="297"/>
                  </a:lnTo>
                  <a:lnTo>
                    <a:pt x="4" y="314"/>
                  </a:lnTo>
                  <a:lnTo>
                    <a:pt x="0" y="334"/>
                  </a:lnTo>
                  <a:lnTo>
                    <a:pt x="0" y="421"/>
                  </a:lnTo>
                  <a:lnTo>
                    <a:pt x="1007" y="1265"/>
                  </a:lnTo>
                  <a:lnTo>
                    <a:pt x="3217" y="714"/>
                  </a:lnTo>
                  <a:lnTo>
                    <a:pt x="3217" y="696"/>
                  </a:lnTo>
                  <a:lnTo>
                    <a:pt x="3203" y="696"/>
                  </a:lnTo>
                  <a:lnTo>
                    <a:pt x="3203" y="615"/>
                  </a:lnTo>
                  <a:lnTo>
                    <a:pt x="3217" y="615"/>
                  </a:lnTo>
                  <a:lnTo>
                    <a:pt x="3217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2725200">
              <a:off x="5817240" y="2682720"/>
              <a:ext cx="698040" cy="381240"/>
            </a:xfrm>
            <a:custGeom>
              <a:avLst/>
              <a:gdLst/>
              <a:ahLst/>
              <a:rect l="l" t="t" r="r" b="b"/>
              <a:pathLst>
                <a:path w="583" h="208">
                  <a:moveTo>
                    <a:pt x="209" y="208"/>
                  </a:moveTo>
                  <a:lnTo>
                    <a:pt x="0" y="80"/>
                  </a:lnTo>
                  <a:lnTo>
                    <a:pt x="362" y="0"/>
                  </a:lnTo>
                  <a:lnTo>
                    <a:pt x="583" y="127"/>
                  </a:lnTo>
                  <a:lnTo>
                    <a:pt x="209" y="208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2725200">
              <a:off x="6330600" y="2467440"/>
              <a:ext cx="1348200" cy="942120"/>
            </a:xfrm>
            <a:custGeom>
              <a:avLst/>
              <a:gdLst/>
              <a:ahLst/>
              <a:rect l="l" t="t" r="r" b="b"/>
              <a:pathLst>
                <a:path w="1126" h="514">
                  <a:moveTo>
                    <a:pt x="770" y="514"/>
                  </a:moveTo>
                  <a:lnTo>
                    <a:pt x="0" y="35"/>
                  </a:lnTo>
                  <a:lnTo>
                    <a:pt x="186" y="10"/>
                  </a:lnTo>
                  <a:lnTo>
                    <a:pt x="204" y="8"/>
                  </a:lnTo>
                  <a:lnTo>
                    <a:pt x="228" y="4"/>
                  </a:lnTo>
                  <a:lnTo>
                    <a:pt x="254" y="2"/>
                  </a:lnTo>
                  <a:lnTo>
                    <a:pt x="283" y="0"/>
                  </a:lnTo>
                  <a:lnTo>
                    <a:pt x="313" y="2"/>
                  </a:lnTo>
                  <a:lnTo>
                    <a:pt x="343" y="4"/>
                  </a:lnTo>
                  <a:lnTo>
                    <a:pt x="370" y="11"/>
                  </a:lnTo>
                  <a:lnTo>
                    <a:pt x="396" y="21"/>
                  </a:lnTo>
                  <a:lnTo>
                    <a:pt x="1126" y="435"/>
                  </a:lnTo>
                  <a:lnTo>
                    <a:pt x="770" y="514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2725200">
              <a:off x="6150240" y="3031920"/>
              <a:ext cx="326520" cy="272880"/>
            </a:xfrm>
            <a:custGeom>
              <a:avLst/>
              <a:gdLst/>
              <a:ahLst/>
              <a:rect l="l" t="t" r="r" b="b"/>
              <a:pathLst>
                <a:path w="273" h="149">
                  <a:moveTo>
                    <a:pt x="0" y="18"/>
                  </a:moveTo>
                  <a:lnTo>
                    <a:pt x="210" y="149"/>
                  </a:lnTo>
                  <a:lnTo>
                    <a:pt x="273" y="129"/>
                  </a:lnTo>
                  <a:lnTo>
                    <a:pt x="6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rot="2725200">
              <a:off x="6676920" y="2742120"/>
              <a:ext cx="1009440" cy="911160"/>
            </a:xfrm>
            <a:custGeom>
              <a:avLst/>
              <a:gdLst/>
              <a:ahLst/>
              <a:rect l="l" t="t" r="r" b="b"/>
              <a:pathLst>
                <a:path w="843" h="497">
                  <a:moveTo>
                    <a:pt x="0" y="12"/>
                  </a:moveTo>
                  <a:lnTo>
                    <a:pt x="777" y="497"/>
                  </a:lnTo>
                  <a:lnTo>
                    <a:pt x="843" y="479"/>
                  </a:lnTo>
                  <a:lnTo>
                    <a:pt x="73" y="0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3" y="4"/>
                  </a:lnTo>
                  <a:lnTo>
                    <a:pt x="43" y="6"/>
                  </a:lnTo>
                  <a:lnTo>
                    <a:pt x="33" y="8"/>
                  </a:lnTo>
                  <a:lnTo>
                    <a:pt x="21" y="8"/>
                  </a:lnTo>
                  <a:lnTo>
                    <a:pt x="1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rot="2725200">
              <a:off x="6194520" y="3161160"/>
              <a:ext cx="372240" cy="293040"/>
            </a:xfrm>
            <a:custGeom>
              <a:avLst/>
              <a:gdLst/>
              <a:ahLst/>
              <a:rect l="l" t="t" r="r" b="b"/>
              <a:pathLst>
                <a:path w="311" h="160">
                  <a:moveTo>
                    <a:pt x="0" y="26"/>
                  </a:moveTo>
                  <a:lnTo>
                    <a:pt x="212" y="160"/>
                  </a:lnTo>
                  <a:lnTo>
                    <a:pt x="311" y="135"/>
                  </a:lnTo>
                  <a:lnTo>
                    <a:pt x="9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rot="2725200">
              <a:off x="6730560" y="2867760"/>
              <a:ext cx="1050480" cy="930960"/>
            </a:xfrm>
            <a:custGeom>
              <a:avLst/>
              <a:gdLst/>
              <a:ahLst/>
              <a:rect l="l" t="t" r="r" b="b"/>
              <a:pathLst>
                <a:path w="877" h="508">
                  <a:moveTo>
                    <a:pt x="0" y="16"/>
                  </a:moveTo>
                  <a:lnTo>
                    <a:pt x="778" y="508"/>
                  </a:lnTo>
                  <a:lnTo>
                    <a:pt x="877" y="484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79" y="4"/>
                  </a:lnTo>
                  <a:lnTo>
                    <a:pt x="68" y="6"/>
                  </a:lnTo>
                  <a:lnTo>
                    <a:pt x="56" y="8"/>
                  </a:lnTo>
                  <a:lnTo>
                    <a:pt x="44" y="10"/>
                  </a:lnTo>
                  <a:lnTo>
                    <a:pt x="30" y="12"/>
                  </a:lnTo>
                  <a:lnTo>
                    <a:pt x="14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rot="2725200">
              <a:off x="6273720" y="3317040"/>
              <a:ext cx="358200" cy="289800"/>
            </a:xfrm>
            <a:custGeom>
              <a:avLst/>
              <a:gdLst/>
              <a:ahLst/>
              <a:rect l="l" t="t" r="r" b="b"/>
              <a:pathLst>
                <a:path w="299" h="158">
                  <a:moveTo>
                    <a:pt x="0" y="22"/>
                  </a:moveTo>
                  <a:lnTo>
                    <a:pt x="208" y="158"/>
                  </a:lnTo>
                  <a:lnTo>
                    <a:pt x="299" y="134"/>
                  </a:lnTo>
                  <a:lnTo>
                    <a:pt x="8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rot="2725200">
              <a:off x="6820560" y="2998800"/>
              <a:ext cx="1027440" cy="949320"/>
            </a:xfrm>
            <a:custGeom>
              <a:avLst/>
              <a:gdLst/>
              <a:ahLst/>
              <a:rect l="l" t="t" r="r" b="b"/>
              <a:pathLst>
                <a:path w="858" h="518">
                  <a:moveTo>
                    <a:pt x="0" y="14"/>
                  </a:moveTo>
                  <a:lnTo>
                    <a:pt x="769" y="518"/>
                  </a:lnTo>
                  <a:lnTo>
                    <a:pt x="858" y="496"/>
                  </a:lnTo>
                  <a:lnTo>
                    <a:pt x="75" y="0"/>
                  </a:lnTo>
                  <a:lnTo>
                    <a:pt x="69" y="2"/>
                  </a:lnTo>
                  <a:lnTo>
                    <a:pt x="61" y="4"/>
                  </a:lnTo>
                  <a:lnTo>
                    <a:pt x="53" y="6"/>
                  </a:lnTo>
                  <a:lnTo>
                    <a:pt x="43" y="8"/>
                  </a:lnTo>
                  <a:lnTo>
                    <a:pt x="33" y="10"/>
                  </a:lnTo>
                  <a:lnTo>
                    <a:pt x="23" y="10"/>
                  </a:lnTo>
                  <a:lnTo>
                    <a:pt x="1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2725200">
              <a:off x="6351120" y="3458880"/>
              <a:ext cx="341280" cy="285840"/>
            </a:xfrm>
            <a:custGeom>
              <a:avLst/>
              <a:gdLst/>
              <a:ahLst/>
              <a:rect l="l" t="t" r="r" b="b"/>
              <a:pathLst>
                <a:path w="285" h="156">
                  <a:moveTo>
                    <a:pt x="0" y="19"/>
                  </a:moveTo>
                  <a:lnTo>
                    <a:pt x="212" y="156"/>
                  </a:lnTo>
                  <a:lnTo>
                    <a:pt x="285" y="138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rot="2725200">
              <a:off x="6901560" y="3129120"/>
              <a:ext cx="1023840" cy="964440"/>
            </a:xfrm>
            <a:custGeom>
              <a:avLst/>
              <a:gdLst/>
              <a:ahLst/>
              <a:rect l="l" t="t" r="r" b="b"/>
              <a:pathLst>
                <a:path w="855" h="526">
                  <a:moveTo>
                    <a:pt x="0" y="13"/>
                  </a:moveTo>
                  <a:lnTo>
                    <a:pt x="779" y="526"/>
                  </a:lnTo>
                  <a:lnTo>
                    <a:pt x="855" y="506"/>
                  </a:lnTo>
                  <a:lnTo>
                    <a:pt x="83" y="0"/>
                  </a:lnTo>
                  <a:lnTo>
                    <a:pt x="75" y="2"/>
                  </a:lnTo>
                  <a:lnTo>
                    <a:pt x="67" y="4"/>
                  </a:lnTo>
                  <a:lnTo>
                    <a:pt x="57" y="5"/>
                  </a:lnTo>
                  <a:lnTo>
                    <a:pt x="47" y="5"/>
                  </a:lnTo>
                  <a:lnTo>
                    <a:pt x="36" y="7"/>
                  </a:lnTo>
                  <a:lnTo>
                    <a:pt x="24" y="9"/>
                  </a:lnTo>
                  <a:lnTo>
                    <a:pt x="12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rot="2725200">
              <a:off x="6408720" y="3589560"/>
              <a:ext cx="358200" cy="300240"/>
            </a:xfrm>
            <a:custGeom>
              <a:avLst/>
              <a:gdLst/>
              <a:ahLst/>
              <a:rect l="l" t="t" r="r" b="b"/>
              <a:pathLst>
                <a:path w="299" h="164">
                  <a:moveTo>
                    <a:pt x="208" y="164"/>
                  </a:moveTo>
                  <a:lnTo>
                    <a:pt x="0" y="24"/>
                  </a:lnTo>
                  <a:lnTo>
                    <a:pt x="86" y="0"/>
                  </a:lnTo>
                  <a:lnTo>
                    <a:pt x="299" y="139"/>
                  </a:lnTo>
                  <a:lnTo>
                    <a:pt x="208" y="164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rot="2725200">
              <a:off x="6969240" y="3246120"/>
              <a:ext cx="1023840" cy="983160"/>
            </a:xfrm>
            <a:custGeom>
              <a:avLst/>
              <a:gdLst/>
              <a:ahLst/>
              <a:rect l="l" t="t" r="r" b="b"/>
              <a:pathLst>
                <a:path w="855" h="536">
                  <a:moveTo>
                    <a:pt x="0" y="12"/>
                  </a:moveTo>
                  <a:lnTo>
                    <a:pt x="768" y="536"/>
                  </a:lnTo>
                  <a:lnTo>
                    <a:pt x="855" y="515"/>
                  </a:lnTo>
                  <a:lnTo>
                    <a:pt x="71" y="0"/>
                  </a:lnTo>
                  <a:lnTo>
                    <a:pt x="65" y="2"/>
                  </a:lnTo>
                  <a:lnTo>
                    <a:pt x="60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2" y="8"/>
                  </a:lnTo>
                  <a:lnTo>
                    <a:pt x="22" y="8"/>
                  </a:lnTo>
                  <a:lnTo>
                    <a:pt x="1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rot="2725200">
              <a:off x="6481800" y="3739320"/>
              <a:ext cx="360360" cy="307800"/>
            </a:xfrm>
            <a:custGeom>
              <a:avLst/>
              <a:gdLst/>
              <a:ahLst/>
              <a:rect l="l" t="t" r="r" b="b"/>
              <a:pathLst>
                <a:path w="301" h="168">
                  <a:moveTo>
                    <a:pt x="0" y="24"/>
                  </a:moveTo>
                  <a:lnTo>
                    <a:pt x="206" y="168"/>
                  </a:lnTo>
                  <a:lnTo>
                    <a:pt x="301" y="142"/>
                  </a:lnTo>
                  <a:lnTo>
                    <a:pt x="9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rot="2725200">
              <a:off x="7045560" y="3373560"/>
              <a:ext cx="1029600" cy="1008000"/>
            </a:xfrm>
            <a:custGeom>
              <a:avLst/>
              <a:gdLst/>
              <a:ahLst/>
              <a:rect l="l" t="t" r="r" b="b"/>
              <a:pathLst>
                <a:path w="860" h="550">
                  <a:moveTo>
                    <a:pt x="0" y="16"/>
                  </a:moveTo>
                  <a:lnTo>
                    <a:pt x="767" y="550"/>
                  </a:lnTo>
                  <a:lnTo>
                    <a:pt x="860" y="526"/>
                  </a:lnTo>
                  <a:lnTo>
                    <a:pt x="89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1" y="6"/>
                  </a:lnTo>
                  <a:lnTo>
                    <a:pt x="51" y="8"/>
                  </a:lnTo>
                  <a:lnTo>
                    <a:pt x="39" y="10"/>
                  </a:lnTo>
                  <a:lnTo>
                    <a:pt x="25" y="12"/>
                  </a:lnTo>
                  <a:lnTo>
                    <a:pt x="13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2725200">
              <a:off x="6554520" y="3890880"/>
              <a:ext cx="357840" cy="307440"/>
            </a:xfrm>
            <a:custGeom>
              <a:avLst/>
              <a:gdLst/>
              <a:ahLst/>
              <a:rect l="l" t="t" r="r" b="b"/>
              <a:pathLst>
                <a:path w="299" h="168">
                  <a:moveTo>
                    <a:pt x="210" y="168"/>
                  </a:moveTo>
                  <a:lnTo>
                    <a:pt x="0" y="21"/>
                  </a:lnTo>
                  <a:lnTo>
                    <a:pt x="89" y="0"/>
                  </a:lnTo>
                  <a:lnTo>
                    <a:pt x="299" y="144"/>
                  </a:lnTo>
                  <a:lnTo>
                    <a:pt x="210" y="168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2725200">
              <a:off x="7127640" y="3512520"/>
              <a:ext cx="1040760" cy="1023120"/>
            </a:xfrm>
            <a:custGeom>
              <a:avLst/>
              <a:gdLst/>
              <a:ahLst/>
              <a:rect l="l" t="t" r="r" b="b"/>
              <a:pathLst>
                <a:path w="869" h="558">
                  <a:moveTo>
                    <a:pt x="0" y="18"/>
                  </a:moveTo>
                  <a:lnTo>
                    <a:pt x="778" y="558"/>
                  </a:lnTo>
                  <a:lnTo>
                    <a:pt x="869" y="536"/>
                  </a:lnTo>
                  <a:lnTo>
                    <a:pt x="99" y="0"/>
                  </a:lnTo>
                  <a:lnTo>
                    <a:pt x="89" y="2"/>
                  </a:lnTo>
                  <a:lnTo>
                    <a:pt x="79" y="4"/>
                  </a:lnTo>
                  <a:lnTo>
                    <a:pt x="67" y="6"/>
                  </a:lnTo>
                  <a:lnTo>
                    <a:pt x="56" y="8"/>
                  </a:lnTo>
                  <a:lnTo>
                    <a:pt x="42" y="12"/>
                  </a:lnTo>
                  <a:lnTo>
                    <a:pt x="28" y="14"/>
                  </a:lnTo>
                  <a:lnTo>
                    <a:pt x="14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rot="2725200">
              <a:off x="6629040" y="4028400"/>
              <a:ext cx="341280" cy="307440"/>
            </a:xfrm>
            <a:custGeom>
              <a:avLst/>
              <a:gdLst/>
              <a:ahLst/>
              <a:rect l="l" t="t" r="r" b="b"/>
              <a:pathLst>
                <a:path w="285" h="168">
                  <a:moveTo>
                    <a:pt x="0" y="20"/>
                  </a:moveTo>
                  <a:lnTo>
                    <a:pt x="209" y="168"/>
                  </a:lnTo>
                  <a:lnTo>
                    <a:pt x="285" y="147"/>
                  </a:lnTo>
                  <a:lnTo>
                    <a:pt x="7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rot="2725200">
              <a:off x="7205760" y="3646440"/>
              <a:ext cx="1038960" cy="1036080"/>
            </a:xfrm>
            <a:custGeom>
              <a:avLst/>
              <a:gdLst/>
              <a:ahLst/>
              <a:rect l="l" t="t" r="r" b="b"/>
              <a:pathLst>
                <a:path w="868" h="565">
                  <a:moveTo>
                    <a:pt x="0" y="16"/>
                  </a:moveTo>
                  <a:lnTo>
                    <a:pt x="793" y="565"/>
                  </a:lnTo>
                  <a:lnTo>
                    <a:pt x="868" y="544"/>
                  </a:lnTo>
                  <a:lnTo>
                    <a:pt x="85" y="0"/>
                  </a:lnTo>
                  <a:lnTo>
                    <a:pt x="77" y="2"/>
                  </a:lnTo>
                  <a:lnTo>
                    <a:pt x="69" y="4"/>
                  </a:lnTo>
                  <a:lnTo>
                    <a:pt x="59" y="6"/>
                  </a:lnTo>
                  <a:lnTo>
                    <a:pt x="49" y="8"/>
                  </a:lnTo>
                  <a:lnTo>
                    <a:pt x="37" y="10"/>
                  </a:lnTo>
                  <a:lnTo>
                    <a:pt x="25" y="12"/>
                  </a:lnTo>
                  <a:lnTo>
                    <a:pt x="1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2725200">
              <a:off x="6684120" y="4169160"/>
              <a:ext cx="367560" cy="322560"/>
            </a:xfrm>
            <a:custGeom>
              <a:avLst/>
              <a:gdLst/>
              <a:ahLst/>
              <a:rect l="l" t="t" r="r" b="b"/>
              <a:pathLst>
                <a:path w="307" h="176">
                  <a:moveTo>
                    <a:pt x="204" y="176"/>
                  </a:moveTo>
                  <a:lnTo>
                    <a:pt x="0" y="24"/>
                  </a:lnTo>
                  <a:lnTo>
                    <a:pt x="97" y="0"/>
                  </a:lnTo>
                  <a:lnTo>
                    <a:pt x="307" y="148"/>
                  </a:lnTo>
                  <a:lnTo>
                    <a:pt x="204" y="176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2725200">
              <a:off x="7275240" y="3763800"/>
              <a:ext cx="1032120" cy="1054080"/>
            </a:xfrm>
            <a:custGeom>
              <a:avLst/>
              <a:gdLst/>
              <a:ahLst/>
              <a:rect l="l" t="t" r="r" b="b"/>
              <a:pathLst>
                <a:path w="862" h="575">
                  <a:moveTo>
                    <a:pt x="0" y="11"/>
                  </a:moveTo>
                  <a:lnTo>
                    <a:pt x="765" y="575"/>
                  </a:lnTo>
                  <a:lnTo>
                    <a:pt x="862" y="551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47" y="4"/>
                  </a:lnTo>
                  <a:lnTo>
                    <a:pt x="39" y="5"/>
                  </a:lnTo>
                  <a:lnTo>
                    <a:pt x="29" y="7"/>
                  </a:lnTo>
                  <a:lnTo>
                    <a:pt x="20" y="7"/>
                  </a:lnTo>
                  <a:lnTo>
                    <a:pt x="1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rot="2725200">
              <a:off x="6768000" y="4321440"/>
              <a:ext cx="354240" cy="329040"/>
            </a:xfrm>
            <a:custGeom>
              <a:avLst/>
              <a:gdLst/>
              <a:ahLst/>
              <a:rect l="l" t="t" r="r" b="b"/>
              <a:pathLst>
                <a:path w="296" h="180">
                  <a:moveTo>
                    <a:pt x="0" y="23"/>
                  </a:moveTo>
                  <a:lnTo>
                    <a:pt x="201" y="180"/>
                  </a:lnTo>
                  <a:lnTo>
                    <a:pt x="296" y="154"/>
                  </a:lnTo>
                  <a:lnTo>
                    <a:pt x="9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rot="2725200">
              <a:off x="7364520" y="3891960"/>
              <a:ext cx="1019160" cy="1074240"/>
            </a:xfrm>
            <a:custGeom>
              <a:avLst/>
              <a:gdLst/>
              <a:ahLst/>
              <a:rect l="l" t="t" r="r" b="b"/>
              <a:pathLst>
                <a:path w="851" h="586">
                  <a:moveTo>
                    <a:pt x="0" y="14"/>
                  </a:moveTo>
                  <a:lnTo>
                    <a:pt x="758" y="586"/>
                  </a:lnTo>
                  <a:lnTo>
                    <a:pt x="851" y="564"/>
                  </a:lnTo>
                  <a:lnTo>
                    <a:pt x="83" y="0"/>
                  </a:lnTo>
                  <a:lnTo>
                    <a:pt x="75" y="2"/>
                  </a:lnTo>
                  <a:lnTo>
                    <a:pt x="67" y="4"/>
                  </a:lnTo>
                  <a:lnTo>
                    <a:pt x="58" y="6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4" y="10"/>
                  </a:lnTo>
                  <a:lnTo>
                    <a:pt x="12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rot="2725200">
              <a:off x="6841440" y="4469400"/>
              <a:ext cx="357840" cy="333360"/>
            </a:xfrm>
            <a:custGeom>
              <a:avLst/>
              <a:gdLst/>
              <a:ahLst/>
              <a:rect l="l" t="t" r="r" b="b"/>
              <a:pathLst>
                <a:path w="299" h="182">
                  <a:moveTo>
                    <a:pt x="0" y="24"/>
                  </a:moveTo>
                  <a:lnTo>
                    <a:pt x="200" y="182"/>
                  </a:lnTo>
                  <a:lnTo>
                    <a:pt x="299" y="161"/>
                  </a:lnTo>
                  <a:lnTo>
                    <a:pt x="95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2725200">
              <a:off x="7447320" y="4025520"/>
              <a:ext cx="1015560" cy="1094040"/>
            </a:xfrm>
            <a:custGeom>
              <a:avLst/>
              <a:gdLst/>
              <a:ahLst/>
              <a:rect l="l" t="t" r="r" b="b"/>
              <a:pathLst>
                <a:path w="848" h="597">
                  <a:moveTo>
                    <a:pt x="0" y="16"/>
                  </a:moveTo>
                  <a:lnTo>
                    <a:pt x="757" y="597"/>
                  </a:lnTo>
                  <a:lnTo>
                    <a:pt x="848" y="574"/>
                  </a:lnTo>
                  <a:lnTo>
                    <a:pt x="89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1" y="6"/>
                  </a:lnTo>
                  <a:lnTo>
                    <a:pt x="49" y="8"/>
                  </a:lnTo>
                  <a:lnTo>
                    <a:pt x="37" y="10"/>
                  </a:lnTo>
                  <a:lnTo>
                    <a:pt x="25" y="12"/>
                  </a:lnTo>
                  <a:lnTo>
                    <a:pt x="1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2725200">
              <a:off x="7531560" y="4154760"/>
              <a:ext cx="997200" cy="1101600"/>
            </a:xfrm>
            <a:custGeom>
              <a:avLst/>
              <a:gdLst/>
              <a:ahLst/>
              <a:rect l="l" t="t" r="r" b="b"/>
              <a:pathLst>
                <a:path w="833" h="601">
                  <a:moveTo>
                    <a:pt x="0" y="12"/>
                  </a:moveTo>
                  <a:lnTo>
                    <a:pt x="756" y="601"/>
                  </a:lnTo>
                  <a:lnTo>
                    <a:pt x="833" y="581"/>
                  </a:lnTo>
                  <a:lnTo>
                    <a:pt x="73" y="0"/>
                  </a:lnTo>
                  <a:lnTo>
                    <a:pt x="67" y="2"/>
                  </a:lnTo>
                  <a:lnTo>
                    <a:pt x="59" y="2"/>
                  </a:lnTo>
                  <a:lnTo>
                    <a:pt x="49" y="4"/>
                  </a:lnTo>
                  <a:lnTo>
                    <a:pt x="41" y="6"/>
                  </a:lnTo>
                  <a:lnTo>
                    <a:pt x="31" y="8"/>
                  </a:lnTo>
                  <a:lnTo>
                    <a:pt x="22" y="8"/>
                  </a:lnTo>
                  <a:lnTo>
                    <a:pt x="10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rot="2725200">
              <a:off x="6922080" y="4613400"/>
              <a:ext cx="326880" cy="334080"/>
            </a:xfrm>
            <a:custGeom>
              <a:avLst/>
              <a:gdLst/>
              <a:ahLst/>
              <a:rect l="l" t="t" r="r" b="b"/>
              <a:pathLst>
                <a:path w="273" h="182">
                  <a:moveTo>
                    <a:pt x="192" y="182"/>
                  </a:moveTo>
                  <a:lnTo>
                    <a:pt x="0" y="20"/>
                  </a:lnTo>
                  <a:lnTo>
                    <a:pt x="71" y="0"/>
                  </a:lnTo>
                  <a:lnTo>
                    <a:pt x="273" y="158"/>
                  </a:lnTo>
                  <a:lnTo>
                    <a:pt x="192" y="182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rot="2725200">
              <a:off x="6986880" y="4740120"/>
              <a:ext cx="323280" cy="333360"/>
            </a:xfrm>
            <a:custGeom>
              <a:avLst/>
              <a:gdLst/>
              <a:ahLst/>
              <a:rect l="l" t="t" r="r" b="b"/>
              <a:pathLst>
                <a:path w="270" h="182">
                  <a:moveTo>
                    <a:pt x="204" y="182"/>
                  </a:moveTo>
                  <a:lnTo>
                    <a:pt x="0" y="18"/>
                  </a:lnTo>
                  <a:lnTo>
                    <a:pt x="68" y="0"/>
                  </a:lnTo>
                  <a:lnTo>
                    <a:pt x="270" y="162"/>
                  </a:lnTo>
                  <a:lnTo>
                    <a:pt x="204" y="182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rot="2725200">
              <a:off x="7602840" y="4269240"/>
              <a:ext cx="999720" cy="1119960"/>
            </a:xfrm>
            <a:custGeom>
              <a:avLst/>
              <a:gdLst/>
              <a:ahLst/>
              <a:rect l="l" t="t" r="r" b="b"/>
              <a:pathLst>
                <a:path w="835" h="611">
                  <a:moveTo>
                    <a:pt x="0" y="14"/>
                  </a:moveTo>
                  <a:lnTo>
                    <a:pt x="768" y="611"/>
                  </a:lnTo>
                  <a:lnTo>
                    <a:pt x="835" y="593"/>
                  </a:lnTo>
                  <a:lnTo>
                    <a:pt x="73" y="0"/>
                  </a:lnTo>
                  <a:lnTo>
                    <a:pt x="65" y="2"/>
                  </a:lnTo>
                  <a:lnTo>
                    <a:pt x="57" y="4"/>
                  </a:lnTo>
                  <a:lnTo>
                    <a:pt x="50" y="6"/>
                  </a:lnTo>
                  <a:lnTo>
                    <a:pt x="40" y="8"/>
                  </a:lnTo>
                  <a:lnTo>
                    <a:pt x="30" y="10"/>
                  </a:lnTo>
                  <a:lnTo>
                    <a:pt x="20" y="10"/>
                  </a:lnTo>
                  <a:lnTo>
                    <a:pt x="1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rot="2725200">
              <a:off x="7023960" y="4878360"/>
              <a:ext cx="386640" cy="357480"/>
            </a:xfrm>
            <a:custGeom>
              <a:avLst/>
              <a:gdLst/>
              <a:ahLst/>
              <a:rect l="l" t="t" r="r" b="b"/>
              <a:pathLst>
                <a:path w="323" h="195">
                  <a:moveTo>
                    <a:pt x="200" y="195"/>
                  </a:moveTo>
                  <a:lnTo>
                    <a:pt x="0" y="27"/>
                  </a:lnTo>
                  <a:lnTo>
                    <a:pt x="117" y="0"/>
                  </a:lnTo>
                  <a:lnTo>
                    <a:pt x="323" y="164"/>
                  </a:lnTo>
                  <a:lnTo>
                    <a:pt x="200" y="195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rot="2725200">
              <a:off x="7655400" y="4389480"/>
              <a:ext cx="1029600" cy="1147680"/>
            </a:xfrm>
            <a:custGeom>
              <a:avLst/>
              <a:gdLst/>
              <a:ahLst/>
              <a:rect l="l" t="t" r="r" b="b"/>
              <a:pathLst>
                <a:path w="860" h="626">
                  <a:moveTo>
                    <a:pt x="0" y="29"/>
                  </a:moveTo>
                  <a:lnTo>
                    <a:pt x="5" y="23"/>
                  </a:lnTo>
                  <a:lnTo>
                    <a:pt x="11" y="17"/>
                  </a:lnTo>
                  <a:lnTo>
                    <a:pt x="21" y="13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9" y="7"/>
                  </a:lnTo>
                  <a:lnTo>
                    <a:pt x="47" y="7"/>
                  </a:lnTo>
                  <a:lnTo>
                    <a:pt x="57" y="6"/>
                  </a:lnTo>
                  <a:lnTo>
                    <a:pt x="67" y="4"/>
                  </a:lnTo>
                  <a:lnTo>
                    <a:pt x="79" y="2"/>
                  </a:lnTo>
                  <a:lnTo>
                    <a:pt x="91" y="0"/>
                  </a:lnTo>
                  <a:lnTo>
                    <a:pt x="860" y="599"/>
                  </a:lnTo>
                  <a:lnTo>
                    <a:pt x="743" y="62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rot="2725200">
              <a:off x="5081040" y="3420360"/>
              <a:ext cx="2577240" cy="1123560"/>
            </a:xfrm>
            <a:custGeom>
              <a:avLst/>
              <a:gdLst/>
              <a:ahLst/>
              <a:rect l="l" t="t" r="r" b="b"/>
              <a:pathLst>
                <a:path w="2152" h="613">
                  <a:moveTo>
                    <a:pt x="2152" y="0"/>
                  </a:moveTo>
                  <a:lnTo>
                    <a:pt x="0" y="512"/>
                  </a:lnTo>
                  <a:lnTo>
                    <a:pt x="0" y="613"/>
                  </a:lnTo>
                  <a:lnTo>
                    <a:pt x="2152" y="77"/>
                  </a:lnTo>
                  <a:lnTo>
                    <a:pt x="2152" y="0"/>
                  </a:lnTo>
                  <a:close/>
                </a:path>
              </a:pathLst>
            </a:custGeom>
            <a:solidFill>
              <a:srgbClr val="ffd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rot="2725200">
              <a:off x="7321320" y="4369320"/>
              <a:ext cx="1158120" cy="1587600"/>
            </a:xfrm>
            <a:custGeom>
              <a:avLst/>
              <a:gdLst/>
              <a:ahLst/>
              <a:rect l="l" t="t" r="r" b="b"/>
              <a:pathLst>
                <a:path w="967" h="866">
                  <a:moveTo>
                    <a:pt x="4" y="0"/>
                  </a:moveTo>
                  <a:lnTo>
                    <a:pt x="0" y="6"/>
                  </a:lnTo>
                  <a:lnTo>
                    <a:pt x="0" y="20"/>
                  </a:lnTo>
                  <a:lnTo>
                    <a:pt x="0" y="37"/>
                  </a:lnTo>
                  <a:lnTo>
                    <a:pt x="0" y="57"/>
                  </a:lnTo>
                  <a:lnTo>
                    <a:pt x="967" y="866"/>
                  </a:lnTo>
                  <a:lnTo>
                    <a:pt x="967" y="77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rot="2725200">
              <a:off x="6858000" y="4984560"/>
              <a:ext cx="144720" cy="412560"/>
            </a:xfrm>
            <a:custGeom>
              <a:avLst/>
              <a:gdLst/>
              <a:ahLst/>
              <a:rect l="l" t="t" r="r" b="b"/>
              <a:pathLst>
                <a:path w="121" h="225">
                  <a:moveTo>
                    <a:pt x="0" y="29"/>
                  </a:moveTo>
                  <a:lnTo>
                    <a:pt x="16" y="29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4"/>
                  </a:lnTo>
                  <a:lnTo>
                    <a:pt x="65" y="31"/>
                  </a:lnTo>
                  <a:lnTo>
                    <a:pt x="77" y="45"/>
                  </a:lnTo>
                  <a:lnTo>
                    <a:pt x="87" y="61"/>
                  </a:lnTo>
                  <a:lnTo>
                    <a:pt x="95" y="81"/>
                  </a:lnTo>
                  <a:lnTo>
                    <a:pt x="97" y="103"/>
                  </a:lnTo>
                  <a:lnTo>
                    <a:pt x="97" y="126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7" y="194"/>
                  </a:lnTo>
                  <a:lnTo>
                    <a:pt x="61" y="205"/>
                  </a:lnTo>
                  <a:lnTo>
                    <a:pt x="44" y="207"/>
                  </a:lnTo>
                  <a:lnTo>
                    <a:pt x="22" y="198"/>
                  </a:lnTo>
                  <a:lnTo>
                    <a:pt x="8" y="203"/>
                  </a:lnTo>
                  <a:lnTo>
                    <a:pt x="12" y="211"/>
                  </a:lnTo>
                  <a:lnTo>
                    <a:pt x="22" y="217"/>
                  </a:lnTo>
                  <a:lnTo>
                    <a:pt x="32" y="223"/>
                  </a:lnTo>
                  <a:lnTo>
                    <a:pt x="46" y="225"/>
                  </a:lnTo>
                  <a:lnTo>
                    <a:pt x="61" y="225"/>
                  </a:lnTo>
                  <a:lnTo>
                    <a:pt x="75" y="219"/>
                  </a:lnTo>
                  <a:lnTo>
                    <a:pt x="89" y="207"/>
                  </a:lnTo>
                  <a:lnTo>
                    <a:pt x="101" y="192"/>
                  </a:lnTo>
                  <a:lnTo>
                    <a:pt x="115" y="156"/>
                  </a:lnTo>
                  <a:lnTo>
                    <a:pt x="121" y="116"/>
                  </a:lnTo>
                  <a:lnTo>
                    <a:pt x="115" y="77"/>
                  </a:lnTo>
                  <a:lnTo>
                    <a:pt x="103" y="43"/>
                  </a:lnTo>
                  <a:lnTo>
                    <a:pt x="93" y="29"/>
                  </a:lnTo>
                  <a:lnTo>
                    <a:pt x="81" y="18"/>
                  </a:lnTo>
                  <a:lnTo>
                    <a:pt x="65" y="8"/>
                  </a:lnTo>
                  <a:lnTo>
                    <a:pt x="50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8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rot="2725200">
              <a:off x="6814800" y="4894200"/>
              <a:ext cx="144720" cy="412200"/>
            </a:xfrm>
            <a:custGeom>
              <a:avLst/>
              <a:gdLst/>
              <a:ahLst/>
              <a:rect l="l" t="t" r="r" b="b"/>
              <a:pathLst>
                <a:path w="121" h="225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18"/>
                  </a:lnTo>
                  <a:lnTo>
                    <a:pt x="40" y="20"/>
                  </a:lnTo>
                  <a:lnTo>
                    <a:pt x="52" y="24"/>
                  </a:lnTo>
                  <a:lnTo>
                    <a:pt x="66" y="32"/>
                  </a:lnTo>
                  <a:lnTo>
                    <a:pt x="77" y="44"/>
                  </a:lnTo>
                  <a:lnTo>
                    <a:pt x="87" y="61"/>
                  </a:lnTo>
                  <a:lnTo>
                    <a:pt x="93" y="81"/>
                  </a:lnTo>
                  <a:lnTo>
                    <a:pt x="97" y="101"/>
                  </a:lnTo>
                  <a:lnTo>
                    <a:pt x="97" y="125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5" y="192"/>
                  </a:lnTo>
                  <a:lnTo>
                    <a:pt x="62" y="204"/>
                  </a:lnTo>
                  <a:lnTo>
                    <a:pt x="44" y="208"/>
                  </a:lnTo>
                  <a:lnTo>
                    <a:pt x="22" y="198"/>
                  </a:lnTo>
                  <a:lnTo>
                    <a:pt x="8" y="202"/>
                  </a:lnTo>
                  <a:lnTo>
                    <a:pt x="12" y="210"/>
                  </a:lnTo>
                  <a:lnTo>
                    <a:pt x="22" y="218"/>
                  </a:lnTo>
                  <a:lnTo>
                    <a:pt x="32" y="223"/>
                  </a:lnTo>
                  <a:lnTo>
                    <a:pt x="46" y="225"/>
                  </a:lnTo>
                  <a:lnTo>
                    <a:pt x="62" y="223"/>
                  </a:lnTo>
                  <a:lnTo>
                    <a:pt x="75" y="218"/>
                  </a:lnTo>
                  <a:lnTo>
                    <a:pt x="89" y="208"/>
                  </a:lnTo>
                  <a:lnTo>
                    <a:pt x="101" y="192"/>
                  </a:lnTo>
                  <a:lnTo>
                    <a:pt x="115" y="154"/>
                  </a:lnTo>
                  <a:lnTo>
                    <a:pt x="121" y="115"/>
                  </a:lnTo>
                  <a:lnTo>
                    <a:pt x="115" y="77"/>
                  </a:lnTo>
                  <a:lnTo>
                    <a:pt x="103" y="44"/>
                  </a:lnTo>
                  <a:lnTo>
                    <a:pt x="93" y="30"/>
                  </a:lnTo>
                  <a:lnTo>
                    <a:pt x="79" y="18"/>
                  </a:lnTo>
                  <a:lnTo>
                    <a:pt x="64" y="8"/>
                  </a:lnTo>
                  <a:lnTo>
                    <a:pt x="48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6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rot="2725200">
              <a:off x="6767280" y="4782240"/>
              <a:ext cx="144720" cy="41076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8"/>
                  </a:moveTo>
                  <a:lnTo>
                    <a:pt x="16" y="28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54" y="22"/>
                  </a:lnTo>
                  <a:lnTo>
                    <a:pt x="65" y="30"/>
                  </a:lnTo>
                  <a:lnTo>
                    <a:pt x="79" y="44"/>
                  </a:lnTo>
                  <a:lnTo>
                    <a:pt x="89" y="60"/>
                  </a:lnTo>
                  <a:lnTo>
                    <a:pt x="95" y="79"/>
                  </a:lnTo>
                  <a:lnTo>
                    <a:pt x="97" y="101"/>
                  </a:lnTo>
                  <a:lnTo>
                    <a:pt x="97" y="125"/>
                  </a:lnTo>
                  <a:lnTo>
                    <a:pt x="93" y="151"/>
                  </a:lnTo>
                  <a:lnTo>
                    <a:pt x="87" y="174"/>
                  </a:lnTo>
                  <a:lnTo>
                    <a:pt x="77" y="192"/>
                  </a:lnTo>
                  <a:lnTo>
                    <a:pt x="63" y="204"/>
                  </a:lnTo>
                  <a:lnTo>
                    <a:pt x="46" y="208"/>
                  </a:lnTo>
                  <a:lnTo>
                    <a:pt x="24" y="198"/>
                  </a:lnTo>
                  <a:lnTo>
                    <a:pt x="10" y="202"/>
                  </a:lnTo>
                  <a:lnTo>
                    <a:pt x="14" y="210"/>
                  </a:lnTo>
                  <a:lnTo>
                    <a:pt x="22" y="216"/>
                  </a:lnTo>
                  <a:lnTo>
                    <a:pt x="34" y="222"/>
                  </a:lnTo>
                  <a:lnTo>
                    <a:pt x="48" y="224"/>
                  </a:lnTo>
                  <a:lnTo>
                    <a:pt x="62" y="224"/>
                  </a:lnTo>
                  <a:lnTo>
                    <a:pt x="77" y="218"/>
                  </a:lnTo>
                  <a:lnTo>
                    <a:pt x="91" y="206"/>
                  </a:lnTo>
                  <a:lnTo>
                    <a:pt x="103" y="190"/>
                  </a:lnTo>
                  <a:lnTo>
                    <a:pt x="117" y="155"/>
                  </a:lnTo>
                  <a:lnTo>
                    <a:pt x="121" y="115"/>
                  </a:lnTo>
                  <a:lnTo>
                    <a:pt x="117" y="75"/>
                  </a:lnTo>
                  <a:lnTo>
                    <a:pt x="105" y="42"/>
                  </a:lnTo>
                  <a:lnTo>
                    <a:pt x="95" y="28"/>
                  </a:lnTo>
                  <a:lnTo>
                    <a:pt x="81" y="16"/>
                  </a:lnTo>
                  <a:lnTo>
                    <a:pt x="65" y="6"/>
                  </a:lnTo>
                  <a:lnTo>
                    <a:pt x="50" y="0"/>
                  </a:lnTo>
                  <a:lnTo>
                    <a:pt x="34" y="0"/>
                  </a:lnTo>
                  <a:lnTo>
                    <a:pt x="18" y="2"/>
                  </a:lnTo>
                  <a:lnTo>
                    <a:pt x="8" y="1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rot="2725200">
              <a:off x="6721560" y="4676760"/>
              <a:ext cx="144720" cy="412200"/>
            </a:xfrm>
            <a:custGeom>
              <a:avLst/>
              <a:gdLst/>
              <a:ahLst/>
              <a:rect l="l" t="t" r="r" b="b"/>
              <a:pathLst>
                <a:path w="121" h="225">
                  <a:moveTo>
                    <a:pt x="0" y="29"/>
                  </a:moveTo>
                  <a:lnTo>
                    <a:pt x="16" y="29"/>
                  </a:lnTo>
                  <a:lnTo>
                    <a:pt x="20" y="21"/>
                  </a:lnTo>
                  <a:lnTo>
                    <a:pt x="28" y="17"/>
                  </a:lnTo>
                  <a:lnTo>
                    <a:pt x="40" y="19"/>
                  </a:lnTo>
                  <a:lnTo>
                    <a:pt x="54" y="23"/>
                  </a:lnTo>
                  <a:lnTo>
                    <a:pt x="66" y="31"/>
                  </a:lnTo>
                  <a:lnTo>
                    <a:pt x="79" y="43"/>
                  </a:lnTo>
                  <a:lnTo>
                    <a:pt x="89" y="61"/>
                  </a:lnTo>
                  <a:lnTo>
                    <a:pt x="95" y="81"/>
                  </a:lnTo>
                  <a:lnTo>
                    <a:pt x="97" y="102"/>
                  </a:lnTo>
                  <a:lnTo>
                    <a:pt x="97" y="126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7" y="193"/>
                  </a:lnTo>
                  <a:lnTo>
                    <a:pt x="64" y="205"/>
                  </a:lnTo>
                  <a:lnTo>
                    <a:pt x="46" y="207"/>
                  </a:lnTo>
                  <a:lnTo>
                    <a:pt x="24" y="197"/>
                  </a:lnTo>
                  <a:lnTo>
                    <a:pt x="10" y="201"/>
                  </a:lnTo>
                  <a:lnTo>
                    <a:pt x="14" y="209"/>
                  </a:lnTo>
                  <a:lnTo>
                    <a:pt x="22" y="217"/>
                  </a:lnTo>
                  <a:lnTo>
                    <a:pt x="34" y="223"/>
                  </a:lnTo>
                  <a:lnTo>
                    <a:pt x="48" y="225"/>
                  </a:lnTo>
                  <a:lnTo>
                    <a:pt x="62" y="225"/>
                  </a:lnTo>
                  <a:lnTo>
                    <a:pt x="77" y="219"/>
                  </a:lnTo>
                  <a:lnTo>
                    <a:pt x="91" y="207"/>
                  </a:lnTo>
                  <a:lnTo>
                    <a:pt x="103" y="191"/>
                  </a:lnTo>
                  <a:lnTo>
                    <a:pt x="117" y="154"/>
                  </a:lnTo>
                  <a:lnTo>
                    <a:pt x="121" y="114"/>
                  </a:lnTo>
                  <a:lnTo>
                    <a:pt x="117" y="77"/>
                  </a:lnTo>
                  <a:lnTo>
                    <a:pt x="105" y="43"/>
                  </a:lnTo>
                  <a:lnTo>
                    <a:pt x="95" y="29"/>
                  </a:lnTo>
                  <a:lnTo>
                    <a:pt x="81" y="17"/>
                  </a:lnTo>
                  <a:lnTo>
                    <a:pt x="66" y="7"/>
                  </a:lnTo>
                  <a:lnTo>
                    <a:pt x="50" y="2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8" y="1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rot="2725200">
              <a:off x="6667200" y="4553280"/>
              <a:ext cx="144720" cy="412200"/>
            </a:xfrm>
            <a:custGeom>
              <a:avLst/>
              <a:gdLst/>
              <a:ahLst/>
              <a:rect l="l" t="t" r="r" b="b"/>
              <a:pathLst>
                <a:path w="121" h="225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18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5" y="31"/>
                  </a:lnTo>
                  <a:lnTo>
                    <a:pt x="79" y="43"/>
                  </a:lnTo>
                  <a:lnTo>
                    <a:pt x="89" y="61"/>
                  </a:lnTo>
                  <a:lnTo>
                    <a:pt x="95" y="81"/>
                  </a:lnTo>
                  <a:lnTo>
                    <a:pt x="97" y="101"/>
                  </a:lnTo>
                  <a:lnTo>
                    <a:pt x="97" y="124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7" y="192"/>
                  </a:lnTo>
                  <a:lnTo>
                    <a:pt x="63" y="204"/>
                  </a:lnTo>
                  <a:lnTo>
                    <a:pt x="46" y="207"/>
                  </a:lnTo>
                  <a:lnTo>
                    <a:pt x="24" y="198"/>
                  </a:lnTo>
                  <a:lnTo>
                    <a:pt x="8" y="202"/>
                  </a:lnTo>
                  <a:lnTo>
                    <a:pt x="12" y="209"/>
                  </a:lnTo>
                  <a:lnTo>
                    <a:pt x="22" y="217"/>
                  </a:lnTo>
                  <a:lnTo>
                    <a:pt x="34" y="223"/>
                  </a:lnTo>
                  <a:lnTo>
                    <a:pt x="48" y="225"/>
                  </a:lnTo>
                  <a:lnTo>
                    <a:pt x="61" y="223"/>
                  </a:lnTo>
                  <a:lnTo>
                    <a:pt x="77" y="217"/>
                  </a:lnTo>
                  <a:lnTo>
                    <a:pt x="91" y="207"/>
                  </a:lnTo>
                  <a:lnTo>
                    <a:pt x="103" y="192"/>
                  </a:lnTo>
                  <a:lnTo>
                    <a:pt x="117" y="154"/>
                  </a:lnTo>
                  <a:lnTo>
                    <a:pt x="121" y="115"/>
                  </a:lnTo>
                  <a:lnTo>
                    <a:pt x="117" y="77"/>
                  </a:lnTo>
                  <a:lnTo>
                    <a:pt x="105" y="43"/>
                  </a:lnTo>
                  <a:lnTo>
                    <a:pt x="95" y="30"/>
                  </a:lnTo>
                  <a:lnTo>
                    <a:pt x="81" y="18"/>
                  </a:lnTo>
                  <a:lnTo>
                    <a:pt x="65" y="8"/>
                  </a:lnTo>
                  <a:lnTo>
                    <a:pt x="50" y="2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8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rot="2725200">
              <a:off x="6616440" y="4429440"/>
              <a:ext cx="144720" cy="414000"/>
            </a:xfrm>
            <a:custGeom>
              <a:avLst/>
              <a:gdLst/>
              <a:ahLst/>
              <a:rect l="l" t="t" r="r" b="b"/>
              <a:pathLst>
                <a:path w="121" h="226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1" y="24"/>
                  </a:lnTo>
                  <a:lnTo>
                    <a:pt x="65" y="32"/>
                  </a:lnTo>
                  <a:lnTo>
                    <a:pt x="77" y="46"/>
                  </a:lnTo>
                  <a:lnTo>
                    <a:pt x="87" y="61"/>
                  </a:lnTo>
                  <a:lnTo>
                    <a:pt x="93" y="81"/>
                  </a:lnTo>
                  <a:lnTo>
                    <a:pt x="95" y="103"/>
                  </a:lnTo>
                  <a:lnTo>
                    <a:pt x="95" y="127"/>
                  </a:lnTo>
                  <a:lnTo>
                    <a:pt x="93" y="150"/>
                  </a:lnTo>
                  <a:lnTo>
                    <a:pt x="85" y="174"/>
                  </a:lnTo>
                  <a:lnTo>
                    <a:pt x="75" y="194"/>
                  </a:lnTo>
                  <a:lnTo>
                    <a:pt x="61" y="206"/>
                  </a:lnTo>
                  <a:lnTo>
                    <a:pt x="43" y="208"/>
                  </a:lnTo>
                  <a:lnTo>
                    <a:pt x="22" y="198"/>
                  </a:lnTo>
                  <a:lnTo>
                    <a:pt x="8" y="202"/>
                  </a:lnTo>
                  <a:lnTo>
                    <a:pt x="12" y="210"/>
                  </a:lnTo>
                  <a:lnTo>
                    <a:pt x="22" y="218"/>
                  </a:lnTo>
                  <a:lnTo>
                    <a:pt x="32" y="224"/>
                  </a:lnTo>
                  <a:lnTo>
                    <a:pt x="45" y="226"/>
                  </a:lnTo>
                  <a:lnTo>
                    <a:pt x="61" y="226"/>
                  </a:lnTo>
                  <a:lnTo>
                    <a:pt x="75" y="220"/>
                  </a:lnTo>
                  <a:lnTo>
                    <a:pt x="89" y="208"/>
                  </a:lnTo>
                  <a:lnTo>
                    <a:pt x="101" y="192"/>
                  </a:lnTo>
                  <a:lnTo>
                    <a:pt x="115" y="156"/>
                  </a:lnTo>
                  <a:lnTo>
                    <a:pt x="121" y="117"/>
                  </a:lnTo>
                  <a:lnTo>
                    <a:pt x="115" y="77"/>
                  </a:lnTo>
                  <a:lnTo>
                    <a:pt x="103" y="44"/>
                  </a:lnTo>
                  <a:lnTo>
                    <a:pt x="93" y="30"/>
                  </a:lnTo>
                  <a:lnTo>
                    <a:pt x="79" y="18"/>
                  </a:lnTo>
                  <a:lnTo>
                    <a:pt x="63" y="8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6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rot="2725200">
              <a:off x="6571080" y="4323240"/>
              <a:ext cx="142560" cy="409680"/>
            </a:xfrm>
            <a:custGeom>
              <a:avLst/>
              <a:gdLst/>
              <a:ahLst/>
              <a:rect l="l" t="t" r="r" b="b"/>
              <a:pathLst>
                <a:path w="119" h="224">
                  <a:moveTo>
                    <a:pt x="0" y="28"/>
                  </a:moveTo>
                  <a:lnTo>
                    <a:pt x="16" y="28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51" y="22"/>
                  </a:lnTo>
                  <a:lnTo>
                    <a:pt x="65" y="30"/>
                  </a:lnTo>
                  <a:lnTo>
                    <a:pt x="77" y="44"/>
                  </a:lnTo>
                  <a:lnTo>
                    <a:pt x="87" y="60"/>
                  </a:lnTo>
                  <a:lnTo>
                    <a:pt x="95" y="80"/>
                  </a:lnTo>
                  <a:lnTo>
                    <a:pt x="97" y="101"/>
                  </a:lnTo>
                  <a:lnTo>
                    <a:pt x="97" y="125"/>
                  </a:lnTo>
                  <a:lnTo>
                    <a:pt x="93" y="151"/>
                  </a:lnTo>
                  <a:lnTo>
                    <a:pt x="87" y="174"/>
                  </a:lnTo>
                  <a:lnTo>
                    <a:pt x="77" y="192"/>
                  </a:lnTo>
                  <a:lnTo>
                    <a:pt x="61" y="204"/>
                  </a:lnTo>
                  <a:lnTo>
                    <a:pt x="43" y="208"/>
                  </a:lnTo>
                  <a:lnTo>
                    <a:pt x="22" y="198"/>
                  </a:lnTo>
                  <a:lnTo>
                    <a:pt x="8" y="202"/>
                  </a:lnTo>
                  <a:lnTo>
                    <a:pt x="12" y="210"/>
                  </a:lnTo>
                  <a:lnTo>
                    <a:pt x="22" y="216"/>
                  </a:lnTo>
                  <a:lnTo>
                    <a:pt x="32" y="222"/>
                  </a:lnTo>
                  <a:lnTo>
                    <a:pt x="45" y="224"/>
                  </a:lnTo>
                  <a:lnTo>
                    <a:pt x="61" y="224"/>
                  </a:lnTo>
                  <a:lnTo>
                    <a:pt x="75" y="218"/>
                  </a:lnTo>
                  <a:lnTo>
                    <a:pt x="89" y="206"/>
                  </a:lnTo>
                  <a:lnTo>
                    <a:pt x="101" y="190"/>
                  </a:lnTo>
                  <a:lnTo>
                    <a:pt x="115" y="155"/>
                  </a:lnTo>
                  <a:lnTo>
                    <a:pt x="119" y="115"/>
                  </a:lnTo>
                  <a:lnTo>
                    <a:pt x="115" y="76"/>
                  </a:lnTo>
                  <a:lnTo>
                    <a:pt x="103" y="42"/>
                  </a:lnTo>
                  <a:lnTo>
                    <a:pt x="93" y="28"/>
                  </a:lnTo>
                  <a:lnTo>
                    <a:pt x="81" y="16"/>
                  </a:lnTo>
                  <a:lnTo>
                    <a:pt x="65" y="6"/>
                  </a:lnTo>
                  <a:lnTo>
                    <a:pt x="49" y="0"/>
                  </a:lnTo>
                  <a:lnTo>
                    <a:pt x="32" y="0"/>
                  </a:lnTo>
                  <a:lnTo>
                    <a:pt x="18" y="2"/>
                  </a:lnTo>
                  <a:lnTo>
                    <a:pt x="8" y="1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rot="2725200">
              <a:off x="6519960" y="4212360"/>
              <a:ext cx="142560" cy="41256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0" y="29"/>
                  </a:moveTo>
                  <a:lnTo>
                    <a:pt x="14" y="29"/>
                  </a:lnTo>
                  <a:lnTo>
                    <a:pt x="18" y="21"/>
                  </a:lnTo>
                  <a:lnTo>
                    <a:pt x="26" y="17"/>
                  </a:lnTo>
                  <a:lnTo>
                    <a:pt x="37" y="19"/>
                  </a:lnTo>
                  <a:lnTo>
                    <a:pt x="49" y="23"/>
                  </a:lnTo>
                  <a:lnTo>
                    <a:pt x="63" y="31"/>
                  </a:lnTo>
                  <a:lnTo>
                    <a:pt x="75" y="43"/>
                  </a:lnTo>
                  <a:lnTo>
                    <a:pt x="85" y="61"/>
                  </a:lnTo>
                  <a:lnTo>
                    <a:pt x="91" y="81"/>
                  </a:lnTo>
                  <a:lnTo>
                    <a:pt x="93" y="103"/>
                  </a:lnTo>
                  <a:lnTo>
                    <a:pt x="93" y="126"/>
                  </a:lnTo>
                  <a:lnTo>
                    <a:pt x="91" y="150"/>
                  </a:lnTo>
                  <a:lnTo>
                    <a:pt x="83" y="174"/>
                  </a:lnTo>
                  <a:lnTo>
                    <a:pt x="73" y="193"/>
                  </a:lnTo>
                  <a:lnTo>
                    <a:pt x="59" y="205"/>
                  </a:lnTo>
                  <a:lnTo>
                    <a:pt x="41" y="207"/>
                  </a:lnTo>
                  <a:lnTo>
                    <a:pt x="20" y="197"/>
                  </a:lnTo>
                  <a:lnTo>
                    <a:pt x="8" y="201"/>
                  </a:lnTo>
                  <a:lnTo>
                    <a:pt x="12" y="209"/>
                  </a:lnTo>
                  <a:lnTo>
                    <a:pt x="20" y="217"/>
                  </a:lnTo>
                  <a:lnTo>
                    <a:pt x="32" y="223"/>
                  </a:lnTo>
                  <a:lnTo>
                    <a:pt x="45" y="225"/>
                  </a:lnTo>
                  <a:lnTo>
                    <a:pt x="59" y="225"/>
                  </a:lnTo>
                  <a:lnTo>
                    <a:pt x="73" y="219"/>
                  </a:lnTo>
                  <a:lnTo>
                    <a:pt x="87" y="207"/>
                  </a:lnTo>
                  <a:lnTo>
                    <a:pt x="99" y="192"/>
                  </a:lnTo>
                  <a:lnTo>
                    <a:pt x="113" y="154"/>
                  </a:lnTo>
                  <a:lnTo>
                    <a:pt x="119" y="114"/>
                  </a:lnTo>
                  <a:lnTo>
                    <a:pt x="113" y="77"/>
                  </a:lnTo>
                  <a:lnTo>
                    <a:pt x="101" y="43"/>
                  </a:lnTo>
                  <a:lnTo>
                    <a:pt x="91" y="29"/>
                  </a:lnTo>
                  <a:lnTo>
                    <a:pt x="79" y="17"/>
                  </a:lnTo>
                  <a:lnTo>
                    <a:pt x="63" y="8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6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rot="2725200">
              <a:off x="6468480" y="4093920"/>
              <a:ext cx="144720" cy="412200"/>
            </a:xfrm>
            <a:custGeom>
              <a:avLst/>
              <a:gdLst/>
              <a:ahLst/>
              <a:rect l="l" t="t" r="r" b="b"/>
              <a:pathLst>
                <a:path w="121" h="225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18"/>
                  </a:lnTo>
                  <a:lnTo>
                    <a:pt x="39" y="20"/>
                  </a:lnTo>
                  <a:lnTo>
                    <a:pt x="53" y="24"/>
                  </a:lnTo>
                  <a:lnTo>
                    <a:pt x="65" y="32"/>
                  </a:lnTo>
                  <a:lnTo>
                    <a:pt x="79" y="43"/>
                  </a:lnTo>
                  <a:lnTo>
                    <a:pt x="89" y="61"/>
                  </a:lnTo>
                  <a:lnTo>
                    <a:pt x="95" y="81"/>
                  </a:lnTo>
                  <a:lnTo>
                    <a:pt x="97" y="101"/>
                  </a:lnTo>
                  <a:lnTo>
                    <a:pt x="97" y="125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7" y="192"/>
                  </a:lnTo>
                  <a:lnTo>
                    <a:pt x="63" y="204"/>
                  </a:lnTo>
                  <a:lnTo>
                    <a:pt x="45" y="208"/>
                  </a:lnTo>
                  <a:lnTo>
                    <a:pt x="24" y="198"/>
                  </a:lnTo>
                  <a:lnTo>
                    <a:pt x="8" y="202"/>
                  </a:lnTo>
                  <a:lnTo>
                    <a:pt x="12" y="210"/>
                  </a:lnTo>
                  <a:lnTo>
                    <a:pt x="22" y="218"/>
                  </a:lnTo>
                  <a:lnTo>
                    <a:pt x="33" y="223"/>
                  </a:lnTo>
                  <a:lnTo>
                    <a:pt x="47" y="225"/>
                  </a:lnTo>
                  <a:lnTo>
                    <a:pt x="61" y="223"/>
                  </a:lnTo>
                  <a:lnTo>
                    <a:pt x="77" y="218"/>
                  </a:lnTo>
                  <a:lnTo>
                    <a:pt x="91" y="208"/>
                  </a:lnTo>
                  <a:lnTo>
                    <a:pt x="103" y="192"/>
                  </a:lnTo>
                  <a:lnTo>
                    <a:pt x="117" y="154"/>
                  </a:lnTo>
                  <a:lnTo>
                    <a:pt x="121" y="115"/>
                  </a:lnTo>
                  <a:lnTo>
                    <a:pt x="117" y="77"/>
                  </a:lnTo>
                  <a:lnTo>
                    <a:pt x="105" y="43"/>
                  </a:lnTo>
                  <a:lnTo>
                    <a:pt x="95" y="30"/>
                  </a:lnTo>
                  <a:lnTo>
                    <a:pt x="81" y="18"/>
                  </a:lnTo>
                  <a:lnTo>
                    <a:pt x="65" y="8"/>
                  </a:lnTo>
                  <a:lnTo>
                    <a:pt x="49" y="2"/>
                  </a:lnTo>
                  <a:lnTo>
                    <a:pt x="33" y="0"/>
                  </a:lnTo>
                  <a:lnTo>
                    <a:pt x="18" y="4"/>
                  </a:lnTo>
                  <a:lnTo>
                    <a:pt x="8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rot="2725200">
              <a:off x="6420960" y="3983040"/>
              <a:ext cx="144720" cy="414000"/>
            </a:xfrm>
            <a:custGeom>
              <a:avLst/>
              <a:gdLst/>
              <a:ahLst/>
              <a:rect l="l" t="t" r="r" b="b"/>
              <a:pathLst>
                <a:path w="121" h="226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39" y="20"/>
                  </a:lnTo>
                  <a:lnTo>
                    <a:pt x="53" y="24"/>
                  </a:lnTo>
                  <a:lnTo>
                    <a:pt x="65" y="32"/>
                  </a:lnTo>
                  <a:lnTo>
                    <a:pt x="79" y="46"/>
                  </a:lnTo>
                  <a:lnTo>
                    <a:pt x="89" y="62"/>
                  </a:lnTo>
                  <a:lnTo>
                    <a:pt x="95" y="81"/>
                  </a:lnTo>
                  <a:lnTo>
                    <a:pt x="97" y="103"/>
                  </a:lnTo>
                  <a:lnTo>
                    <a:pt x="97" y="127"/>
                  </a:lnTo>
                  <a:lnTo>
                    <a:pt x="93" y="151"/>
                  </a:lnTo>
                  <a:lnTo>
                    <a:pt x="87" y="174"/>
                  </a:lnTo>
                  <a:lnTo>
                    <a:pt x="77" y="194"/>
                  </a:lnTo>
                  <a:lnTo>
                    <a:pt x="63" y="206"/>
                  </a:lnTo>
                  <a:lnTo>
                    <a:pt x="45" y="208"/>
                  </a:lnTo>
                  <a:lnTo>
                    <a:pt x="24" y="198"/>
                  </a:lnTo>
                  <a:lnTo>
                    <a:pt x="10" y="202"/>
                  </a:lnTo>
                  <a:lnTo>
                    <a:pt x="14" y="210"/>
                  </a:lnTo>
                  <a:lnTo>
                    <a:pt x="22" y="218"/>
                  </a:lnTo>
                  <a:lnTo>
                    <a:pt x="33" y="224"/>
                  </a:lnTo>
                  <a:lnTo>
                    <a:pt x="47" y="226"/>
                  </a:lnTo>
                  <a:lnTo>
                    <a:pt x="61" y="226"/>
                  </a:lnTo>
                  <a:lnTo>
                    <a:pt x="77" y="220"/>
                  </a:lnTo>
                  <a:lnTo>
                    <a:pt x="91" y="208"/>
                  </a:lnTo>
                  <a:lnTo>
                    <a:pt x="103" y="192"/>
                  </a:lnTo>
                  <a:lnTo>
                    <a:pt x="117" y="156"/>
                  </a:lnTo>
                  <a:lnTo>
                    <a:pt x="121" y="117"/>
                  </a:lnTo>
                  <a:lnTo>
                    <a:pt x="117" y="77"/>
                  </a:lnTo>
                  <a:lnTo>
                    <a:pt x="105" y="44"/>
                  </a:lnTo>
                  <a:lnTo>
                    <a:pt x="95" y="30"/>
                  </a:lnTo>
                  <a:lnTo>
                    <a:pt x="81" y="18"/>
                  </a:lnTo>
                  <a:lnTo>
                    <a:pt x="65" y="8"/>
                  </a:lnTo>
                  <a:lnTo>
                    <a:pt x="49" y="2"/>
                  </a:lnTo>
                  <a:lnTo>
                    <a:pt x="33" y="0"/>
                  </a:lnTo>
                  <a:lnTo>
                    <a:pt x="18" y="4"/>
                  </a:lnTo>
                  <a:lnTo>
                    <a:pt x="8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rot="2725200">
              <a:off x="6357960" y="3847680"/>
              <a:ext cx="143640" cy="412200"/>
            </a:xfrm>
            <a:custGeom>
              <a:avLst/>
              <a:gdLst/>
              <a:ahLst/>
              <a:rect l="l" t="t" r="r" b="b"/>
              <a:pathLst>
                <a:path w="120" h="225">
                  <a:moveTo>
                    <a:pt x="0" y="29"/>
                  </a:moveTo>
                  <a:lnTo>
                    <a:pt x="15" y="29"/>
                  </a:lnTo>
                  <a:lnTo>
                    <a:pt x="19" y="21"/>
                  </a:lnTo>
                  <a:lnTo>
                    <a:pt x="29" y="17"/>
                  </a:lnTo>
                  <a:lnTo>
                    <a:pt x="39" y="19"/>
                  </a:lnTo>
                  <a:lnTo>
                    <a:pt x="53" y="23"/>
                  </a:lnTo>
                  <a:lnTo>
                    <a:pt x="65" y="31"/>
                  </a:lnTo>
                  <a:lnTo>
                    <a:pt x="79" y="43"/>
                  </a:lnTo>
                  <a:lnTo>
                    <a:pt x="89" y="61"/>
                  </a:lnTo>
                  <a:lnTo>
                    <a:pt x="94" y="81"/>
                  </a:lnTo>
                  <a:lnTo>
                    <a:pt x="96" y="100"/>
                  </a:lnTo>
                  <a:lnTo>
                    <a:pt x="96" y="124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7" y="191"/>
                  </a:lnTo>
                  <a:lnTo>
                    <a:pt x="63" y="203"/>
                  </a:lnTo>
                  <a:lnTo>
                    <a:pt x="45" y="207"/>
                  </a:lnTo>
                  <a:lnTo>
                    <a:pt x="23" y="197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23" y="217"/>
                  </a:lnTo>
                  <a:lnTo>
                    <a:pt x="33" y="223"/>
                  </a:lnTo>
                  <a:lnTo>
                    <a:pt x="47" y="225"/>
                  </a:lnTo>
                  <a:lnTo>
                    <a:pt x="61" y="223"/>
                  </a:lnTo>
                  <a:lnTo>
                    <a:pt x="77" y="217"/>
                  </a:lnTo>
                  <a:lnTo>
                    <a:pt x="91" y="207"/>
                  </a:lnTo>
                  <a:lnTo>
                    <a:pt x="102" y="191"/>
                  </a:lnTo>
                  <a:lnTo>
                    <a:pt x="116" y="154"/>
                  </a:lnTo>
                  <a:lnTo>
                    <a:pt x="120" y="114"/>
                  </a:lnTo>
                  <a:lnTo>
                    <a:pt x="116" y="75"/>
                  </a:lnTo>
                  <a:lnTo>
                    <a:pt x="104" y="41"/>
                  </a:lnTo>
                  <a:lnTo>
                    <a:pt x="94" y="27"/>
                  </a:lnTo>
                  <a:lnTo>
                    <a:pt x="81" y="15"/>
                  </a:lnTo>
                  <a:lnTo>
                    <a:pt x="65" y="7"/>
                  </a:lnTo>
                  <a:lnTo>
                    <a:pt x="49" y="2"/>
                  </a:lnTo>
                  <a:lnTo>
                    <a:pt x="33" y="0"/>
                  </a:lnTo>
                  <a:lnTo>
                    <a:pt x="17" y="4"/>
                  </a:lnTo>
                  <a:lnTo>
                    <a:pt x="7" y="1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rot="2725200">
              <a:off x="6310800" y="3736440"/>
              <a:ext cx="144720" cy="40860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28"/>
                  </a:moveTo>
                  <a:lnTo>
                    <a:pt x="16" y="28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52" y="22"/>
                  </a:lnTo>
                  <a:lnTo>
                    <a:pt x="66" y="29"/>
                  </a:lnTo>
                  <a:lnTo>
                    <a:pt x="78" y="43"/>
                  </a:lnTo>
                  <a:lnTo>
                    <a:pt x="88" y="59"/>
                  </a:lnTo>
                  <a:lnTo>
                    <a:pt x="93" y="79"/>
                  </a:lnTo>
                  <a:lnTo>
                    <a:pt x="95" y="101"/>
                  </a:lnTo>
                  <a:lnTo>
                    <a:pt x="95" y="124"/>
                  </a:lnTo>
                  <a:lnTo>
                    <a:pt x="92" y="150"/>
                  </a:lnTo>
                  <a:lnTo>
                    <a:pt x="86" y="172"/>
                  </a:lnTo>
                  <a:lnTo>
                    <a:pt x="76" y="192"/>
                  </a:lnTo>
                  <a:lnTo>
                    <a:pt x="62" y="204"/>
                  </a:lnTo>
                  <a:lnTo>
                    <a:pt x="44" y="205"/>
                  </a:lnTo>
                  <a:lnTo>
                    <a:pt x="22" y="196"/>
                  </a:lnTo>
                  <a:lnTo>
                    <a:pt x="8" y="202"/>
                  </a:lnTo>
                  <a:lnTo>
                    <a:pt x="12" y="209"/>
                  </a:lnTo>
                  <a:lnTo>
                    <a:pt x="22" y="215"/>
                  </a:lnTo>
                  <a:lnTo>
                    <a:pt x="32" y="221"/>
                  </a:lnTo>
                  <a:lnTo>
                    <a:pt x="46" y="223"/>
                  </a:lnTo>
                  <a:lnTo>
                    <a:pt x="62" y="223"/>
                  </a:lnTo>
                  <a:lnTo>
                    <a:pt x="76" y="217"/>
                  </a:lnTo>
                  <a:lnTo>
                    <a:pt x="90" y="205"/>
                  </a:lnTo>
                  <a:lnTo>
                    <a:pt x="101" y="190"/>
                  </a:lnTo>
                  <a:lnTo>
                    <a:pt x="115" y="154"/>
                  </a:lnTo>
                  <a:lnTo>
                    <a:pt x="121" y="115"/>
                  </a:lnTo>
                  <a:lnTo>
                    <a:pt x="115" y="75"/>
                  </a:lnTo>
                  <a:lnTo>
                    <a:pt x="103" y="41"/>
                  </a:lnTo>
                  <a:lnTo>
                    <a:pt x="93" y="28"/>
                  </a:lnTo>
                  <a:lnTo>
                    <a:pt x="80" y="16"/>
                  </a:lnTo>
                  <a:lnTo>
                    <a:pt x="64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18" y="2"/>
                  </a:lnTo>
                  <a:lnTo>
                    <a:pt x="6" y="1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2725200">
              <a:off x="6260760" y="3628440"/>
              <a:ext cx="144720" cy="41076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8"/>
                  </a:moveTo>
                  <a:lnTo>
                    <a:pt x="16" y="28"/>
                  </a:lnTo>
                  <a:lnTo>
                    <a:pt x="20" y="20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4" y="22"/>
                  </a:lnTo>
                  <a:lnTo>
                    <a:pt x="66" y="30"/>
                  </a:lnTo>
                  <a:lnTo>
                    <a:pt x="80" y="44"/>
                  </a:lnTo>
                  <a:lnTo>
                    <a:pt x="90" y="59"/>
                  </a:lnTo>
                  <a:lnTo>
                    <a:pt x="95" y="79"/>
                  </a:lnTo>
                  <a:lnTo>
                    <a:pt x="97" y="99"/>
                  </a:lnTo>
                  <a:lnTo>
                    <a:pt x="97" y="123"/>
                  </a:lnTo>
                  <a:lnTo>
                    <a:pt x="93" y="148"/>
                  </a:lnTo>
                  <a:lnTo>
                    <a:pt x="88" y="172"/>
                  </a:lnTo>
                  <a:lnTo>
                    <a:pt x="78" y="190"/>
                  </a:lnTo>
                  <a:lnTo>
                    <a:pt x="64" y="202"/>
                  </a:lnTo>
                  <a:lnTo>
                    <a:pt x="46" y="206"/>
                  </a:lnTo>
                  <a:lnTo>
                    <a:pt x="24" y="196"/>
                  </a:lnTo>
                  <a:lnTo>
                    <a:pt x="10" y="200"/>
                  </a:lnTo>
                  <a:lnTo>
                    <a:pt x="14" y="208"/>
                  </a:lnTo>
                  <a:lnTo>
                    <a:pt x="24" y="216"/>
                  </a:lnTo>
                  <a:lnTo>
                    <a:pt x="34" y="222"/>
                  </a:lnTo>
                  <a:lnTo>
                    <a:pt x="48" y="224"/>
                  </a:lnTo>
                  <a:lnTo>
                    <a:pt x="62" y="222"/>
                  </a:lnTo>
                  <a:lnTo>
                    <a:pt x="78" y="216"/>
                  </a:lnTo>
                  <a:lnTo>
                    <a:pt x="91" y="206"/>
                  </a:lnTo>
                  <a:lnTo>
                    <a:pt x="103" y="190"/>
                  </a:lnTo>
                  <a:lnTo>
                    <a:pt x="117" y="152"/>
                  </a:lnTo>
                  <a:lnTo>
                    <a:pt x="121" y="113"/>
                  </a:lnTo>
                  <a:lnTo>
                    <a:pt x="117" y="75"/>
                  </a:lnTo>
                  <a:lnTo>
                    <a:pt x="105" y="42"/>
                  </a:lnTo>
                  <a:lnTo>
                    <a:pt x="95" y="28"/>
                  </a:lnTo>
                  <a:lnTo>
                    <a:pt x="82" y="16"/>
                  </a:lnTo>
                  <a:lnTo>
                    <a:pt x="66" y="8"/>
                  </a:lnTo>
                  <a:lnTo>
                    <a:pt x="50" y="2"/>
                  </a:lnTo>
                  <a:lnTo>
                    <a:pt x="34" y="0"/>
                  </a:lnTo>
                  <a:lnTo>
                    <a:pt x="18" y="2"/>
                  </a:lnTo>
                  <a:lnTo>
                    <a:pt x="8" y="1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rot="2725200">
              <a:off x="6215040" y="3513960"/>
              <a:ext cx="144720" cy="41076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4"/>
                  </a:lnTo>
                  <a:lnTo>
                    <a:pt x="66" y="32"/>
                  </a:lnTo>
                  <a:lnTo>
                    <a:pt x="78" y="44"/>
                  </a:lnTo>
                  <a:lnTo>
                    <a:pt x="88" y="60"/>
                  </a:lnTo>
                  <a:lnTo>
                    <a:pt x="93" y="79"/>
                  </a:lnTo>
                  <a:lnTo>
                    <a:pt x="95" y="101"/>
                  </a:lnTo>
                  <a:lnTo>
                    <a:pt x="95" y="125"/>
                  </a:lnTo>
                  <a:lnTo>
                    <a:pt x="91" y="151"/>
                  </a:lnTo>
                  <a:lnTo>
                    <a:pt x="86" y="174"/>
                  </a:lnTo>
                  <a:lnTo>
                    <a:pt x="76" y="192"/>
                  </a:lnTo>
                  <a:lnTo>
                    <a:pt x="62" y="204"/>
                  </a:lnTo>
                  <a:lnTo>
                    <a:pt x="44" y="208"/>
                  </a:lnTo>
                  <a:lnTo>
                    <a:pt x="22" y="198"/>
                  </a:lnTo>
                  <a:lnTo>
                    <a:pt x="8" y="202"/>
                  </a:lnTo>
                  <a:lnTo>
                    <a:pt x="12" y="210"/>
                  </a:lnTo>
                  <a:lnTo>
                    <a:pt x="22" y="216"/>
                  </a:lnTo>
                  <a:lnTo>
                    <a:pt x="32" y="222"/>
                  </a:lnTo>
                  <a:lnTo>
                    <a:pt x="46" y="224"/>
                  </a:lnTo>
                  <a:lnTo>
                    <a:pt x="62" y="224"/>
                  </a:lnTo>
                  <a:lnTo>
                    <a:pt x="76" y="218"/>
                  </a:lnTo>
                  <a:lnTo>
                    <a:pt x="89" y="206"/>
                  </a:lnTo>
                  <a:lnTo>
                    <a:pt x="101" y="190"/>
                  </a:lnTo>
                  <a:lnTo>
                    <a:pt x="115" y="155"/>
                  </a:lnTo>
                  <a:lnTo>
                    <a:pt x="121" y="115"/>
                  </a:lnTo>
                  <a:lnTo>
                    <a:pt x="115" y="76"/>
                  </a:lnTo>
                  <a:lnTo>
                    <a:pt x="103" y="42"/>
                  </a:lnTo>
                  <a:lnTo>
                    <a:pt x="93" y="28"/>
                  </a:lnTo>
                  <a:lnTo>
                    <a:pt x="80" y="16"/>
                  </a:lnTo>
                  <a:lnTo>
                    <a:pt x="64" y="8"/>
                  </a:lnTo>
                  <a:lnTo>
                    <a:pt x="48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6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rot="2725200">
              <a:off x="6163200" y="3406680"/>
              <a:ext cx="144720" cy="40860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29"/>
                  </a:moveTo>
                  <a:lnTo>
                    <a:pt x="16" y="29"/>
                  </a:lnTo>
                  <a:lnTo>
                    <a:pt x="20" y="21"/>
                  </a:lnTo>
                  <a:lnTo>
                    <a:pt x="28" y="17"/>
                  </a:lnTo>
                  <a:lnTo>
                    <a:pt x="40" y="19"/>
                  </a:lnTo>
                  <a:lnTo>
                    <a:pt x="54" y="23"/>
                  </a:lnTo>
                  <a:lnTo>
                    <a:pt x="66" y="31"/>
                  </a:lnTo>
                  <a:lnTo>
                    <a:pt x="80" y="43"/>
                  </a:lnTo>
                  <a:lnTo>
                    <a:pt x="89" y="59"/>
                  </a:lnTo>
                  <a:lnTo>
                    <a:pt x="95" y="79"/>
                  </a:lnTo>
                  <a:lnTo>
                    <a:pt x="97" y="98"/>
                  </a:lnTo>
                  <a:lnTo>
                    <a:pt x="97" y="122"/>
                  </a:lnTo>
                  <a:lnTo>
                    <a:pt x="93" y="148"/>
                  </a:lnTo>
                  <a:lnTo>
                    <a:pt x="87" y="172"/>
                  </a:lnTo>
                  <a:lnTo>
                    <a:pt x="78" y="189"/>
                  </a:lnTo>
                  <a:lnTo>
                    <a:pt x="64" y="201"/>
                  </a:lnTo>
                  <a:lnTo>
                    <a:pt x="46" y="205"/>
                  </a:lnTo>
                  <a:lnTo>
                    <a:pt x="24" y="195"/>
                  </a:lnTo>
                  <a:lnTo>
                    <a:pt x="8" y="199"/>
                  </a:lnTo>
                  <a:lnTo>
                    <a:pt x="12" y="207"/>
                  </a:lnTo>
                  <a:lnTo>
                    <a:pt x="22" y="215"/>
                  </a:lnTo>
                  <a:lnTo>
                    <a:pt x="34" y="221"/>
                  </a:lnTo>
                  <a:lnTo>
                    <a:pt x="48" y="223"/>
                  </a:lnTo>
                  <a:lnTo>
                    <a:pt x="62" y="221"/>
                  </a:lnTo>
                  <a:lnTo>
                    <a:pt x="78" y="215"/>
                  </a:lnTo>
                  <a:lnTo>
                    <a:pt x="91" y="205"/>
                  </a:lnTo>
                  <a:lnTo>
                    <a:pt x="103" y="189"/>
                  </a:lnTo>
                  <a:lnTo>
                    <a:pt x="117" y="152"/>
                  </a:lnTo>
                  <a:lnTo>
                    <a:pt x="121" y="112"/>
                  </a:lnTo>
                  <a:lnTo>
                    <a:pt x="117" y="75"/>
                  </a:lnTo>
                  <a:lnTo>
                    <a:pt x="105" y="43"/>
                  </a:lnTo>
                  <a:lnTo>
                    <a:pt x="95" y="29"/>
                  </a:lnTo>
                  <a:lnTo>
                    <a:pt x="82" y="17"/>
                  </a:lnTo>
                  <a:lnTo>
                    <a:pt x="66" y="8"/>
                  </a:lnTo>
                  <a:lnTo>
                    <a:pt x="50" y="2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8" y="1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2725200">
              <a:off x="6114960" y="3294360"/>
              <a:ext cx="144720" cy="40860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4" y="24"/>
                  </a:lnTo>
                  <a:lnTo>
                    <a:pt x="66" y="32"/>
                  </a:lnTo>
                  <a:lnTo>
                    <a:pt x="80" y="45"/>
                  </a:lnTo>
                  <a:lnTo>
                    <a:pt x="89" y="61"/>
                  </a:lnTo>
                  <a:lnTo>
                    <a:pt x="95" y="81"/>
                  </a:lnTo>
                  <a:lnTo>
                    <a:pt x="97" y="101"/>
                  </a:lnTo>
                  <a:lnTo>
                    <a:pt x="97" y="124"/>
                  </a:lnTo>
                  <a:lnTo>
                    <a:pt x="93" y="150"/>
                  </a:lnTo>
                  <a:lnTo>
                    <a:pt x="87" y="172"/>
                  </a:lnTo>
                  <a:lnTo>
                    <a:pt x="78" y="192"/>
                  </a:lnTo>
                  <a:lnTo>
                    <a:pt x="64" y="204"/>
                  </a:lnTo>
                  <a:lnTo>
                    <a:pt x="46" y="206"/>
                  </a:lnTo>
                  <a:lnTo>
                    <a:pt x="24" y="196"/>
                  </a:lnTo>
                  <a:lnTo>
                    <a:pt x="8" y="202"/>
                  </a:lnTo>
                  <a:lnTo>
                    <a:pt x="12" y="210"/>
                  </a:lnTo>
                  <a:lnTo>
                    <a:pt x="22" y="215"/>
                  </a:lnTo>
                  <a:lnTo>
                    <a:pt x="32" y="221"/>
                  </a:lnTo>
                  <a:lnTo>
                    <a:pt x="46" y="223"/>
                  </a:lnTo>
                  <a:lnTo>
                    <a:pt x="62" y="223"/>
                  </a:lnTo>
                  <a:lnTo>
                    <a:pt x="76" y="217"/>
                  </a:lnTo>
                  <a:lnTo>
                    <a:pt x="89" y="206"/>
                  </a:lnTo>
                  <a:lnTo>
                    <a:pt x="101" y="190"/>
                  </a:lnTo>
                  <a:lnTo>
                    <a:pt x="115" y="154"/>
                  </a:lnTo>
                  <a:lnTo>
                    <a:pt x="121" y="115"/>
                  </a:lnTo>
                  <a:lnTo>
                    <a:pt x="117" y="77"/>
                  </a:lnTo>
                  <a:lnTo>
                    <a:pt x="105" y="43"/>
                  </a:lnTo>
                  <a:lnTo>
                    <a:pt x="95" y="30"/>
                  </a:lnTo>
                  <a:lnTo>
                    <a:pt x="82" y="18"/>
                  </a:lnTo>
                  <a:lnTo>
                    <a:pt x="66" y="8"/>
                  </a:lnTo>
                  <a:lnTo>
                    <a:pt x="50" y="2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8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rot="2725200">
              <a:off x="6067080" y="3183840"/>
              <a:ext cx="144720" cy="41076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18"/>
                  </a:lnTo>
                  <a:lnTo>
                    <a:pt x="40" y="20"/>
                  </a:lnTo>
                  <a:lnTo>
                    <a:pt x="54" y="24"/>
                  </a:lnTo>
                  <a:lnTo>
                    <a:pt x="66" y="32"/>
                  </a:lnTo>
                  <a:lnTo>
                    <a:pt x="80" y="44"/>
                  </a:lnTo>
                  <a:lnTo>
                    <a:pt x="89" y="61"/>
                  </a:lnTo>
                  <a:lnTo>
                    <a:pt x="95" y="81"/>
                  </a:lnTo>
                  <a:lnTo>
                    <a:pt x="97" y="101"/>
                  </a:lnTo>
                  <a:lnTo>
                    <a:pt x="97" y="125"/>
                  </a:lnTo>
                  <a:lnTo>
                    <a:pt x="93" y="150"/>
                  </a:lnTo>
                  <a:lnTo>
                    <a:pt x="87" y="172"/>
                  </a:lnTo>
                  <a:lnTo>
                    <a:pt x="78" y="192"/>
                  </a:lnTo>
                  <a:lnTo>
                    <a:pt x="64" y="204"/>
                  </a:lnTo>
                  <a:lnTo>
                    <a:pt x="46" y="206"/>
                  </a:lnTo>
                  <a:lnTo>
                    <a:pt x="24" y="196"/>
                  </a:lnTo>
                  <a:lnTo>
                    <a:pt x="8" y="200"/>
                  </a:lnTo>
                  <a:lnTo>
                    <a:pt x="12" y="208"/>
                  </a:lnTo>
                  <a:lnTo>
                    <a:pt x="22" y="216"/>
                  </a:lnTo>
                  <a:lnTo>
                    <a:pt x="34" y="222"/>
                  </a:lnTo>
                  <a:lnTo>
                    <a:pt x="48" y="224"/>
                  </a:lnTo>
                  <a:lnTo>
                    <a:pt x="62" y="224"/>
                  </a:lnTo>
                  <a:lnTo>
                    <a:pt x="78" y="218"/>
                  </a:lnTo>
                  <a:lnTo>
                    <a:pt x="91" y="206"/>
                  </a:lnTo>
                  <a:lnTo>
                    <a:pt x="103" y="190"/>
                  </a:lnTo>
                  <a:lnTo>
                    <a:pt x="117" y="154"/>
                  </a:lnTo>
                  <a:lnTo>
                    <a:pt x="121" y="115"/>
                  </a:lnTo>
                  <a:lnTo>
                    <a:pt x="117" y="77"/>
                  </a:lnTo>
                  <a:lnTo>
                    <a:pt x="105" y="44"/>
                  </a:lnTo>
                  <a:lnTo>
                    <a:pt x="95" y="30"/>
                  </a:lnTo>
                  <a:lnTo>
                    <a:pt x="81" y="18"/>
                  </a:lnTo>
                  <a:lnTo>
                    <a:pt x="66" y="8"/>
                  </a:lnTo>
                  <a:lnTo>
                    <a:pt x="50" y="2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8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rot="2725200">
              <a:off x="6027840" y="3086640"/>
              <a:ext cx="144720" cy="41076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54" y="24"/>
                  </a:lnTo>
                  <a:lnTo>
                    <a:pt x="66" y="32"/>
                  </a:lnTo>
                  <a:lnTo>
                    <a:pt x="80" y="46"/>
                  </a:lnTo>
                  <a:lnTo>
                    <a:pt x="90" y="62"/>
                  </a:lnTo>
                  <a:lnTo>
                    <a:pt x="95" y="81"/>
                  </a:lnTo>
                  <a:lnTo>
                    <a:pt x="97" y="101"/>
                  </a:lnTo>
                  <a:lnTo>
                    <a:pt x="97" y="125"/>
                  </a:lnTo>
                  <a:lnTo>
                    <a:pt x="93" y="151"/>
                  </a:lnTo>
                  <a:lnTo>
                    <a:pt x="88" y="172"/>
                  </a:lnTo>
                  <a:lnTo>
                    <a:pt x="78" y="192"/>
                  </a:lnTo>
                  <a:lnTo>
                    <a:pt x="64" y="204"/>
                  </a:lnTo>
                  <a:lnTo>
                    <a:pt x="46" y="206"/>
                  </a:lnTo>
                  <a:lnTo>
                    <a:pt x="24" y="196"/>
                  </a:lnTo>
                  <a:lnTo>
                    <a:pt x="10" y="200"/>
                  </a:lnTo>
                  <a:lnTo>
                    <a:pt x="14" y="208"/>
                  </a:lnTo>
                  <a:lnTo>
                    <a:pt x="24" y="216"/>
                  </a:lnTo>
                  <a:lnTo>
                    <a:pt x="34" y="222"/>
                  </a:lnTo>
                  <a:lnTo>
                    <a:pt x="48" y="224"/>
                  </a:lnTo>
                  <a:lnTo>
                    <a:pt x="62" y="224"/>
                  </a:lnTo>
                  <a:lnTo>
                    <a:pt x="78" y="218"/>
                  </a:lnTo>
                  <a:lnTo>
                    <a:pt x="92" y="206"/>
                  </a:lnTo>
                  <a:lnTo>
                    <a:pt x="103" y="190"/>
                  </a:lnTo>
                  <a:lnTo>
                    <a:pt x="117" y="155"/>
                  </a:lnTo>
                  <a:lnTo>
                    <a:pt x="121" y="115"/>
                  </a:lnTo>
                  <a:lnTo>
                    <a:pt x="117" y="78"/>
                  </a:lnTo>
                  <a:lnTo>
                    <a:pt x="105" y="44"/>
                  </a:lnTo>
                  <a:lnTo>
                    <a:pt x="95" y="30"/>
                  </a:lnTo>
                  <a:lnTo>
                    <a:pt x="82" y="18"/>
                  </a:lnTo>
                  <a:lnTo>
                    <a:pt x="66" y="8"/>
                  </a:lnTo>
                  <a:lnTo>
                    <a:pt x="50" y="2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8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2725200">
              <a:off x="5982480" y="2984760"/>
              <a:ext cx="143640" cy="408960"/>
            </a:xfrm>
            <a:custGeom>
              <a:avLst/>
              <a:gdLst/>
              <a:ahLst/>
              <a:rect l="l" t="t" r="r" b="b"/>
              <a:pathLst>
                <a:path w="120" h="223">
                  <a:moveTo>
                    <a:pt x="0" y="29"/>
                  </a:moveTo>
                  <a:lnTo>
                    <a:pt x="15" y="29"/>
                  </a:lnTo>
                  <a:lnTo>
                    <a:pt x="19" y="21"/>
                  </a:lnTo>
                  <a:lnTo>
                    <a:pt x="27" y="19"/>
                  </a:lnTo>
                  <a:lnTo>
                    <a:pt x="39" y="19"/>
                  </a:lnTo>
                  <a:lnTo>
                    <a:pt x="53" y="23"/>
                  </a:lnTo>
                  <a:lnTo>
                    <a:pt x="65" y="31"/>
                  </a:lnTo>
                  <a:lnTo>
                    <a:pt x="79" y="45"/>
                  </a:lnTo>
                  <a:lnTo>
                    <a:pt x="89" y="61"/>
                  </a:lnTo>
                  <a:lnTo>
                    <a:pt x="95" y="81"/>
                  </a:lnTo>
                  <a:lnTo>
                    <a:pt x="96" y="102"/>
                  </a:lnTo>
                  <a:lnTo>
                    <a:pt x="96" y="126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7" y="191"/>
                  </a:lnTo>
                  <a:lnTo>
                    <a:pt x="63" y="203"/>
                  </a:lnTo>
                  <a:lnTo>
                    <a:pt x="45" y="205"/>
                  </a:lnTo>
                  <a:lnTo>
                    <a:pt x="23" y="195"/>
                  </a:lnTo>
                  <a:lnTo>
                    <a:pt x="7" y="199"/>
                  </a:lnTo>
                  <a:lnTo>
                    <a:pt x="11" y="207"/>
                  </a:lnTo>
                  <a:lnTo>
                    <a:pt x="21" y="215"/>
                  </a:lnTo>
                  <a:lnTo>
                    <a:pt x="31" y="221"/>
                  </a:lnTo>
                  <a:lnTo>
                    <a:pt x="45" y="223"/>
                  </a:lnTo>
                  <a:lnTo>
                    <a:pt x="61" y="223"/>
                  </a:lnTo>
                  <a:lnTo>
                    <a:pt x="75" y="217"/>
                  </a:lnTo>
                  <a:lnTo>
                    <a:pt x="89" y="205"/>
                  </a:lnTo>
                  <a:lnTo>
                    <a:pt x="100" y="189"/>
                  </a:lnTo>
                  <a:lnTo>
                    <a:pt x="114" y="154"/>
                  </a:lnTo>
                  <a:lnTo>
                    <a:pt x="120" y="116"/>
                  </a:lnTo>
                  <a:lnTo>
                    <a:pt x="116" y="77"/>
                  </a:lnTo>
                  <a:lnTo>
                    <a:pt x="104" y="43"/>
                  </a:lnTo>
                  <a:lnTo>
                    <a:pt x="95" y="29"/>
                  </a:lnTo>
                  <a:lnTo>
                    <a:pt x="81" y="17"/>
                  </a:lnTo>
                  <a:lnTo>
                    <a:pt x="65" y="8"/>
                  </a:lnTo>
                  <a:lnTo>
                    <a:pt x="49" y="2"/>
                  </a:lnTo>
                  <a:lnTo>
                    <a:pt x="33" y="0"/>
                  </a:lnTo>
                  <a:lnTo>
                    <a:pt x="17" y="4"/>
                  </a:lnTo>
                  <a:lnTo>
                    <a:pt x="7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rot="2725200">
              <a:off x="5926680" y="2860920"/>
              <a:ext cx="144720" cy="40860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4"/>
                  </a:lnTo>
                  <a:lnTo>
                    <a:pt x="66" y="32"/>
                  </a:lnTo>
                  <a:lnTo>
                    <a:pt x="78" y="45"/>
                  </a:lnTo>
                  <a:lnTo>
                    <a:pt x="87" y="61"/>
                  </a:lnTo>
                  <a:lnTo>
                    <a:pt x="95" y="81"/>
                  </a:lnTo>
                  <a:lnTo>
                    <a:pt x="97" y="103"/>
                  </a:lnTo>
                  <a:lnTo>
                    <a:pt x="97" y="127"/>
                  </a:lnTo>
                  <a:lnTo>
                    <a:pt x="93" y="150"/>
                  </a:lnTo>
                  <a:lnTo>
                    <a:pt x="87" y="174"/>
                  </a:lnTo>
                  <a:lnTo>
                    <a:pt x="78" y="192"/>
                  </a:lnTo>
                  <a:lnTo>
                    <a:pt x="62" y="204"/>
                  </a:lnTo>
                  <a:lnTo>
                    <a:pt x="44" y="206"/>
                  </a:lnTo>
                  <a:lnTo>
                    <a:pt x="22" y="196"/>
                  </a:lnTo>
                  <a:lnTo>
                    <a:pt x="8" y="200"/>
                  </a:lnTo>
                  <a:lnTo>
                    <a:pt x="12" y="208"/>
                  </a:lnTo>
                  <a:lnTo>
                    <a:pt x="22" y="215"/>
                  </a:lnTo>
                  <a:lnTo>
                    <a:pt x="32" y="221"/>
                  </a:lnTo>
                  <a:lnTo>
                    <a:pt x="46" y="223"/>
                  </a:lnTo>
                  <a:lnTo>
                    <a:pt x="62" y="223"/>
                  </a:lnTo>
                  <a:lnTo>
                    <a:pt x="76" y="217"/>
                  </a:lnTo>
                  <a:lnTo>
                    <a:pt x="89" y="206"/>
                  </a:lnTo>
                  <a:lnTo>
                    <a:pt x="101" y="190"/>
                  </a:lnTo>
                  <a:lnTo>
                    <a:pt x="115" y="154"/>
                  </a:lnTo>
                  <a:lnTo>
                    <a:pt x="121" y="117"/>
                  </a:lnTo>
                  <a:lnTo>
                    <a:pt x="115" y="77"/>
                  </a:lnTo>
                  <a:lnTo>
                    <a:pt x="103" y="43"/>
                  </a:lnTo>
                  <a:lnTo>
                    <a:pt x="93" y="30"/>
                  </a:lnTo>
                  <a:lnTo>
                    <a:pt x="80" y="18"/>
                  </a:lnTo>
                  <a:lnTo>
                    <a:pt x="64" y="8"/>
                  </a:lnTo>
                  <a:lnTo>
                    <a:pt x="48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6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rot="2725200">
              <a:off x="5871960" y="2737440"/>
              <a:ext cx="144720" cy="41076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30"/>
                  </a:moveTo>
                  <a:lnTo>
                    <a:pt x="16" y="30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4"/>
                  </a:lnTo>
                  <a:lnTo>
                    <a:pt x="66" y="32"/>
                  </a:lnTo>
                  <a:lnTo>
                    <a:pt x="77" y="46"/>
                  </a:lnTo>
                  <a:lnTo>
                    <a:pt x="87" y="62"/>
                  </a:lnTo>
                  <a:lnTo>
                    <a:pt x="93" y="81"/>
                  </a:lnTo>
                  <a:lnTo>
                    <a:pt x="95" y="103"/>
                  </a:lnTo>
                  <a:lnTo>
                    <a:pt x="95" y="127"/>
                  </a:lnTo>
                  <a:lnTo>
                    <a:pt x="93" y="151"/>
                  </a:lnTo>
                  <a:lnTo>
                    <a:pt x="85" y="174"/>
                  </a:lnTo>
                  <a:lnTo>
                    <a:pt x="75" y="192"/>
                  </a:lnTo>
                  <a:lnTo>
                    <a:pt x="62" y="204"/>
                  </a:lnTo>
                  <a:lnTo>
                    <a:pt x="44" y="208"/>
                  </a:lnTo>
                  <a:lnTo>
                    <a:pt x="22" y="198"/>
                  </a:lnTo>
                  <a:lnTo>
                    <a:pt x="8" y="202"/>
                  </a:lnTo>
                  <a:lnTo>
                    <a:pt x="12" y="210"/>
                  </a:lnTo>
                  <a:lnTo>
                    <a:pt x="22" y="218"/>
                  </a:lnTo>
                  <a:lnTo>
                    <a:pt x="32" y="222"/>
                  </a:lnTo>
                  <a:lnTo>
                    <a:pt x="46" y="224"/>
                  </a:lnTo>
                  <a:lnTo>
                    <a:pt x="62" y="224"/>
                  </a:lnTo>
                  <a:lnTo>
                    <a:pt x="75" y="218"/>
                  </a:lnTo>
                  <a:lnTo>
                    <a:pt x="89" y="208"/>
                  </a:lnTo>
                  <a:lnTo>
                    <a:pt x="101" y="192"/>
                  </a:lnTo>
                  <a:lnTo>
                    <a:pt x="115" y="154"/>
                  </a:lnTo>
                  <a:lnTo>
                    <a:pt x="121" y="115"/>
                  </a:lnTo>
                  <a:lnTo>
                    <a:pt x="115" y="77"/>
                  </a:lnTo>
                  <a:lnTo>
                    <a:pt x="103" y="44"/>
                  </a:lnTo>
                  <a:lnTo>
                    <a:pt x="93" y="30"/>
                  </a:lnTo>
                  <a:lnTo>
                    <a:pt x="79" y="18"/>
                  </a:lnTo>
                  <a:lnTo>
                    <a:pt x="64" y="8"/>
                  </a:lnTo>
                  <a:lnTo>
                    <a:pt x="48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6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rot="2725200">
              <a:off x="5810400" y="2598840"/>
              <a:ext cx="144720" cy="40860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29"/>
                  </a:moveTo>
                  <a:lnTo>
                    <a:pt x="16" y="29"/>
                  </a:lnTo>
                  <a:lnTo>
                    <a:pt x="20" y="21"/>
                  </a:lnTo>
                  <a:lnTo>
                    <a:pt x="28" y="17"/>
                  </a:lnTo>
                  <a:lnTo>
                    <a:pt x="40" y="19"/>
                  </a:lnTo>
                  <a:lnTo>
                    <a:pt x="51" y="23"/>
                  </a:lnTo>
                  <a:lnTo>
                    <a:pt x="65" y="31"/>
                  </a:lnTo>
                  <a:lnTo>
                    <a:pt x="77" y="43"/>
                  </a:lnTo>
                  <a:lnTo>
                    <a:pt x="87" y="61"/>
                  </a:lnTo>
                  <a:lnTo>
                    <a:pt x="95" y="81"/>
                  </a:lnTo>
                  <a:lnTo>
                    <a:pt x="97" y="100"/>
                  </a:lnTo>
                  <a:lnTo>
                    <a:pt x="97" y="124"/>
                  </a:lnTo>
                  <a:lnTo>
                    <a:pt x="93" y="150"/>
                  </a:lnTo>
                  <a:lnTo>
                    <a:pt x="87" y="172"/>
                  </a:lnTo>
                  <a:lnTo>
                    <a:pt x="77" y="191"/>
                  </a:lnTo>
                  <a:lnTo>
                    <a:pt x="61" y="203"/>
                  </a:lnTo>
                  <a:lnTo>
                    <a:pt x="43" y="205"/>
                  </a:lnTo>
                  <a:lnTo>
                    <a:pt x="22" y="197"/>
                  </a:lnTo>
                  <a:lnTo>
                    <a:pt x="8" y="201"/>
                  </a:lnTo>
                  <a:lnTo>
                    <a:pt x="12" y="209"/>
                  </a:lnTo>
                  <a:lnTo>
                    <a:pt x="22" y="217"/>
                  </a:lnTo>
                  <a:lnTo>
                    <a:pt x="32" y="221"/>
                  </a:lnTo>
                  <a:lnTo>
                    <a:pt x="45" y="223"/>
                  </a:lnTo>
                  <a:lnTo>
                    <a:pt x="61" y="223"/>
                  </a:lnTo>
                  <a:lnTo>
                    <a:pt x="75" y="217"/>
                  </a:lnTo>
                  <a:lnTo>
                    <a:pt x="89" y="207"/>
                  </a:lnTo>
                  <a:lnTo>
                    <a:pt x="101" y="191"/>
                  </a:lnTo>
                  <a:lnTo>
                    <a:pt x="115" y="154"/>
                  </a:lnTo>
                  <a:lnTo>
                    <a:pt x="121" y="114"/>
                  </a:lnTo>
                  <a:lnTo>
                    <a:pt x="115" y="77"/>
                  </a:lnTo>
                  <a:lnTo>
                    <a:pt x="103" y="43"/>
                  </a:lnTo>
                  <a:lnTo>
                    <a:pt x="93" y="29"/>
                  </a:lnTo>
                  <a:lnTo>
                    <a:pt x="81" y="17"/>
                  </a:lnTo>
                  <a:lnTo>
                    <a:pt x="65" y="7"/>
                  </a:lnTo>
                  <a:lnTo>
                    <a:pt x="49" y="2"/>
                  </a:lnTo>
                  <a:lnTo>
                    <a:pt x="32" y="0"/>
                  </a:lnTo>
                  <a:lnTo>
                    <a:pt x="18" y="4"/>
                  </a:lnTo>
                  <a:lnTo>
                    <a:pt x="8" y="1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rot="2725200">
              <a:off x="6118200" y="2858760"/>
              <a:ext cx="128160" cy="87480"/>
            </a:xfrm>
            <a:custGeom>
              <a:avLst/>
              <a:gdLst/>
              <a:ahLst/>
              <a:rect l="l" t="t" r="r" b="b"/>
              <a:pathLst>
                <a:path w="107" h="48">
                  <a:moveTo>
                    <a:pt x="54" y="0"/>
                  </a:moveTo>
                  <a:lnTo>
                    <a:pt x="32" y="2"/>
                  </a:lnTo>
                  <a:lnTo>
                    <a:pt x="16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16" y="42"/>
                  </a:lnTo>
                  <a:lnTo>
                    <a:pt x="32" y="46"/>
                  </a:lnTo>
                  <a:lnTo>
                    <a:pt x="54" y="48"/>
                  </a:lnTo>
                  <a:lnTo>
                    <a:pt x="76" y="46"/>
                  </a:lnTo>
                  <a:lnTo>
                    <a:pt x="91" y="42"/>
                  </a:lnTo>
                  <a:lnTo>
                    <a:pt x="103" y="34"/>
                  </a:lnTo>
                  <a:lnTo>
                    <a:pt x="107" y="24"/>
                  </a:lnTo>
                  <a:lnTo>
                    <a:pt x="103" y="16"/>
                  </a:lnTo>
                  <a:lnTo>
                    <a:pt x="91" y="8"/>
                  </a:lnTo>
                  <a:lnTo>
                    <a:pt x="76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rot="2725200">
              <a:off x="6566400" y="3808440"/>
              <a:ext cx="125640" cy="83880"/>
            </a:xfrm>
            <a:custGeom>
              <a:avLst/>
              <a:gdLst/>
              <a:ahLst/>
              <a:rect l="l" t="t" r="r" b="b"/>
              <a:pathLst>
                <a:path w="105" h="46">
                  <a:moveTo>
                    <a:pt x="52" y="0"/>
                  </a:moveTo>
                  <a:lnTo>
                    <a:pt x="32" y="2"/>
                  </a:lnTo>
                  <a:lnTo>
                    <a:pt x="16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6" y="38"/>
                  </a:lnTo>
                  <a:lnTo>
                    <a:pt x="32" y="44"/>
                  </a:lnTo>
                  <a:lnTo>
                    <a:pt x="52" y="46"/>
                  </a:lnTo>
                  <a:lnTo>
                    <a:pt x="74" y="44"/>
                  </a:lnTo>
                  <a:lnTo>
                    <a:pt x="89" y="38"/>
                  </a:lnTo>
                  <a:lnTo>
                    <a:pt x="101" y="32"/>
                  </a:lnTo>
                  <a:lnTo>
                    <a:pt x="105" y="24"/>
                  </a:lnTo>
                  <a:lnTo>
                    <a:pt x="101" y="14"/>
                  </a:lnTo>
                  <a:lnTo>
                    <a:pt x="89" y="6"/>
                  </a:lnTo>
                  <a:lnTo>
                    <a:pt x="74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rot="2725200">
              <a:off x="7040160" y="4794840"/>
              <a:ext cx="125640" cy="84600"/>
            </a:xfrm>
            <a:custGeom>
              <a:avLst/>
              <a:gdLst/>
              <a:ahLst/>
              <a:rect l="l" t="t" r="r" b="b"/>
              <a:pathLst>
                <a:path w="105" h="46">
                  <a:moveTo>
                    <a:pt x="51" y="0"/>
                  </a:moveTo>
                  <a:lnTo>
                    <a:pt x="31" y="2"/>
                  </a:lnTo>
                  <a:lnTo>
                    <a:pt x="16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6" y="40"/>
                  </a:lnTo>
                  <a:lnTo>
                    <a:pt x="31" y="44"/>
                  </a:lnTo>
                  <a:lnTo>
                    <a:pt x="51" y="46"/>
                  </a:lnTo>
                  <a:lnTo>
                    <a:pt x="73" y="44"/>
                  </a:lnTo>
                  <a:lnTo>
                    <a:pt x="89" y="40"/>
                  </a:lnTo>
                  <a:lnTo>
                    <a:pt x="101" y="32"/>
                  </a:lnTo>
                  <a:lnTo>
                    <a:pt x="105" y="24"/>
                  </a:lnTo>
                  <a:lnTo>
                    <a:pt x="101" y="14"/>
                  </a:lnTo>
                  <a:lnTo>
                    <a:pt x="89" y="6"/>
                  </a:lnTo>
                  <a:lnTo>
                    <a:pt x="73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rot="2725200">
              <a:off x="6247080" y="3613680"/>
              <a:ext cx="2297880" cy="511200"/>
            </a:xfrm>
            <a:custGeom>
              <a:avLst/>
              <a:gdLst/>
              <a:ahLst/>
              <a:rect l="l" t="t" r="r" b="b"/>
              <a:pathLst>
                <a:path w="1919" h="279">
                  <a:moveTo>
                    <a:pt x="1868" y="156"/>
                  </a:moveTo>
                  <a:lnTo>
                    <a:pt x="301" y="0"/>
                  </a:lnTo>
                  <a:lnTo>
                    <a:pt x="0" y="36"/>
                  </a:lnTo>
                  <a:lnTo>
                    <a:pt x="226" y="140"/>
                  </a:lnTo>
                  <a:lnTo>
                    <a:pt x="1858" y="279"/>
                  </a:lnTo>
                  <a:lnTo>
                    <a:pt x="1872" y="277"/>
                  </a:lnTo>
                  <a:lnTo>
                    <a:pt x="1886" y="273"/>
                  </a:lnTo>
                  <a:lnTo>
                    <a:pt x="1896" y="265"/>
                  </a:lnTo>
                  <a:lnTo>
                    <a:pt x="1904" y="257"/>
                  </a:lnTo>
                  <a:lnTo>
                    <a:pt x="1911" y="249"/>
                  </a:lnTo>
                  <a:lnTo>
                    <a:pt x="1915" y="239"/>
                  </a:lnTo>
                  <a:lnTo>
                    <a:pt x="1919" y="229"/>
                  </a:lnTo>
                  <a:lnTo>
                    <a:pt x="1919" y="219"/>
                  </a:lnTo>
                  <a:lnTo>
                    <a:pt x="1917" y="200"/>
                  </a:lnTo>
                  <a:lnTo>
                    <a:pt x="1910" y="182"/>
                  </a:lnTo>
                  <a:lnTo>
                    <a:pt x="1894" y="166"/>
                  </a:lnTo>
                  <a:lnTo>
                    <a:pt x="1868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rot="2725200">
              <a:off x="6601680" y="3803400"/>
              <a:ext cx="1601280" cy="256320"/>
            </a:xfrm>
            <a:custGeom>
              <a:avLst/>
              <a:gdLst/>
              <a:ahLst/>
              <a:rect l="l" t="t" r="r" b="b"/>
              <a:pathLst>
                <a:path w="1337" h="140">
                  <a:moveTo>
                    <a:pt x="13" y="0"/>
                  </a:moveTo>
                  <a:lnTo>
                    <a:pt x="1325" y="109"/>
                  </a:lnTo>
                  <a:lnTo>
                    <a:pt x="1337" y="140"/>
                  </a:lnTo>
                  <a:lnTo>
                    <a:pt x="0" y="2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rot="2725200">
              <a:off x="6500520" y="3131640"/>
              <a:ext cx="55080" cy="12672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16" y="69"/>
                  </a:moveTo>
                  <a:lnTo>
                    <a:pt x="38" y="57"/>
                  </a:lnTo>
                  <a:lnTo>
                    <a:pt x="46" y="33"/>
                  </a:lnTo>
                  <a:lnTo>
                    <a:pt x="40" y="12"/>
                  </a:lnTo>
                  <a:lnTo>
                    <a:pt x="20" y="0"/>
                  </a:lnTo>
                  <a:lnTo>
                    <a:pt x="4" y="12"/>
                  </a:lnTo>
                  <a:lnTo>
                    <a:pt x="0" y="33"/>
                  </a:lnTo>
                  <a:lnTo>
                    <a:pt x="4" y="55"/>
                  </a:lnTo>
                  <a:lnTo>
                    <a:pt x="16" y="69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 rot="2725200">
              <a:off x="6585840" y="3323520"/>
              <a:ext cx="191160" cy="74160"/>
            </a:xfrm>
            <a:custGeom>
              <a:avLst/>
              <a:gdLst/>
              <a:ahLst/>
              <a:rect l="l" t="t" r="r" b="b"/>
              <a:pathLst>
                <a:path w="160" h="41">
                  <a:moveTo>
                    <a:pt x="0" y="0"/>
                  </a:moveTo>
                  <a:lnTo>
                    <a:pt x="0" y="8"/>
                  </a:lnTo>
                  <a:lnTo>
                    <a:pt x="2" y="13"/>
                  </a:lnTo>
                  <a:lnTo>
                    <a:pt x="6" y="21"/>
                  </a:lnTo>
                  <a:lnTo>
                    <a:pt x="10" y="29"/>
                  </a:lnTo>
                  <a:lnTo>
                    <a:pt x="160" y="41"/>
                  </a:lnTo>
                  <a:lnTo>
                    <a:pt x="156" y="35"/>
                  </a:lnTo>
                  <a:lnTo>
                    <a:pt x="154" y="27"/>
                  </a:lnTo>
                  <a:lnTo>
                    <a:pt x="154" y="19"/>
                  </a:lnTo>
                  <a:lnTo>
                    <a:pt x="15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 rot="2725200">
              <a:off x="6532200" y="3236760"/>
              <a:ext cx="68400" cy="67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0" y="0"/>
                  </a:moveTo>
                  <a:lnTo>
                    <a:pt x="0" y="9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1"/>
                  </a:lnTo>
                  <a:lnTo>
                    <a:pt x="57" y="37"/>
                  </a:lnTo>
                  <a:lnTo>
                    <a:pt x="53" y="29"/>
                  </a:lnTo>
                  <a:lnTo>
                    <a:pt x="49" y="21"/>
                  </a:lnTo>
                  <a:lnTo>
                    <a:pt x="47" y="13"/>
                  </a:lnTo>
                  <a:lnTo>
                    <a:pt x="4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 rot="2725200">
              <a:off x="6652440" y="3704040"/>
              <a:ext cx="1620000" cy="322560"/>
            </a:xfrm>
            <a:custGeom>
              <a:avLst/>
              <a:gdLst/>
              <a:ahLst/>
              <a:rect l="l" t="t" r="r" b="b"/>
              <a:pathLst>
                <a:path w="1353" h="176">
                  <a:moveTo>
                    <a:pt x="1353" y="130"/>
                  </a:moveTo>
                  <a:lnTo>
                    <a:pt x="55" y="0"/>
                  </a:lnTo>
                  <a:lnTo>
                    <a:pt x="0" y="47"/>
                  </a:lnTo>
                  <a:lnTo>
                    <a:pt x="17" y="67"/>
                  </a:lnTo>
                  <a:lnTo>
                    <a:pt x="1329" y="176"/>
                  </a:lnTo>
                  <a:lnTo>
                    <a:pt x="1353" y="130"/>
                  </a:lnTo>
                  <a:close/>
                </a:path>
              </a:pathLst>
            </a:custGeom>
            <a:solidFill>
              <a:srgbClr val="ff8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rot="2725200">
              <a:off x="8040240" y="4359600"/>
              <a:ext cx="203400" cy="162720"/>
            </a:xfrm>
            <a:custGeom>
              <a:avLst/>
              <a:gdLst/>
              <a:ahLst/>
              <a:rect l="l" t="t" r="r" b="b"/>
              <a:pathLst>
                <a:path w="170" h="89">
                  <a:moveTo>
                    <a:pt x="170" y="0"/>
                  </a:moveTo>
                  <a:lnTo>
                    <a:pt x="6" y="17"/>
                  </a:lnTo>
                  <a:lnTo>
                    <a:pt x="0" y="37"/>
                  </a:lnTo>
                  <a:lnTo>
                    <a:pt x="127" y="89"/>
                  </a:lnTo>
                  <a:lnTo>
                    <a:pt x="139" y="65"/>
                  </a:lnTo>
                  <a:lnTo>
                    <a:pt x="123" y="41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rot="2725200">
              <a:off x="6631560" y="3258000"/>
              <a:ext cx="196200" cy="102600"/>
            </a:xfrm>
            <a:custGeom>
              <a:avLst/>
              <a:gdLst/>
              <a:ahLst/>
              <a:rect l="l" t="t" r="r" b="b"/>
              <a:pathLst>
                <a:path w="164" h="56">
                  <a:moveTo>
                    <a:pt x="154" y="56"/>
                  </a:moveTo>
                  <a:lnTo>
                    <a:pt x="0" y="46"/>
                  </a:lnTo>
                  <a:lnTo>
                    <a:pt x="2" y="32"/>
                  </a:lnTo>
                  <a:lnTo>
                    <a:pt x="8" y="20"/>
                  </a:lnTo>
                  <a:lnTo>
                    <a:pt x="12" y="8"/>
                  </a:lnTo>
                  <a:lnTo>
                    <a:pt x="20" y="0"/>
                  </a:lnTo>
                  <a:lnTo>
                    <a:pt x="164" y="14"/>
                  </a:lnTo>
                  <a:lnTo>
                    <a:pt x="160" y="22"/>
                  </a:lnTo>
                  <a:lnTo>
                    <a:pt x="156" y="34"/>
                  </a:lnTo>
                  <a:lnTo>
                    <a:pt x="154" y="44"/>
                  </a:lnTo>
                  <a:lnTo>
                    <a:pt x="15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2725200">
              <a:off x="6578640" y="3182760"/>
              <a:ext cx="70920" cy="7884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47" y="43"/>
                  </a:moveTo>
                  <a:lnTo>
                    <a:pt x="0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59" y="4"/>
                  </a:lnTo>
                  <a:lnTo>
                    <a:pt x="53" y="10"/>
                  </a:lnTo>
                  <a:lnTo>
                    <a:pt x="49" y="20"/>
                  </a:lnTo>
                  <a:lnTo>
                    <a:pt x="47" y="30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rot="2725200">
              <a:off x="6680880" y="3288600"/>
              <a:ext cx="86040" cy="29160"/>
            </a:xfrm>
            <a:custGeom>
              <a:avLst/>
              <a:gdLst/>
              <a:ahLst/>
              <a:rect l="l" t="t" r="r" b="b"/>
              <a:pathLst>
                <a:path w="72" h="16">
                  <a:moveTo>
                    <a:pt x="72" y="4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72" y="16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rot="2725200">
              <a:off x="6655680" y="3319200"/>
              <a:ext cx="83520" cy="3096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70" y="4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70" y="17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2725200">
              <a:off x="6625440" y="3349800"/>
              <a:ext cx="86040" cy="29160"/>
            </a:xfrm>
            <a:custGeom>
              <a:avLst/>
              <a:gdLst/>
              <a:ahLst/>
              <a:rect l="l" t="t" r="r" b="b"/>
              <a:pathLst>
                <a:path w="72" h="16">
                  <a:moveTo>
                    <a:pt x="72" y="4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72" y="16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4944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 Proces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740960"/>
            <a:ext cx="7772400" cy="427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1. Draw and label a precedence diagram.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2. Calculate the desired cycle time required for the line.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3. Calculate the theoretical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minimum number of workstations.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4. Group elements into workstations,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recognizing cycle time and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precedence constraints.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5. Calculate the efficiency of the line.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6. Stop if theoretical minimum number of workstations on an acceptable efficiency level reached. If not, go back to step 4.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932040" y="1665360"/>
            <a:ext cx="7423560" cy="1982520"/>
            <a:chOff x="932040" y="1665360"/>
            <a:chExt cx="7423560" cy="1982520"/>
          </a:xfrm>
        </p:grpSpPr>
        <p:sp>
          <p:nvSpPr>
            <p:cNvPr id="999" name=""/>
            <p:cNvSpPr/>
            <p:nvPr/>
          </p:nvSpPr>
          <p:spPr>
            <a:xfrm>
              <a:off x="932040" y="2131920"/>
              <a:ext cx="73785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42480" y="1665360"/>
              <a:ext cx="74131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WORK ELEMEN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CEDENC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TIME (MIN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ss out sheet of frui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—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ut into strip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Outline fun shape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Roll up and packag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, 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932040" y="1665360"/>
            <a:ext cx="7423560" cy="1982520"/>
            <a:chOff x="932040" y="1665360"/>
            <a:chExt cx="7423560" cy="1982520"/>
          </a:xfrm>
        </p:grpSpPr>
        <p:sp>
          <p:nvSpPr>
            <p:cNvPr id="1004" name=""/>
            <p:cNvSpPr/>
            <p:nvPr/>
          </p:nvSpPr>
          <p:spPr>
            <a:xfrm>
              <a:off x="932040" y="2131920"/>
              <a:ext cx="73785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42480" y="1665360"/>
              <a:ext cx="74131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WORK ELEMEN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CEDENC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TIME (MIN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ss out sheet of frui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—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ut into strip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Outline fun shape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Roll up and packag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, 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007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012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14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18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027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932040" y="1665360"/>
            <a:ext cx="7423560" cy="1982520"/>
            <a:chOff x="932040" y="1665360"/>
            <a:chExt cx="7423560" cy="1982520"/>
          </a:xfrm>
        </p:grpSpPr>
        <p:sp>
          <p:nvSpPr>
            <p:cNvPr id="1030" name=""/>
            <p:cNvSpPr/>
            <p:nvPr/>
          </p:nvSpPr>
          <p:spPr>
            <a:xfrm>
              <a:off x="932040" y="2131920"/>
              <a:ext cx="73785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42480" y="1665360"/>
              <a:ext cx="74131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WORK ELEMEN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CEDENC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TIME (MIN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ss out sheet of frui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—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ut into strip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Outline fun shape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Roll up and packag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, 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033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038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44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053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54" name=""/>
          <p:cNvSpPr/>
          <p:nvPr/>
        </p:nvSpPr>
        <p:spPr>
          <a:xfrm>
            <a:off x="804960" y="3852720"/>
            <a:ext cx="7845480" cy="2652840"/>
          </a:xfrm>
          <a:prstGeom prst="rect">
            <a:avLst/>
          </a:prstGeom>
          <a:solidFill>
            <a:srgbClr val="ffcd70"/>
          </a:solidFill>
          <a:ln w="1908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1269360" y="4257720"/>
            <a:ext cx="6967080" cy="826920"/>
            <a:chOff x="1269360" y="4257720"/>
            <a:chExt cx="6967080" cy="826920"/>
          </a:xfrm>
        </p:grpSpPr>
        <p:sp>
          <p:nvSpPr>
            <p:cNvPr id="1056" name=""/>
            <p:cNvSpPr/>
            <p:nvPr/>
          </p:nvSpPr>
          <p:spPr>
            <a:xfrm>
              <a:off x="1269360" y="4476600"/>
              <a:ext cx="696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Times New Roman"/>
                </a:rPr>
                <a:t>C</a:t>
              </a:r>
              <a:r>
                <a:rPr b="1" i="1" lang="en-US" sz="2000" spc="-1" strike="noStrike" baseline="-25000">
                  <a:solidFill>
                    <a:srgbClr val="222222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=                                                     =              = 0.4 minute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1903320" y="4257720"/>
              <a:ext cx="3628080" cy="825480"/>
              <a:chOff x="1903320" y="4257720"/>
              <a:chExt cx="3628080" cy="825480"/>
            </a:xfrm>
          </p:grpSpPr>
          <p:sp>
            <p:nvSpPr>
              <p:cNvPr id="1058" name=""/>
              <p:cNvSpPr/>
              <p:nvPr/>
            </p:nvSpPr>
            <p:spPr>
              <a:xfrm>
                <a:off x="1903320" y="4257720"/>
                <a:ext cx="3628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40 hours x 60 minutes / hour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6,000 units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957320" y="4684680"/>
                <a:ext cx="345780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5811120" y="4259160"/>
              <a:ext cx="747720" cy="825480"/>
              <a:chOff x="5811120" y="4259160"/>
              <a:chExt cx="747720" cy="825480"/>
            </a:xfrm>
          </p:grpSpPr>
          <p:sp>
            <p:nvSpPr>
              <p:cNvPr id="1061" name=""/>
              <p:cNvSpPr/>
              <p:nvPr/>
            </p:nvSpPr>
            <p:spPr>
              <a:xfrm>
                <a:off x="5811120" y="4259160"/>
                <a:ext cx="74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240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600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832360" y="4684680"/>
                <a:ext cx="67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063" name=""/>
          <p:cNvGrpSpPr/>
          <p:nvPr/>
        </p:nvGrpSpPr>
        <p:grpSpPr>
          <a:xfrm>
            <a:off x="1665720" y="5302080"/>
            <a:ext cx="6243120" cy="827280"/>
            <a:chOff x="1665720" y="5302080"/>
            <a:chExt cx="6243120" cy="827280"/>
          </a:xfrm>
        </p:grpSpPr>
        <p:sp>
          <p:nvSpPr>
            <p:cNvPr id="1064" name=""/>
            <p:cNvSpPr/>
            <p:nvPr/>
          </p:nvSpPr>
          <p:spPr>
            <a:xfrm>
              <a:off x="1665720" y="5521320"/>
              <a:ext cx="624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=                                     =          = 2.5 workstation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4954680" y="5303880"/>
              <a:ext cx="550800" cy="825480"/>
              <a:chOff x="4954680" y="5303880"/>
              <a:chExt cx="550800" cy="825480"/>
            </a:xfrm>
          </p:grpSpPr>
          <p:sp>
            <p:nvSpPr>
              <p:cNvPr id="1066" name=""/>
              <p:cNvSpPr/>
              <p:nvPr/>
            </p:nvSpPr>
            <p:spPr>
              <a:xfrm>
                <a:off x="4966920" y="5303880"/>
                <a:ext cx="5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1.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4954680" y="5730840"/>
                <a:ext cx="55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2248560" y="5302080"/>
              <a:ext cx="2463840" cy="825480"/>
              <a:chOff x="2248560" y="5302080"/>
              <a:chExt cx="2463840" cy="825480"/>
            </a:xfrm>
          </p:grpSpPr>
          <p:sp>
            <p:nvSpPr>
              <p:cNvPr id="1069" name=""/>
              <p:cNvSpPr/>
              <p:nvPr/>
            </p:nvSpPr>
            <p:spPr>
              <a:xfrm>
                <a:off x="2248560" y="5302080"/>
                <a:ext cx="2463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0.1 + 0.2 + 0.3 + 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292120" y="5727240"/>
                <a:ext cx="235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932040" y="1665360"/>
            <a:ext cx="7423560" cy="1982520"/>
            <a:chOff x="932040" y="1665360"/>
            <a:chExt cx="7423560" cy="1982520"/>
          </a:xfrm>
        </p:grpSpPr>
        <p:sp>
          <p:nvSpPr>
            <p:cNvPr id="1073" name=""/>
            <p:cNvSpPr/>
            <p:nvPr/>
          </p:nvSpPr>
          <p:spPr>
            <a:xfrm>
              <a:off x="932040" y="2131920"/>
              <a:ext cx="73785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942480" y="1665360"/>
              <a:ext cx="74131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WORK ELEMEN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CEDENC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TIME (MIN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ss out sheet of frui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—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ut into strip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Outline fun shape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Roll up and packag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, 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076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081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092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93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096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97" name=""/>
          <p:cNvSpPr/>
          <p:nvPr/>
        </p:nvSpPr>
        <p:spPr>
          <a:xfrm>
            <a:off x="804960" y="3852720"/>
            <a:ext cx="7845480" cy="2652840"/>
          </a:xfrm>
          <a:prstGeom prst="rect">
            <a:avLst/>
          </a:prstGeom>
          <a:solidFill>
            <a:srgbClr val="ffcd70"/>
          </a:solidFill>
          <a:ln w="1908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1269360" y="4257720"/>
            <a:ext cx="6967080" cy="826920"/>
            <a:chOff x="1269360" y="4257720"/>
            <a:chExt cx="6967080" cy="826920"/>
          </a:xfrm>
        </p:grpSpPr>
        <p:sp>
          <p:nvSpPr>
            <p:cNvPr id="1099" name=""/>
            <p:cNvSpPr/>
            <p:nvPr/>
          </p:nvSpPr>
          <p:spPr>
            <a:xfrm>
              <a:off x="1269360" y="4476600"/>
              <a:ext cx="696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Times New Roman"/>
                </a:rPr>
                <a:t>C</a:t>
              </a:r>
              <a:r>
                <a:rPr b="1" i="1" lang="en-US" sz="2000" spc="-1" strike="noStrike" baseline="-25000">
                  <a:solidFill>
                    <a:srgbClr val="222222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=                                                     =              = 0.4 minute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1903320" y="4257720"/>
              <a:ext cx="3628080" cy="825480"/>
              <a:chOff x="1903320" y="4257720"/>
              <a:chExt cx="3628080" cy="825480"/>
            </a:xfrm>
          </p:grpSpPr>
          <p:sp>
            <p:nvSpPr>
              <p:cNvPr id="1101" name=""/>
              <p:cNvSpPr/>
              <p:nvPr/>
            </p:nvSpPr>
            <p:spPr>
              <a:xfrm>
                <a:off x="1903320" y="4257720"/>
                <a:ext cx="3628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40 hours x 60 minutes / hour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6,000 units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957320" y="4684680"/>
                <a:ext cx="345780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5811120" y="4259160"/>
              <a:ext cx="747720" cy="825480"/>
              <a:chOff x="5811120" y="4259160"/>
              <a:chExt cx="747720" cy="825480"/>
            </a:xfrm>
          </p:grpSpPr>
          <p:sp>
            <p:nvSpPr>
              <p:cNvPr id="1104" name=""/>
              <p:cNvSpPr/>
              <p:nvPr/>
            </p:nvSpPr>
            <p:spPr>
              <a:xfrm>
                <a:off x="5811120" y="4259160"/>
                <a:ext cx="74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240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600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32360" y="4684680"/>
                <a:ext cx="67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1665720" y="5302080"/>
            <a:ext cx="6243120" cy="827280"/>
            <a:chOff x="1665720" y="5302080"/>
            <a:chExt cx="6243120" cy="827280"/>
          </a:xfrm>
        </p:grpSpPr>
        <p:sp>
          <p:nvSpPr>
            <p:cNvPr id="1107" name=""/>
            <p:cNvSpPr/>
            <p:nvPr/>
          </p:nvSpPr>
          <p:spPr>
            <a:xfrm>
              <a:off x="1665720" y="5521320"/>
              <a:ext cx="624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22222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=                                     =          = 2.5 workstation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954680" y="5303880"/>
              <a:ext cx="550800" cy="825480"/>
              <a:chOff x="4954680" y="5303880"/>
              <a:chExt cx="550800" cy="825480"/>
            </a:xfrm>
          </p:grpSpPr>
          <p:sp>
            <p:nvSpPr>
              <p:cNvPr id="1109" name=""/>
              <p:cNvSpPr/>
              <p:nvPr/>
            </p:nvSpPr>
            <p:spPr>
              <a:xfrm>
                <a:off x="4966920" y="5303880"/>
                <a:ext cx="5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1.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4954680" y="5730840"/>
                <a:ext cx="55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2248560" y="5302080"/>
              <a:ext cx="2463840" cy="825480"/>
              <a:chOff x="2248560" y="5302080"/>
              <a:chExt cx="2463840" cy="825480"/>
            </a:xfrm>
          </p:grpSpPr>
          <p:sp>
            <p:nvSpPr>
              <p:cNvPr id="1112" name=""/>
              <p:cNvSpPr/>
              <p:nvPr/>
            </p:nvSpPr>
            <p:spPr>
              <a:xfrm>
                <a:off x="2248560" y="5302080"/>
                <a:ext cx="2463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0.1 + 0.2 + 0.3 + 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292120" y="5727240"/>
                <a:ext cx="235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1114" name=""/>
          <p:cNvSpPr/>
          <p:nvPr/>
        </p:nvSpPr>
        <p:spPr>
          <a:xfrm>
            <a:off x="6404040" y="587232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3 workstations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115" name=""/>
          <p:cNvSpPr/>
          <p:nvPr/>
        </p:nvSpPr>
        <p:spPr>
          <a:xfrm>
            <a:off x="5997600" y="5911920"/>
            <a:ext cx="422280" cy="183960"/>
          </a:xfrm>
          <a:custGeom>
            <a:avLst/>
            <a:gdLst/>
            <a:ahLst/>
            <a:rect l="l" t="t" r="r" b="b"/>
            <a:pathLst>
              <a:path w="266" h="116">
                <a:moveTo>
                  <a:pt x="0" y="0"/>
                </a:moveTo>
                <a:cubicBezTo>
                  <a:pt x="35" y="40"/>
                  <a:pt x="71" y="80"/>
                  <a:pt x="115" y="98"/>
                </a:cubicBezTo>
                <a:cubicBezTo>
                  <a:pt x="159" y="116"/>
                  <a:pt x="212" y="111"/>
                  <a:pt x="266" y="107"/>
                </a:cubicBezTo>
              </a:path>
            </a:pathLst>
          </a:custGeom>
          <a:noFill/>
          <a:ln w="38160">
            <a:solidFill>
              <a:srgbClr val="22222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5772240" y="5616720"/>
            <a:ext cx="2257200" cy="210960"/>
          </a:xfrm>
          <a:prstGeom prst="line">
            <a:avLst/>
          </a:prstGeom>
          <a:ln w="38160">
            <a:solidFill>
              <a:srgbClr val="f87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932040" y="1665360"/>
            <a:ext cx="7423560" cy="1982520"/>
            <a:chOff x="932040" y="1665360"/>
            <a:chExt cx="7423560" cy="1982520"/>
          </a:xfrm>
        </p:grpSpPr>
        <p:sp>
          <p:nvSpPr>
            <p:cNvPr id="1119" name=""/>
            <p:cNvSpPr/>
            <p:nvPr/>
          </p:nvSpPr>
          <p:spPr>
            <a:xfrm>
              <a:off x="932040" y="2131920"/>
              <a:ext cx="73785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42480" y="1665360"/>
              <a:ext cx="74131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WORK ELEMEN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CEDENC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TIME (MIN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Press out sheet of fruit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—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ut into strip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Outline fun shapes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577800"/>
                  <a:tab algn="ctr" pos="4670280"/>
                  <a:tab algn="ctr" pos="65754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Roll up and package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B, C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122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127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29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132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138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142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143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146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151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156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162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166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167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507960" y="1411200"/>
            <a:ext cx="8325000" cy="2271960"/>
            <a:chOff x="507960" y="1411200"/>
            <a:chExt cx="8325000" cy="2271960"/>
          </a:xfrm>
        </p:grpSpPr>
        <p:sp>
          <p:nvSpPr>
            <p:cNvPr id="1169" name=""/>
            <p:cNvSpPr/>
            <p:nvPr/>
          </p:nvSpPr>
          <p:spPr>
            <a:xfrm>
              <a:off x="507960" y="1411200"/>
              <a:ext cx="8325000" cy="2271960"/>
            </a:xfrm>
            <a:prstGeom prst="rect">
              <a:avLst/>
            </a:prstGeom>
            <a:solidFill>
              <a:srgbClr val="b3c4ef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05960" y="1565280"/>
              <a:ext cx="786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WORKSTATIO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766880" y="2203560"/>
              <a:ext cx="66960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917640" y="2201760"/>
              <a:ext cx="76197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Process Layout in Service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175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180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82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86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191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192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195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196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507960" y="1411200"/>
            <a:ext cx="8325000" cy="2271960"/>
            <a:chOff x="507960" y="1411200"/>
            <a:chExt cx="8325000" cy="2271960"/>
          </a:xfrm>
        </p:grpSpPr>
        <p:sp>
          <p:nvSpPr>
            <p:cNvPr id="1198" name=""/>
            <p:cNvSpPr/>
            <p:nvPr/>
          </p:nvSpPr>
          <p:spPr>
            <a:xfrm>
              <a:off x="507960" y="1411200"/>
              <a:ext cx="8325000" cy="2271960"/>
            </a:xfrm>
            <a:prstGeom prst="rect">
              <a:avLst/>
            </a:prstGeom>
            <a:solidFill>
              <a:srgbClr val="b3c4ef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5960" y="1565280"/>
              <a:ext cx="786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WORKSTATIO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66880" y="2203560"/>
              <a:ext cx="669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, 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917640" y="2201760"/>
              <a:ext cx="76197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 rot="18855000">
            <a:off x="3009960" y="4303440"/>
            <a:ext cx="2178000" cy="100656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205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210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15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21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225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26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507960" y="1411200"/>
            <a:ext cx="8325000" cy="2271960"/>
            <a:chOff x="507960" y="1411200"/>
            <a:chExt cx="8325000" cy="2271960"/>
          </a:xfrm>
        </p:grpSpPr>
        <p:sp>
          <p:nvSpPr>
            <p:cNvPr id="1228" name=""/>
            <p:cNvSpPr/>
            <p:nvPr/>
          </p:nvSpPr>
          <p:spPr>
            <a:xfrm>
              <a:off x="507960" y="1411200"/>
              <a:ext cx="8325000" cy="2271960"/>
            </a:xfrm>
            <a:prstGeom prst="rect">
              <a:avLst/>
            </a:prstGeom>
            <a:solidFill>
              <a:srgbClr val="b3c4ef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05960" y="1565280"/>
              <a:ext cx="786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WORKSTATIO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66880" y="2203560"/>
              <a:ext cx="669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, 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, 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17640" y="2201760"/>
              <a:ext cx="76197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 rot="19779000">
            <a:off x="3984480" y="5610240"/>
            <a:ext cx="1068480" cy="86184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33" name=""/>
          <p:cNvSpPr/>
          <p:nvPr/>
        </p:nvSpPr>
        <p:spPr>
          <a:xfrm rot="18855000">
            <a:off x="3009960" y="4303440"/>
            <a:ext cx="2178000" cy="100656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236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241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256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57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507960" y="1411200"/>
            <a:ext cx="8325000" cy="2271960"/>
            <a:chOff x="507960" y="1411200"/>
            <a:chExt cx="8325000" cy="2271960"/>
          </a:xfrm>
        </p:grpSpPr>
        <p:sp>
          <p:nvSpPr>
            <p:cNvPr id="1259" name=""/>
            <p:cNvSpPr/>
            <p:nvPr/>
          </p:nvSpPr>
          <p:spPr>
            <a:xfrm>
              <a:off x="507960" y="1411200"/>
              <a:ext cx="8325000" cy="2271960"/>
            </a:xfrm>
            <a:prstGeom prst="rect">
              <a:avLst/>
            </a:prstGeom>
            <a:solidFill>
              <a:srgbClr val="b3c4ef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5960" y="1565280"/>
              <a:ext cx="786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WORKSTATIO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66880" y="2203560"/>
              <a:ext cx="6696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, 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, 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0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917640" y="2201760"/>
              <a:ext cx="76197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 rot="19800000">
            <a:off x="4914720" y="4730400"/>
            <a:ext cx="1068120" cy="86184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64" name=""/>
          <p:cNvSpPr/>
          <p:nvPr/>
        </p:nvSpPr>
        <p:spPr>
          <a:xfrm rot="19779000">
            <a:off x="3984480" y="5610240"/>
            <a:ext cx="1068480" cy="86184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65" name=""/>
          <p:cNvSpPr/>
          <p:nvPr/>
        </p:nvSpPr>
        <p:spPr>
          <a:xfrm rot="18855000">
            <a:off x="3009960" y="4303440"/>
            <a:ext cx="2178000" cy="100656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268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273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78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79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85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288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89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507960" y="1411200"/>
            <a:ext cx="8325000" cy="2271960"/>
            <a:chOff x="507960" y="1411200"/>
            <a:chExt cx="8325000" cy="2271960"/>
          </a:xfrm>
        </p:grpSpPr>
        <p:sp>
          <p:nvSpPr>
            <p:cNvPr id="1291" name=""/>
            <p:cNvSpPr/>
            <p:nvPr/>
          </p:nvSpPr>
          <p:spPr>
            <a:xfrm>
              <a:off x="507960" y="1411200"/>
              <a:ext cx="8325000" cy="2271960"/>
            </a:xfrm>
            <a:prstGeom prst="rect">
              <a:avLst/>
            </a:prstGeom>
            <a:solidFill>
              <a:srgbClr val="b3c4ef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5960" y="1565280"/>
              <a:ext cx="786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WORKSTATIO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766880" y="2203560"/>
              <a:ext cx="6696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, 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, 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0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none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917640" y="2201760"/>
              <a:ext cx="76197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 rot="19800000">
            <a:off x="4914720" y="4730400"/>
            <a:ext cx="1068120" cy="86184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96" name=""/>
          <p:cNvSpPr/>
          <p:nvPr/>
        </p:nvSpPr>
        <p:spPr>
          <a:xfrm rot="19779000">
            <a:off x="3984480" y="5610240"/>
            <a:ext cx="1068480" cy="86184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97" name=""/>
          <p:cNvSpPr/>
          <p:nvPr/>
        </p:nvSpPr>
        <p:spPr>
          <a:xfrm rot="18855000">
            <a:off x="3009960" y="4303440"/>
            <a:ext cx="2178000" cy="1006560"/>
          </a:xfrm>
          <a:prstGeom prst="ellipse">
            <a:avLst/>
          </a:prstGeom>
          <a:solidFill>
            <a:srgbClr val="15a5ad"/>
          </a:solidFill>
          <a:ln w="2844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902680" y="3895560"/>
            <a:ext cx="3324240" cy="2557800"/>
            <a:chOff x="2902680" y="3895560"/>
            <a:chExt cx="3324240" cy="2557800"/>
          </a:xfrm>
        </p:grpSpPr>
        <p:sp>
          <p:nvSpPr>
            <p:cNvPr id="1300" name=""/>
            <p:cNvSpPr/>
            <p:nvPr/>
          </p:nvSpPr>
          <p:spPr>
            <a:xfrm>
              <a:off x="2902680" y="49989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780440" y="389556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780440" y="605952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91960" y="4994280"/>
              <a:ext cx="534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3422520" y="4103640"/>
              <a:ext cx="2266560" cy="2195640"/>
              <a:chOff x="3422520" y="4103640"/>
              <a:chExt cx="2266560" cy="2195640"/>
            </a:xfrm>
          </p:grpSpPr>
          <p:sp>
            <p:nvSpPr>
              <p:cNvPr id="1305" name=""/>
              <p:cNvSpPr/>
              <p:nvPr/>
            </p:nvSpPr>
            <p:spPr>
              <a:xfrm>
                <a:off x="4713120" y="4459320"/>
                <a:ext cx="53640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3751200" y="4507920"/>
                <a:ext cx="606240" cy="6066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307" name=""/>
              <p:cNvGrpSpPr/>
              <p:nvPr/>
            </p:nvGrpSpPr>
            <p:grpSpPr>
              <a:xfrm>
                <a:off x="5206680" y="4957560"/>
                <a:ext cx="482400" cy="482760"/>
                <a:chOff x="5206680" y="4957560"/>
                <a:chExt cx="482400" cy="48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5206680" y="4957560"/>
                  <a:ext cx="48240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5246640" y="4973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310" name=""/>
              <p:cNvSpPr/>
              <p:nvPr/>
            </p:nvSpPr>
            <p:spPr>
              <a:xfrm flipV="1">
                <a:off x="4654440" y="5373720"/>
                <a:ext cx="606240" cy="60624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4311360" y="4103640"/>
                <a:ext cx="482760" cy="2195640"/>
                <a:chOff x="4311360" y="4103640"/>
                <a:chExt cx="482760" cy="219564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4311360" y="410364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361040" y="41180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311360" y="5816520"/>
                  <a:ext cx="482760" cy="48276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351320" y="58323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>
                <a:off x="3808080" y="5343480"/>
                <a:ext cx="536760" cy="536400"/>
              </a:xfrm>
              <a:prstGeom prst="line">
                <a:avLst/>
              </a:prstGeom>
              <a:ln w="5724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22520" y="4959360"/>
                <a:ext cx="482400" cy="482400"/>
                <a:chOff x="3422520" y="4959360"/>
                <a:chExt cx="482400" cy="48240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22520" y="4959360"/>
                  <a:ext cx="482400" cy="482400"/>
                </a:xfrm>
                <a:prstGeom prst="ellipse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3471840" y="497340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320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321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507960" y="1411200"/>
            <a:ext cx="8325000" cy="2271960"/>
            <a:chOff x="507960" y="1411200"/>
            <a:chExt cx="8325000" cy="2271960"/>
          </a:xfrm>
        </p:grpSpPr>
        <p:sp>
          <p:nvSpPr>
            <p:cNvPr id="1323" name=""/>
            <p:cNvSpPr/>
            <p:nvPr/>
          </p:nvSpPr>
          <p:spPr>
            <a:xfrm>
              <a:off x="507960" y="1411200"/>
              <a:ext cx="8325000" cy="2271960"/>
            </a:xfrm>
            <a:prstGeom prst="rect">
              <a:avLst/>
            </a:prstGeom>
            <a:solidFill>
              <a:srgbClr val="b3c4ef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5960" y="1565280"/>
              <a:ext cx="786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WORKSTATIO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66880" y="2203560"/>
              <a:ext cx="6696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, 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, 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0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none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17640" y="2201760"/>
              <a:ext cx="76197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2906640" y="1595520"/>
            <a:ext cx="5772240" cy="2200320"/>
            <a:chOff x="2906640" y="1595520"/>
            <a:chExt cx="5772240" cy="2200320"/>
          </a:xfrm>
        </p:grpSpPr>
        <p:sp>
          <p:nvSpPr>
            <p:cNvPr id="1328" name=""/>
            <p:cNvSpPr/>
            <p:nvPr/>
          </p:nvSpPr>
          <p:spPr>
            <a:xfrm>
              <a:off x="2906640" y="1595520"/>
              <a:ext cx="5772240" cy="2200320"/>
            </a:xfrm>
            <a:prstGeom prst="rect">
              <a:avLst/>
            </a:prstGeom>
            <a:solidFill>
              <a:srgbClr val="ffcd70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3443400" y="2405160"/>
              <a:ext cx="4790880" cy="578880"/>
              <a:chOff x="3443400" y="2405160"/>
              <a:chExt cx="4790880" cy="578880"/>
            </a:xfrm>
          </p:grpSpPr>
          <p:sp>
            <p:nvSpPr>
              <p:cNvPr id="1330" name=""/>
              <p:cNvSpPr/>
              <p:nvPr/>
            </p:nvSpPr>
            <p:spPr>
              <a:xfrm>
                <a:off x="3443400" y="2695680"/>
                <a:ext cx="662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41840" y="2693880"/>
                <a:ext cx="776160" cy="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035760" y="2693880"/>
                <a:ext cx="776160" cy="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458120" y="2693880"/>
                <a:ext cx="776160" cy="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4024440" y="2405160"/>
                <a:ext cx="3538080" cy="578880"/>
                <a:chOff x="4024440" y="2405160"/>
                <a:chExt cx="3538080" cy="578880"/>
              </a:xfrm>
            </p:grpSpPr>
            <p:grpSp>
              <p:nvGrpSpPr>
                <p:cNvPr id="1335" name=""/>
                <p:cNvGrpSpPr/>
                <p:nvPr/>
              </p:nvGrpSpPr>
              <p:grpSpPr>
                <a:xfrm>
                  <a:off x="4024440" y="2405160"/>
                  <a:ext cx="718920" cy="577440"/>
                  <a:chOff x="4024440" y="2405160"/>
                  <a:chExt cx="718920" cy="57744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4024440" y="2405160"/>
                    <a:ext cx="718920" cy="57744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039560" y="2495520"/>
                    <a:ext cx="689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A, B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5433840" y="2406600"/>
                  <a:ext cx="718920" cy="577440"/>
                  <a:chOff x="5433840" y="2406600"/>
                  <a:chExt cx="718920" cy="577440"/>
                </a:xfrm>
              </p:grpSpPr>
              <p:sp>
                <p:nvSpPr>
                  <p:cNvPr id="1339" name=""/>
                  <p:cNvSpPr/>
                  <p:nvPr/>
                </p:nvSpPr>
                <p:spPr>
                  <a:xfrm>
                    <a:off x="5433840" y="2406600"/>
                    <a:ext cx="718920" cy="57744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5611320" y="2496600"/>
                    <a:ext cx="365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C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6843600" y="2405160"/>
                  <a:ext cx="718920" cy="577440"/>
                  <a:chOff x="6843600" y="2405160"/>
                  <a:chExt cx="718920" cy="57744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>
                    <a:off x="6843600" y="2405160"/>
                    <a:ext cx="718920" cy="57744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7019280" y="2495160"/>
                    <a:ext cx="365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D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sp>
          <p:nvSpPr>
            <p:cNvPr id="1344" name=""/>
            <p:cNvSpPr/>
            <p:nvPr/>
          </p:nvSpPr>
          <p:spPr>
            <a:xfrm>
              <a:off x="3781440" y="1741320"/>
              <a:ext cx="11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Work station 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05240" y="1741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Work station 2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626160" y="1741320"/>
              <a:ext cx="114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Work station 3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87640" y="29908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0.3 minute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281560" y="2990880"/>
              <a:ext cx="104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0.4 minute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705720" y="29908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0.3 minute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58800" y="62388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ine Balanc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2902680" y="3675600"/>
            <a:ext cx="3324240" cy="3007440"/>
            <a:chOff x="2902680" y="3675600"/>
            <a:chExt cx="3324240" cy="3007440"/>
          </a:xfrm>
        </p:grpSpPr>
        <p:sp>
          <p:nvSpPr>
            <p:cNvPr id="1352" name=""/>
            <p:cNvSpPr/>
            <p:nvPr/>
          </p:nvSpPr>
          <p:spPr>
            <a:xfrm rot="19800000">
              <a:off x="4914720" y="4730400"/>
              <a:ext cx="1068120" cy="861840"/>
            </a:xfrm>
            <a:prstGeom prst="ellipse">
              <a:avLst/>
            </a:prstGeom>
            <a:solidFill>
              <a:srgbClr val="15a5ad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353" name=""/>
            <p:cNvGrpSpPr/>
            <p:nvPr/>
          </p:nvGrpSpPr>
          <p:grpSpPr>
            <a:xfrm>
              <a:off x="2978640" y="3675600"/>
              <a:ext cx="2240640" cy="3007440"/>
              <a:chOff x="2978640" y="3675600"/>
              <a:chExt cx="2240640" cy="3007440"/>
            </a:xfrm>
          </p:grpSpPr>
          <p:sp>
            <p:nvSpPr>
              <p:cNvPr id="1354" name=""/>
              <p:cNvSpPr/>
              <p:nvPr/>
            </p:nvSpPr>
            <p:spPr>
              <a:xfrm rot="19779000">
                <a:off x="3984480" y="5610240"/>
                <a:ext cx="1068480" cy="861840"/>
              </a:xfrm>
              <a:prstGeom prst="ellipse">
                <a:avLst/>
              </a:prstGeom>
              <a:solidFill>
                <a:srgbClr val="15a5ad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8855000">
                <a:off x="3009960" y="4303440"/>
                <a:ext cx="2178000" cy="1006560"/>
              </a:xfrm>
              <a:prstGeom prst="ellipse">
                <a:avLst/>
              </a:prstGeom>
              <a:solidFill>
                <a:srgbClr val="15a5ad"/>
              </a:solidFill>
              <a:ln w="2844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2902680" y="3895560"/>
              <a:ext cx="3324240" cy="2557800"/>
              <a:chOff x="2902680" y="3895560"/>
              <a:chExt cx="3324240" cy="2557800"/>
            </a:xfrm>
          </p:grpSpPr>
          <p:sp>
            <p:nvSpPr>
              <p:cNvPr id="1357" name=""/>
              <p:cNvSpPr/>
              <p:nvPr/>
            </p:nvSpPr>
            <p:spPr>
              <a:xfrm>
                <a:off x="2902680" y="4998960"/>
                <a:ext cx="534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0.1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80440" y="3895560"/>
                <a:ext cx="534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80440" y="6059520"/>
                <a:ext cx="534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691960" y="4994280"/>
                <a:ext cx="534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0.3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361" name=""/>
              <p:cNvGrpSpPr/>
              <p:nvPr/>
            </p:nvGrpSpPr>
            <p:grpSpPr>
              <a:xfrm>
                <a:off x="3422520" y="4103640"/>
                <a:ext cx="2266560" cy="2195640"/>
                <a:chOff x="3422520" y="4103640"/>
                <a:chExt cx="2266560" cy="219564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713120" y="4459320"/>
                  <a:ext cx="536400" cy="536400"/>
                </a:xfrm>
                <a:prstGeom prst="line">
                  <a:avLst/>
                </a:prstGeom>
                <a:ln w="5724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V="1">
                  <a:off x="3751200" y="4507920"/>
                  <a:ext cx="606240" cy="606600"/>
                </a:xfrm>
                <a:prstGeom prst="line">
                  <a:avLst/>
                </a:prstGeom>
                <a:ln w="5724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364" name=""/>
                <p:cNvGrpSpPr/>
                <p:nvPr/>
              </p:nvGrpSpPr>
              <p:grpSpPr>
                <a:xfrm>
                  <a:off x="5206680" y="4957560"/>
                  <a:ext cx="482400" cy="482760"/>
                  <a:chOff x="5206680" y="4957560"/>
                  <a:chExt cx="482400" cy="48276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>
                    <a:off x="5206680" y="4957560"/>
                    <a:ext cx="482400" cy="48276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5246640" y="4973760"/>
                    <a:ext cx="40104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222222"/>
                        </a:solidFill>
                        <a:latin typeface="Arial"/>
                      </a:rPr>
                      <a:t>D</a:t>
                    </a:r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367" name=""/>
                <p:cNvSpPr/>
                <p:nvPr/>
              </p:nvSpPr>
              <p:spPr>
                <a:xfrm flipV="1">
                  <a:off x="4654440" y="5373720"/>
                  <a:ext cx="606240" cy="606240"/>
                </a:xfrm>
                <a:prstGeom prst="line">
                  <a:avLst/>
                </a:prstGeom>
                <a:ln w="5724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368" name=""/>
                <p:cNvGrpSpPr/>
                <p:nvPr/>
              </p:nvGrpSpPr>
              <p:grpSpPr>
                <a:xfrm>
                  <a:off x="4311360" y="4103640"/>
                  <a:ext cx="482760" cy="2195640"/>
                  <a:chOff x="4311360" y="4103640"/>
                  <a:chExt cx="482760" cy="2195640"/>
                </a:xfrm>
              </p:grpSpPr>
              <p:sp>
                <p:nvSpPr>
                  <p:cNvPr id="1369" name=""/>
                  <p:cNvSpPr/>
                  <p:nvPr/>
                </p:nvSpPr>
                <p:spPr>
                  <a:xfrm>
                    <a:off x="4311360" y="4103640"/>
                    <a:ext cx="482760" cy="48276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4361040" y="4118040"/>
                    <a:ext cx="40104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222222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4311360" y="5816520"/>
                    <a:ext cx="482760" cy="48276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4351320" y="5832360"/>
                    <a:ext cx="40104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222222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373" name=""/>
                <p:cNvSpPr/>
                <p:nvPr/>
              </p:nvSpPr>
              <p:spPr>
                <a:xfrm>
                  <a:off x="3808080" y="5343480"/>
                  <a:ext cx="536760" cy="536400"/>
                </a:xfrm>
                <a:prstGeom prst="line">
                  <a:avLst/>
                </a:prstGeom>
                <a:ln w="5724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374" name=""/>
                <p:cNvGrpSpPr/>
                <p:nvPr/>
              </p:nvGrpSpPr>
              <p:grpSpPr>
                <a:xfrm>
                  <a:off x="3422520" y="4959360"/>
                  <a:ext cx="482400" cy="482400"/>
                  <a:chOff x="3422520" y="4959360"/>
                  <a:chExt cx="482400" cy="482400"/>
                </a:xfrm>
              </p:grpSpPr>
              <p:sp>
                <p:nvSpPr>
                  <p:cNvPr id="1375" name=""/>
                  <p:cNvSpPr/>
                  <p:nvPr/>
                </p:nvSpPr>
                <p:spPr>
                  <a:xfrm>
                    <a:off x="3422520" y="4959360"/>
                    <a:ext cx="482400" cy="48240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3471840" y="4973400"/>
                    <a:ext cx="40104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222222"/>
                        </a:solidFill>
                        <a:latin typeface="Arial"/>
                      </a:rPr>
                      <a:t>A</a:t>
                    </a:r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sp>
        <p:nvSpPr>
          <p:cNvPr id="1377" name=""/>
          <p:cNvSpPr/>
          <p:nvPr/>
        </p:nvSpPr>
        <p:spPr>
          <a:xfrm>
            <a:off x="430200" y="61768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5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378" name=""/>
          <p:cNvSpPr/>
          <p:nvPr/>
        </p:nvSpPr>
        <p:spPr>
          <a:xfrm>
            <a:off x="7073280" y="3759120"/>
            <a:ext cx="1067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eeeeee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0.4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eeee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eeeeee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507960" y="1411200"/>
            <a:ext cx="8325000" cy="2271960"/>
            <a:chOff x="507960" y="1411200"/>
            <a:chExt cx="8325000" cy="2271960"/>
          </a:xfrm>
        </p:grpSpPr>
        <p:sp>
          <p:nvSpPr>
            <p:cNvPr id="1380" name=""/>
            <p:cNvSpPr/>
            <p:nvPr/>
          </p:nvSpPr>
          <p:spPr>
            <a:xfrm>
              <a:off x="507960" y="1411200"/>
              <a:ext cx="8325000" cy="2271960"/>
            </a:xfrm>
            <a:prstGeom prst="rect">
              <a:avLst/>
            </a:prstGeom>
            <a:solidFill>
              <a:srgbClr val="b3c4ef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5960" y="1565280"/>
              <a:ext cx="786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REMAININ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143000"/>
                  <a:tab algn="ctr" pos="3146400"/>
                  <a:tab algn="ctr" pos="4952880"/>
                  <a:tab algn="ctr" pos="6956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WORKSTATION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LEMEN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66880" y="2203560"/>
              <a:ext cx="6696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, C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, 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0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03400"/>
                  <a:tab algn="ctr" pos="3908520"/>
                  <a:tab algn="ctr" pos="5911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0.1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none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917640" y="2201760"/>
              <a:ext cx="761976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2906640" y="1595520"/>
            <a:ext cx="5772240" cy="2200320"/>
            <a:chOff x="2906640" y="1595520"/>
            <a:chExt cx="5772240" cy="2200320"/>
          </a:xfrm>
        </p:grpSpPr>
        <p:sp>
          <p:nvSpPr>
            <p:cNvPr id="1385" name=""/>
            <p:cNvSpPr/>
            <p:nvPr/>
          </p:nvSpPr>
          <p:spPr>
            <a:xfrm>
              <a:off x="2906640" y="1595520"/>
              <a:ext cx="5772240" cy="2200320"/>
            </a:xfrm>
            <a:prstGeom prst="rect">
              <a:avLst/>
            </a:prstGeom>
            <a:solidFill>
              <a:srgbClr val="ffcd70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3443400" y="2405160"/>
              <a:ext cx="4790880" cy="578880"/>
              <a:chOff x="3443400" y="2405160"/>
              <a:chExt cx="4790880" cy="578880"/>
            </a:xfrm>
          </p:grpSpPr>
          <p:sp>
            <p:nvSpPr>
              <p:cNvPr id="1387" name=""/>
              <p:cNvSpPr/>
              <p:nvPr/>
            </p:nvSpPr>
            <p:spPr>
              <a:xfrm>
                <a:off x="3443400" y="2695680"/>
                <a:ext cx="662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641840" y="2693880"/>
                <a:ext cx="776160" cy="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035760" y="2693880"/>
                <a:ext cx="776160" cy="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458120" y="2693880"/>
                <a:ext cx="776160" cy="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391" name=""/>
              <p:cNvGrpSpPr/>
              <p:nvPr/>
            </p:nvGrpSpPr>
            <p:grpSpPr>
              <a:xfrm>
                <a:off x="4024440" y="2405160"/>
                <a:ext cx="3538080" cy="578880"/>
                <a:chOff x="4024440" y="2405160"/>
                <a:chExt cx="3538080" cy="578880"/>
              </a:xfrm>
            </p:grpSpPr>
            <p:grpSp>
              <p:nvGrpSpPr>
                <p:cNvPr id="1392" name=""/>
                <p:cNvGrpSpPr/>
                <p:nvPr/>
              </p:nvGrpSpPr>
              <p:grpSpPr>
                <a:xfrm>
                  <a:off x="4024440" y="2405160"/>
                  <a:ext cx="718920" cy="577440"/>
                  <a:chOff x="4024440" y="2405160"/>
                  <a:chExt cx="718920" cy="577440"/>
                </a:xfrm>
              </p:grpSpPr>
              <p:sp>
                <p:nvSpPr>
                  <p:cNvPr id="1393" name=""/>
                  <p:cNvSpPr/>
                  <p:nvPr/>
                </p:nvSpPr>
                <p:spPr>
                  <a:xfrm>
                    <a:off x="4024440" y="2405160"/>
                    <a:ext cx="718920" cy="57744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4039560" y="2495520"/>
                    <a:ext cx="689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A, B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95" name=""/>
                <p:cNvGrpSpPr/>
                <p:nvPr/>
              </p:nvGrpSpPr>
              <p:grpSpPr>
                <a:xfrm>
                  <a:off x="5433840" y="2406600"/>
                  <a:ext cx="718920" cy="577440"/>
                  <a:chOff x="5433840" y="2406600"/>
                  <a:chExt cx="718920" cy="57744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433840" y="2406600"/>
                    <a:ext cx="718920" cy="57744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5611320" y="2496600"/>
                    <a:ext cx="365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C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98" name=""/>
                <p:cNvGrpSpPr/>
                <p:nvPr/>
              </p:nvGrpSpPr>
              <p:grpSpPr>
                <a:xfrm>
                  <a:off x="6843600" y="2405160"/>
                  <a:ext cx="718920" cy="577440"/>
                  <a:chOff x="6843600" y="2405160"/>
                  <a:chExt cx="718920" cy="577440"/>
                </a:xfrm>
              </p:grpSpPr>
              <p:sp>
                <p:nvSpPr>
                  <p:cNvPr id="1399" name=""/>
                  <p:cNvSpPr/>
                  <p:nvPr/>
                </p:nvSpPr>
                <p:spPr>
                  <a:xfrm>
                    <a:off x="6843600" y="2405160"/>
                    <a:ext cx="718920" cy="57744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7019280" y="2495160"/>
                    <a:ext cx="365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D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sp>
          <p:nvSpPr>
            <p:cNvPr id="1401" name=""/>
            <p:cNvSpPr/>
            <p:nvPr/>
          </p:nvSpPr>
          <p:spPr>
            <a:xfrm>
              <a:off x="3781440" y="1741320"/>
              <a:ext cx="11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Work station 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205240" y="1741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Work station 2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6160" y="1741320"/>
              <a:ext cx="114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Work station 3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87640" y="29908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0.3 minute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281560" y="2990880"/>
              <a:ext cx="104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0.4 minute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05720" y="29908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0.3 minute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1001880" y="4430880"/>
            <a:ext cx="6603840" cy="1608120"/>
            <a:chOff x="1001880" y="4430880"/>
            <a:chExt cx="6603840" cy="1608120"/>
          </a:xfrm>
        </p:grpSpPr>
        <p:sp>
          <p:nvSpPr>
            <p:cNvPr id="1408" name=""/>
            <p:cNvSpPr/>
            <p:nvPr/>
          </p:nvSpPr>
          <p:spPr>
            <a:xfrm>
              <a:off x="1001880" y="4430880"/>
              <a:ext cx="6603840" cy="1608120"/>
            </a:xfrm>
            <a:prstGeom prst="rect">
              <a:avLst/>
            </a:prstGeom>
            <a:solidFill>
              <a:srgbClr val="bea7e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1415880" y="4768920"/>
              <a:ext cx="5880600" cy="839880"/>
              <a:chOff x="1415880" y="4768920"/>
              <a:chExt cx="5880600" cy="839880"/>
            </a:xfrm>
          </p:grpSpPr>
          <p:sp>
            <p:nvSpPr>
              <p:cNvPr id="1410" name=""/>
              <p:cNvSpPr/>
              <p:nvPr/>
            </p:nvSpPr>
            <p:spPr>
              <a:xfrm>
                <a:off x="1415880" y="5000760"/>
                <a:ext cx="588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222222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 =                                     =          = 0.833 = 83.3%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411" name=""/>
              <p:cNvGrpSpPr/>
              <p:nvPr/>
            </p:nvGrpSpPr>
            <p:grpSpPr>
              <a:xfrm>
                <a:off x="1974240" y="4768920"/>
                <a:ext cx="3287160" cy="839880"/>
                <a:chOff x="1974240" y="4768920"/>
                <a:chExt cx="3287160" cy="839880"/>
              </a:xfrm>
            </p:grpSpPr>
            <p:grpSp>
              <p:nvGrpSpPr>
                <p:cNvPr id="1412" name=""/>
                <p:cNvGrpSpPr/>
                <p:nvPr/>
              </p:nvGrpSpPr>
              <p:grpSpPr>
                <a:xfrm>
                  <a:off x="1974240" y="4783320"/>
                  <a:ext cx="2463840" cy="825480"/>
                  <a:chOff x="1974240" y="4783320"/>
                  <a:chExt cx="2463840" cy="82548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1974240" y="4783320"/>
                    <a:ext cx="246384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0.1 + 0.2 + 0.3 + 0.4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3(0.4)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2044800" y="5208840"/>
                    <a:ext cx="2314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415" name=""/>
                <p:cNvGrpSpPr/>
                <p:nvPr/>
              </p:nvGrpSpPr>
              <p:grpSpPr>
                <a:xfrm>
                  <a:off x="4727160" y="4768920"/>
                  <a:ext cx="534240" cy="825480"/>
                  <a:chOff x="4727160" y="4768920"/>
                  <a:chExt cx="534240" cy="825480"/>
                </a:xfrm>
              </p:grpSpPr>
              <p:sp>
                <p:nvSpPr>
                  <p:cNvPr id="1416" name=""/>
                  <p:cNvSpPr/>
                  <p:nvPr/>
                </p:nvSpPr>
                <p:spPr>
                  <a:xfrm>
                    <a:off x="4727160" y="4768920"/>
                    <a:ext cx="53424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1.0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1.2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4768920" y="5208840"/>
                    <a:ext cx="423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</p:spTree>
  </p:cSld>
  <p:transition spd="med"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omputerized Line Balancing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41320" y="2417760"/>
            <a:ext cx="7486560" cy="34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se heuristics to assign tasks to workstation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anked positional weigh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ongest operation tim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hortest operation tim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ost number of following task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east number of following task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Hybrid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897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ellular layou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Group machines into machining cell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lexible manufacturing system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utomated machining &amp; material handling system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Mixed-model assembly lin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duce variety of models on one lin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ellular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01200" y="1841040"/>
            <a:ext cx="58388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9520" indent="-479520">
              <a:spcBef>
                <a:spcPts val="700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Identify families of parts with similar flow path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00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Group machines into cells based on part familie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00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rrange cells so material movement is minimized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00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ocate large shared machines at point of us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6357960" y="2147760"/>
            <a:ext cx="2253600" cy="2750400"/>
            <a:chOff x="6357960" y="2147760"/>
            <a:chExt cx="2253600" cy="2750400"/>
          </a:xfrm>
        </p:grpSpPr>
        <p:grpSp>
          <p:nvGrpSpPr>
            <p:cNvPr id="1425" name=""/>
            <p:cNvGrpSpPr/>
            <p:nvPr/>
          </p:nvGrpSpPr>
          <p:grpSpPr>
            <a:xfrm>
              <a:off x="6357960" y="3109680"/>
              <a:ext cx="588960" cy="559440"/>
              <a:chOff x="6357960" y="3109680"/>
              <a:chExt cx="588960" cy="559440"/>
            </a:xfrm>
          </p:grpSpPr>
          <p:sp>
            <p:nvSpPr>
              <p:cNvPr id="1426" name=""/>
              <p:cNvSpPr/>
              <p:nvPr/>
            </p:nvSpPr>
            <p:spPr>
              <a:xfrm>
                <a:off x="6357960" y="3285720"/>
                <a:ext cx="588960" cy="383400"/>
              </a:xfrm>
              <a:prstGeom prst="rect">
                <a:avLst/>
              </a:prstGeom>
              <a:solidFill>
                <a:srgbClr val="15a5ad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54880" y="3109680"/>
                <a:ext cx="211680" cy="21312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8175600" y="2998080"/>
              <a:ext cx="435960" cy="783000"/>
              <a:chOff x="8175600" y="2998080"/>
              <a:chExt cx="435960" cy="783000"/>
            </a:xfrm>
          </p:grpSpPr>
          <p:sp>
            <p:nvSpPr>
              <p:cNvPr id="1429" name=""/>
              <p:cNvSpPr/>
              <p:nvPr/>
            </p:nvSpPr>
            <p:spPr>
              <a:xfrm>
                <a:off x="8284320" y="2998080"/>
                <a:ext cx="327240" cy="783000"/>
              </a:xfrm>
              <a:prstGeom prst="rect">
                <a:avLst/>
              </a:prstGeom>
              <a:solidFill>
                <a:srgbClr val="15a5ad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175600" y="3121200"/>
                <a:ext cx="211320" cy="526320"/>
              </a:xfrm>
              <a:prstGeom prst="rect">
                <a:avLst/>
              </a:prstGeom>
              <a:solidFill>
                <a:srgbClr val="49e1e9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6359400" y="4324680"/>
              <a:ext cx="588960" cy="573480"/>
              <a:chOff x="6359400" y="4324680"/>
              <a:chExt cx="588960" cy="573480"/>
            </a:xfrm>
          </p:grpSpPr>
          <p:sp>
            <p:nvSpPr>
              <p:cNvPr id="1432" name=""/>
              <p:cNvSpPr/>
              <p:nvPr/>
            </p:nvSpPr>
            <p:spPr>
              <a:xfrm>
                <a:off x="6359400" y="4324680"/>
                <a:ext cx="588960" cy="487440"/>
              </a:xfrm>
              <a:prstGeom prst="rect">
                <a:avLst/>
              </a:prstGeom>
              <a:solidFill>
                <a:srgbClr val="15a5ad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539760" y="4399200"/>
                <a:ext cx="211680" cy="498960"/>
              </a:xfrm>
              <a:prstGeom prst="rect">
                <a:avLst/>
              </a:prstGeom>
              <a:solidFill>
                <a:srgbClr val="49e1e9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8230680" y="4420440"/>
              <a:ext cx="327240" cy="383400"/>
              <a:chOff x="8230680" y="4420440"/>
              <a:chExt cx="327240" cy="383400"/>
            </a:xfrm>
          </p:grpSpPr>
          <p:sp>
            <p:nvSpPr>
              <p:cNvPr id="1435" name=""/>
              <p:cNvSpPr/>
              <p:nvPr/>
            </p:nvSpPr>
            <p:spPr>
              <a:xfrm>
                <a:off x="8230680" y="4420440"/>
                <a:ext cx="327240" cy="383400"/>
              </a:xfrm>
              <a:prstGeom prst="rect">
                <a:avLst/>
              </a:prstGeom>
              <a:solidFill>
                <a:srgbClr val="15a5ad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01960" y="4516200"/>
                <a:ext cx="191520" cy="203400"/>
              </a:xfrm>
              <a:prstGeom prst="ellipse">
                <a:avLst/>
              </a:prstGeom>
              <a:solidFill>
                <a:srgbClr val="49e1e9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7092360" y="2147760"/>
              <a:ext cx="716040" cy="650160"/>
              <a:chOff x="7092360" y="2147760"/>
              <a:chExt cx="716040" cy="650160"/>
            </a:xfrm>
          </p:grpSpPr>
          <p:sp>
            <p:nvSpPr>
              <p:cNvPr id="1438" name=""/>
              <p:cNvSpPr/>
              <p:nvPr/>
            </p:nvSpPr>
            <p:spPr>
              <a:xfrm>
                <a:off x="7092360" y="2221920"/>
                <a:ext cx="589320" cy="576000"/>
              </a:xfrm>
              <a:prstGeom prst="rect">
                <a:avLst/>
              </a:prstGeom>
              <a:solidFill>
                <a:srgbClr val="15a5ad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298640" y="2147760"/>
                <a:ext cx="509760" cy="381960"/>
              </a:xfrm>
              <a:prstGeom prst="rect">
                <a:avLst/>
              </a:prstGeom>
              <a:solidFill>
                <a:srgbClr val="49e1e9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329960" y="2521800"/>
                <a:ext cx="465480" cy="234720"/>
              </a:xfrm>
              <a:custGeom>
                <a:avLst/>
                <a:gdLst>
                  <a:gd name="textAreaLeft" fmla="*/ 102240 w 465480"/>
                  <a:gd name="textAreaRight" fmla="*/ 363240 w 465480"/>
                  <a:gd name="textAreaTop" fmla="*/ 51480 h 234720"/>
                  <a:gd name="textAreaBottom" fmla="*/ 183240 h 2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ffcc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7197840" y="3091680"/>
              <a:ext cx="608760" cy="1620000"/>
              <a:chOff x="7197840" y="3091680"/>
              <a:chExt cx="608760" cy="1620000"/>
            </a:xfrm>
          </p:grpSpPr>
          <p:sp>
            <p:nvSpPr>
              <p:cNvPr id="1442" name=""/>
              <p:cNvSpPr/>
              <p:nvPr/>
            </p:nvSpPr>
            <p:spPr>
              <a:xfrm>
                <a:off x="7197840" y="3091680"/>
                <a:ext cx="608760" cy="542880"/>
              </a:xfrm>
              <a:custGeom>
                <a:avLst/>
                <a:gdLst>
                  <a:gd name="textAreaLeft" fmla="*/ 0 w 608760"/>
                  <a:gd name="textAreaRight" fmla="*/ 609120 w 608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199280" y="3363840"/>
                <a:ext cx="150840" cy="1347840"/>
              </a:xfrm>
              <a:prstGeom prst="rect">
                <a:avLst/>
              </a:prstGeom>
              <a:solidFill>
                <a:srgbClr val="f87f66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210080" y="3358080"/>
                <a:ext cx="13428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pull dir="l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350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arts Famili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Process Layout in Service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35040" y="2328840"/>
            <a:ext cx="6070680" cy="3049560"/>
            <a:chOff x="1535040" y="2328840"/>
            <a:chExt cx="6070680" cy="3049560"/>
          </a:xfrm>
        </p:grpSpPr>
        <p:sp>
          <p:nvSpPr>
            <p:cNvPr id="59" name=""/>
            <p:cNvSpPr/>
            <p:nvPr/>
          </p:nvSpPr>
          <p:spPr>
            <a:xfrm>
              <a:off x="1538280" y="2328840"/>
              <a:ext cx="6067440" cy="3048120"/>
            </a:xfrm>
            <a:prstGeom prst="rect">
              <a:avLst/>
            </a:prstGeom>
            <a:solidFill>
              <a:srgbClr val="b3c4ef"/>
            </a:solidFill>
            <a:ln w="38160">
              <a:solidFill>
                <a:srgbClr val="222222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676520" y="2521080"/>
              <a:ext cx="5715000" cy="2582640"/>
              <a:chOff x="1676520" y="2521080"/>
              <a:chExt cx="5715000" cy="2582640"/>
            </a:xfrm>
          </p:grpSpPr>
          <p:sp>
            <p:nvSpPr>
              <p:cNvPr id="61" name=""/>
              <p:cNvSpPr/>
              <p:nvPr/>
            </p:nvSpPr>
            <p:spPr>
              <a:xfrm>
                <a:off x="1795320" y="2521080"/>
                <a:ext cx="13608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Women’s lingerie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39880" y="3519360"/>
                <a:ext cx="146988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Women’s dresse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76520" y="4572000"/>
                <a:ext cx="1598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Women’s sportswear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33880" y="2630520"/>
                <a:ext cx="7887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Shoe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781440" y="3517920"/>
                <a:ext cx="14940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Cosmetics and jewelry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95760" y="4572000"/>
                <a:ext cx="16668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Entry and display area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88880" y="2630520"/>
                <a:ext cx="1374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Houseware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61080" y="3517920"/>
                <a:ext cx="163044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Children’s department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51440" y="4572000"/>
                <a:ext cx="144936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Men’s department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3484440" y="2330280"/>
              <a:ext cx="0" cy="304812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00800" y="2330280"/>
              <a:ext cx="0" cy="303372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5040" y="3301920"/>
              <a:ext cx="606744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35040" y="4343400"/>
              <a:ext cx="606744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8280" y="6081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1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350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arts Famili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563400" y="1887480"/>
            <a:ext cx="8102520" cy="4248720"/>
            <a:chOff x="563400" y="1887480"/>
            <a:chExt cx="8102520" cy="4248720"/>
          </a:xfrm>
        </p:grpSpPr>
        <p:pic>
          <p:nvPicPr>
            <p:cNvPr id="1448" name="" descr=""/>
            <p:cNvPicPr/>
            <p:nvPr/>
          </p:nvPicPr>
          <p:blipFill>
            <a:blip r:embed="rId1"/>
            <a:stretch/>
          </p:blipFill>
          <p:spPr>
            <a:xfrm>
              <a:off x="563400" y="1887480"/>
              <a:ext cx="810252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1430280" y="5432400"/>
              <a:ext cx="2152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 family of similar part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62360" y="5432400"/>
              <a:ext cx="239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A family of related grocery items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419040" y="62182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7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73200" y="58104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Original 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73200" y="58104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Original Process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1521000" y="1806480"/>
            <a:ext cx="6310080" cy="4224600"/>
            <a:chOff x="1521000" y="1806480"/>
            <a:chExt cx="6310080" cy="4224600"/>
          </a:xfrm>
        </p:grpSpPr>
        <p:grpSp>
          <p:nvGrpSpPr>
            <p:cNvPr id="1455" name=""/>
            <p:cNvGrpSpPr/>
            <p:nvPr/>
          </p:nvGrpSpPr>
          <p:grpSpPr>
            <a:xfrm>
              <a:off x="1521000" y="1806480"/>
              <a:ext cx="6310080" cy="4224600"/>
              <a:chOff x="1521000" y="1806480"/>
              <a:chExt cx="6310080" cy="4224600"/>
            </a:xfrm>
          </p:grpSpPr>
          <p:sp>
            <p:nvSpPr>
              <p:cNvPr id="1456" name=""/>
              <p:cNvSpPr/>
              <p:nvPr/>
            </p:nvSpPr>
            <p:spPr>
              <a:xfrm>
                <a:off x="1523880" y="1806480"/>
                <a:ext cx="6307200" cy="4205520"/>
              </a:xfrm>
              <a:prstGeom prst="rect">
                <a:avLst/>
              </a:prstGeom>
              <a:solidFill>
                <a:srgbClr val="ffcd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V="1">
                <a:off x="6715080" y="2198520"/>
                <a:ext cx="0" cy="66384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788160" y="2216160"/>
                <a:ext cx="534960" cy="2044800"/>
              </a:xfrm>
              <a:custGeom>
                <a:avLst/>
                <a:gdLst/>
                <a:ahLst/>
                <a:rect l="l" t="t" r="r" b="b"/>
                <a:pathLst>
                  <a:path w="337" h="1288">
                    <a:moveTo>
                      <a:pt x="0" y="1288"/>
                    </a:moveTo>
                    <a:cubicBezTo>
                      <a:pt x="43" y="1221"/>
                      <a:pt x="87" y="1155"/>
                      <a:pt x="133" y="1057"/>
                    </a:cubicBezTo>
                    <a:cubicBezTo>
                      <a:pt x="179" y="959"/>
                      <a:pt x="244" y="819"/>
                      <a:pt x="275" y="702"/>
                    </a:cubicBezTo>
                    <a:cubicBezTo>
                      <a:pt x="306" y="585"/>
                      <a:pt x="310" y="472"/>
                      <a:pt x="320" y="355"/>
                    </a:cubicBezTo>
                    <a:cubicBezTo>
                      <a:pt x="330" y="238"/>
                      <a:pt x="336" y="59"/>
                      <a:pt x="337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376960" y="2930400"/>
                <a:ext cx="1082520" cy="1866960"/>
              </a:xfrm>
              <a:custGeom>
                <a:avLst/>
                <a:gdLst/>
                <a:ahLst/>
                <a:rect l="l" t="t" r="r" b="b"/>
                <a:pathLst>
                  <a:path w="682" h="1176">
                    <a:moveTo>
                      <a:pt x="0" y="56"/>
                    </a:moveTo>
                    <a:cubicBezTo>
                      <a:pt x="58" y="28"/>
                      <a:pt x="117" y="0"/>
                      <a:pt x="195" y="3"/>
                    </a:cubicBezTo>
                    <a:cubicBezTo>
                      <a:pt x="273" y="6"/>
                      <a:pt x="394" y="19"/>
                      <a:pt x="471" y="74"/>
                    </a:cubicBezTo>
                    <a:cubicBezTo>
                      <a:pt x="548" y="129"/>
                      <a:pt x="632" y="215"/>
                      <a:pt x="657" y="332"/>
                    </a:cubicBezTo>
                    <a:cubicBezTo>
                      <a:pt x="682" y="449"/>
                      <a:pt x="653" y="635"/>
                      <a:pt x="622" y="776"/>
                    </a:cubicBezTo>
                    <a:cubicBezTo>
                      <a:pt x="591" y="917"/>
                      <a:pt x="531" y="1046"/>
                      <a:pt x="471" y="117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208560" y="4614840"/>
                <a:ext cx="606600" cy="401760"/>
              </a:xfrm>
              <a:custGeom>
                <a:avLst/>
                <a:gdLst/>
                <a:ahLst/>
                <a:rect l="l" t="t" r="r" b="b"/>
                <a:pathLst>
                  <a:path w="382" h="253">
                    <a:moveTo>
                      <a:pt x="0" y="249"/>
                    </a:moveTo>
                    <a:cubicBezTo>
                      <a:pt x="70" y="251"/>
                      <a:pt x="140" y="253"/>
                      <a:pt x="196" y="231"/>
                    </a:cubicBezTo>
                    <a:cubicBezTo>
                      <a:pt x="252" y="209"/>
                      <a:pt x="307" y="153"/>
                      <a:pt x="338" y="115"/>
                    </a:cubicBezTo>
                    <a:cubicBezTo>
                      <a:pt x="369" y="77"/>
                      <a:pt x="375" y="38"/>
                      <a:pt x="38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545080" y="3922560"/>
                <a:ext cx="480960" cy="465120"/>
              </a:xfrm>
              <a:custGeom>
                <a:avLst/>
                <a:gdLst/>
                <a:ahLst/>
                <a:rect l="l" t="t" r="r" b="b"/>
                <a:pathLst>
                  <a:path w="303" h="293">
                    <a:moveTo>
                      <a:pt x="303" y="0"/>
                    </a:moveTo>
                    <a:cubicBezTo>
                      <a:pt x="290" y="49"/>
                      <a:pt x="277" y="99"/>
                      <a:pt x="258" y="142"/>
                    </a:cubicBezTo>
                    <a:cubicBezTo>
                      <a:pt x="239" y="185"/>
                      <a:pt x="230" y="233"/>
                      <a:pt x="187" y="258"/>
                    </a:cubicBezTo>
                    <a:cubicBezTo>
                      <a:pt x="144" y="283"/>
                      <a:pt x="72" y="288"/>
                      <a:pt x="0" y="293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707000" y="2216160"/>
                <a:ext cx="627120" cy="2058840"/>
              </a:xfrm>
              <a:custGeom>
                <a:avLst/>
                <a:gdLst/>
                <a:ahLst/>
                <a:rect l="l" t="t" r="r" b="b"/>
                <a:pathLst>
                  <a:path w="395" h="1297">
                    <a:moveTo>
                      <a:pt x="395" y="1297"/>
                    </a:moveTo>
                    <a:cubicBezTo>
                      <a:pt x="321" y="1223"/>
                      <a:pt x="247" y="1149"/>
                      <a:pt x="191" y="1048"/>
                    </a:cubicBezTo>
                    <a:cubicBezTo>
                      <a:pt x="135" y="947"/>
                      <a:pt x="88" y="807"/>
                      <a:pt x="57" y="693"/>
                    </a:cubicBezTo>
                    <a:cubicBezTo>
                      <a:pt x="26" y="579"/>
                      <a:pt x="8" y="479"/>
                      <a:pt x="4" y="364"/>
                    </a:cubicBezTo>
                    <a:cubicBezTo>
                      <a:pt x="0" y="249"/>
                      <a:pt x="15" y="124"/>
                      <a:pt x="31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894120" y="2963880"/>
                <a:ext cx="2766960" cy="487440"/>
              </a:xfrm>
              <a:custGeom>
                <a:avLst/>
                <a:gdLst/>
                <a:ahLst/>
                <a:rect l="l" t="t" r="r" b="b"/>
                <a:pathLst>
                  <a:path w="1743" h="307">
                    <a:moveTo>
                      <a:pt x="0" y="0"/>
                    </a:moveTo>
                    <a:cubicBezTo>
                      <a:pt x="168" y="103"/>
                      <a:pt x="337" y="207"/>
                      <a:pt x="516" y="257"/>
                    </a:cubicBezTo>
                    <a:cubicBezTo>
                      <a:pt x="695" y="307"/>
                      <a:pt x="909" y="305"/>
                      <a:pt x="1076" y="302"/>
                    </a:cubicBezTo>
                    <a:cubicBezTo>
                      <a:pt x="1243" y="299"/>
                      <a:pt x="1409" y="267"/>
                      <a:pt x="1520" y="240"/>
                    </a:cubicBezTo>
                    <a:cubicBezTo>
                      <a:pt x="1631" y="213"/>
                      <a:pt x="1687" y="177"/>
                      <a:pt x="1743" y="14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355840" y="2949480"/>
                <a:ext cx="3402000" cy="846360"/>
              </a:xfrm>
              <a:custGeom>
                <a:avLst/>
                <a:gdLst/>
                <a:ahLst/>
                <a:rect l="l" t="t" r="r" b="b"/>
                <a:pathLst>
                  <a:path w="2143" h="533">
                    <a:moveTo>
                      <a:pt x="0" y="0"/>
                    </a:moveTo>
                    <a:cubicBezTo>
                      <a:pt x="59" y="47"/>
                      <a:pt x="119" y="95"/>
                      <a:pt x="223" y="142"/>
                    </a:cubicBezTo>
                    <a:cubicBezTo>
                      <a:pt x="327" y="189"/>
                      <a:pt x="428" y="232"/>
                      <a:pt x="623" y="284"/>
                    </a:cubicBezTo>
                    <a:cubicBezTo>
                      <a:pt x="818" y="336"/>
                      <a:pt x="1143" y="412"/>
                      <a:pt x="1396" y="453"/>
                    </a:cubicBezTo>
                    <a:cubicBezTo>
                      <a:pt x="1649" y="494"/>
                      <a:pt x="1896" y="513"/>
                      <a:pt x="2143" y="533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978280" y="3189240"/>
                <a:ext cx="2171520" cy="450720"/>
              </a:xfrm>
              <a:custGeom>
                <a:avLst/>
                <a:gdLst/>
                <a:ahLst/>
                <a:rect l="l" t="t" r="r" b="b"/>
                <a:pathLst>
                  <a:path w="1368" h="284">
                    <a:moveTo>
                      <a:pt x="0" y="284"/>
                    </a:moveTo>
                    <a:cubicBezTo>
                      <a:pt x="25" y="249"/>
                      <a:pt x="50" y="215"/>
                      <a:pt x="106" y="187"/>
                    </a:cubicBezTo>
                    <a:cubicBezTo>
                      <a:pt x="162" y="159"/>
                      <a:pt x="220" y="134"/>
                      <a:pt x="337" y="115"/>
                    </a:cubicBezTo>
                    <a:cubicBezTo>
                      <a:pt x="454" y="96"/>
                      <a:pt x="675" y="77"/>
                      <a:pt x="808" y="71"/>
                    </a:cubicBezTo>
                    <a:cubicBezTo>
                      <a:pt x="941" y="65"/>
                      <a:pt x="1056" y="83"/>
                      <a:pt x="1137" y="80"/>
                    </a:cubicBezTo>
                    <a:cubicBezTo>
                      <a:pt x="1218" y="77"/>
                      <a:pt x="1258" y="66"/>
                      <a:pt x="1297" y="53"/>
                    </a:cubicBezTo>
                    <a:cubicBezTo>
                      <a:pt x="1336" y="40"/>
                      <a:pt x="1352" y="20"/>
                      <a:pt x="136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3670200" y="5202000"/>
                <a:ext cx="0" cy="47916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144880" y="3203640"/>
                <a:ext cx="833400" cy="1044360"/>
              </a:xfrm>
              <a:custGeom>
                <a:avLst/>
                <a:gdLst/>
                <a:ahLst/>
                <a:rect l="l" t="t" r="r" b="b"/>
                <a:pathLst>
                  <a:path w="525" h="658">
                    <a:moveTo>
                      <a:pt x="525" y="658"/>
                    </a:moveTo>
                    <a:cubicBezTo>
                      <a:pt x="414" y="600"/>
                      <a:pt x="304" y="542"/>
                      <a:pt x="231" y="489"/>
                    </a:cubicBezTo>
                    <a:cubicBezTo>
                      <a:pt x="158" y="436"/>
                      <a:pt x="124" y="390"/>
                      <a:pt x="89" y="338"/>
                    </a:cubicBezTo>
                    <a:cubicBezTo>
                      <a:pt x="54" y="286"/>
                      <a:pt x="33" y="234"/>
                      <a:pt x="18" y="178"/>
                    </a:cubicBezTo>
                    <a:cubicBezTo>
                      <a:pt x="3" y="122"/>
                      <a:pt x="1" y="61"/>
                      <a:pt x="0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130480" y="4406760"/>
                <a:ext cx="565200" cy="462240"/>
              </a:xfrm>
              <a:custGeom>
                <a:avLst/>
                <a:gdLst/>
                <a:ahLst/>
                <a:rect l="l" t="t" r="r" b="b"/>
                <a:pathLst>
                  <a:path w="356" h="291">
                    <a:moveTo>
                      <a:pt x="0" y="291"/>
                    </a:moveTo>
                    <a:cubicBezTo>
                      <a:pt x="12" y="222"/>
                      <a:pt x="24" y="154"/>
                      <a:pt x="45" y="113"/>
                    </a:cubicBezTo>
                    <a:cubicBezTo>
                      <a:pt x="66" y="72"/>
                      <a:pt x="96" y="60"/>
                      <a:pt x="125" y="42"/>
                    </a:cubicBezTo>
                    <a:cubicBezTo>
                      <a:pt x="154" y="24"/>
                      <a:pt x="183" y="12"/>
                      <a:pt x="222" y="6"/>
                    </a:cubicBezTo>
                    <a:cubicBezTo>
                      <a:pt x="261" y="0"/>
                      <a:pt x="308" y="3"/>
                      <a:pt x="356" y="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906640" y="3867120"/>
                <a:ext cx="517680" cy="1833480"/>
              </a:xfrm>
              <a:custGeom>
                <a:avLst/>
                <a:gdLst/>
                <a:ahLst/>
                <a:rect l="l" t="t" r="r" b="b"/>
                <a:pathLst>
                  <a:path w="326" h="1155">
                    <a:moveTo>
                      <a:pt x="0" y="1155"/>
                    </a:moveTo>
                    <a:cubicBezTo>
                      <a:pt x="76" y="1054"/>
                      <a:pt x="153" y="954"/>
                      <a:pt x="205" y="844"/>
                    </a:cubicBezTo>
                    <a:cubicBezTo>
                      <a:pt x="257" y="734"/>
                      <a:pt x="296" y="612"/>
                      <a:pt x="311" y="497"/>
                    </a:cubicBezTo>
                    <a:cubicBezTo>
                      <a:pt x="326" y="382"/>
                      <a:pt x="312" y="234"/>
                      <a:pt x="293" y="151"/>
                    </a:cubicBezTo>
                    <a:cubicBezTo>
                      <a:pt x="274" y="68"/>
                      <a:pt x="235" y="34"/>
                      <a:pt x="196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3668760" y="3203640"/>
                <a:ext cx="0" cy="1650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502160" y="2216160"/>
                <a:ext cx="0" cy="341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523880" y="4092480"/>
                <a:ext cx="629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V="1">
                <a:off x="2149560" y="5221080"/>
                <a:ext cx="0" cy="479160"/>
              </a:xfrm>
              <a:prstGeom prst="line">
                <a:avLst/>
              </a:prstGeom>
              <a:ln w="5724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521000" y="5635800"/>
                <a:ext cx="6306840" cy="395280"/>
              </a:xfrm>
              <a:prstGeom prst="rect">
                <a:avLst/>
              </a:prstGeom>
              <a:solidFill>
                <a:srgbClr val="15a5a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23880" y="1806480"/>
                <a:ext cx="6307200" cy="395280"/>
              </a:xfrm>
              <a:prstGeom prst="rect">
                <a:avLst/>
              </a:prstGeom>
              <a:solidFill>
                <a:srgbClr val="15a5a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676600" y="4200480"/>
                <a:ext cx="507960" cy="42408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676600" y="3578400"/>
                <a:ext cx="507960" cy="42372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469200" y="2771640"/>
                <a:ext cx="507960" cy="42408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759280" y="3571920"/>
                <a:ext cx="508320" cy="42372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938840" y="2765520"/>
                <a:ext cx="507960" cy="42372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414600" y="2776680"/>
                <a:ext cx="507960" cy="42372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895400" y="4776840"/>
                <a:ext cx="507960" cy="42372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16400" y="4789440"/>
                <a:ext cx="507960" cy="42408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578640" y="4179960"/>
                <a:ext cx="507960" cy="42372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37120" y="4205160"/>
                <a:ext cx="507960" cy="42408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740560" y="4794120"/>
                <a:ext cx="507960" cy="42408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895400" y="2765520"/>
                <a:ext cx="507960" cy="423720"/>
              </a:xfrm>
              <a:prstGeom prst="rect">
                <a:avLst/>
              </a:prstGeom>
              <a:solidFill>
                <a:srgbClr val="f87f66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23880" y="4102200"/>
                <a:ext cx="628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4508640" y="2195640"/>
                <a:ext cx="0" cy="344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495960" y="5651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976760" y="5651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757600" y="5651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960360" y="565164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Raw materials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47480" y="182088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Assembly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495" name=""/>
            <p:cNvSpPr/>
            <p:nvPr/>
          </p:nvSpPr>
          <p:spPr>
            <a:xfrm>
              <a:off x="1991160" y="481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781720" y="4232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513600" y="48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991160" y="279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781720" y="361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515040" y="280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38920" y="2795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856480" y="3611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561360" y="2795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074200" y="4233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766480" y="4827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12480" y="4191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335160" y="6288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8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757080" y="52524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art Routing Matrix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843120" y="1579680"/>
            <a:ext cx="7494480" cy="4529160"/>
            <a:chOff x="843120" y="1579680"/>
            <a:chExt cx="7494480" cy="4529160"/>
          </a:xfrm>
        </p:grpSpPr>
        <p:sp>
          <p:nvSpPr>
            <p:cNvPr id="1510" name=""/>
            <p:cNvSpPr/>
            <p:nvPr/>
          </p:nvSpPr>
          <p:spPr>
            <a:xfrm>
              <a:off x="843120" y="1579680"/>
              <a:ext cx="7493040" cy="4529160"/>
            </a:xfrm>
            <a:prstGeom prst="rect">
              <a:avLst/>
            </a:prstGeom>
            <a:solidFill>
              <a:srgbClr val="ffcd7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46360" y="1581480"/>
              <a:ext cx="1425600" cy="4524120"/>
            </a:xfrm>
            <a:prstGeom prst="rect">
              <a:avLst/>
            </a:prstGeom>
            <a:solidFill>
              <a:srgbClr val="15a5ad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46360" y="1579680"/>
              <a:ext cx="7491240" cy="1003320"/>
            </a:xfrm>
            <a:prstGeom prst="rect">
              <a:avLst/>
            </a:prstGeom>
            <a:solidFill>
              <a:srgbClr val="15a5a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71960" y="1586160"/>
              <a:ext cx="0" cy="451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123200" y="1721160"/>
              <a:ext cx="7023600" cy="42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Machine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Parts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7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8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9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10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11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B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C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E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F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ctr" pos="380880"/>
                  <a:tab algn="ctr" pos="1425600"/>
                  <a:tab algn="ctr" pos="1905120"/>
                  <a:tab algn="ctr" pos="2384280"/>
                  <a:tab algn="ctr" pos="2863800"/>
                  <a:tab algn="ctr" pos="3330720"/>
                  <a:tab algn="ctr" pos="3809880"/>
                  <a:tab algn="ctr" pos="4289400"/>
                  <a:tab algn="ctr" pos="4768920"/>
                  <a:tab algn="ctr" pos="5235480"/>
                  <a:tab algn="ctr" pos="5715000"/>
                  <a:tab algn="ctr" pos="6194520"/>
                  <a:tab algn="ctr" pos="6673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222222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335160" y="6288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8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vised Cellular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vised Cellular Layou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35160" y="6288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9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835280" y="1684440"/>
            <a:ext cx="5743440" cy="4492440"/>
            <a:chOff x="1835280" y="1684440"/>
            <a:chExt cx="5743440" cy="4492440"/>
          </a:xfrm>
        </p:grpSpPr>
        <p:grpSp>
          <p:nvGrpSpPr>
            <p:cNvPr id="1520" name=""/>
            <p:cNvGrpSpPr/>
            <p:nvPr/>
          </p:nvGrpSpPr>
          <p:grpSpPr>
            <a:xfrm>
              <a:off x="1835280" y="1684440"/>
              <a:ext cx="5743440" cy="4492440"/>
              <a:chOff x="1835280" y="1684440"/>
              <a:chExt cx="5743440" cy="4492440"/>
            </a:xfrm>
          </p:grpSpPr>
          <p:sp>
            <p:nvSpPr>
              <p:cNvPr id="1521" name=""/>
              <p:cNvSpPr/>
              <p:nvPr/>
            </p:nvSpPr>
            <p:spPr>
              <a:xfrm>
                <a:off x="1836720" y="2216160"/>
                <a:ext cx="5740560" cy="3244680"/>
              </a:xfrm>
              <a:prstGeom prst="rect">
                <a:avLst/>
              </a:prstGeom>
              <a:solidFill>
                <a:srgbClr val="ffcd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35280" y="1684440"/>
                <a:ext cx="5742000" cy="534960"/>
              </a:xfrm>
              <a:prstGeom prst="rect">
                <a:avLst/>
              </a:prstGeom>
              <a:solidFill>
                <a:srgbClr val="15a5a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523" name=""/>
              <p:cNvGrpSpPr/>
              <p:nvPr/>
            </p:nvGrpSpPr>
            <p:grpSpPr>
              <a:xfrm>
                <a:off x="4898880" y="2241360"/>
                <a:ext cx="436680" cy="3637080"/>
                <a:chOff x="4898880" y="2241360"/>
                <a:chExt cx="436680" cy="3637080"/>
              </a:xfrm>
            </p:grpSpPr>
            <p:sp>
              <p:nvSpPr>
                <p:cNvPr id="1524" name=""/>
                <p:cNvSpPr/>
                <p:nvPr/>
              </p:nvSpPr>
              <p:spPr>
                <a:xfrm flipV="1">
                  <a:off x="5116680" y="4092480"/>
                  <a:ext cx="0" cy="704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V="1">
                  <a:off x="5116680" y="2241360"/>
                  <a:ext cx="0" cy="393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V="1">
                  <a:off x="5118120" y="5173560"/>
                  <a:ext cx="0" cy="704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V="1">
                  <a:off x="5118120" y="2984400"/>
                  <a:ext cx="0" cy="704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898880" y="4735440"/>
                  <a:ext cx="436680" cy="438120"/>
                  <a:chOff x="4898880" y="4735440"/>
                  <a:chExt cx="436680" cy="4381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898880" y="473544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962960" y="47703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4898880" y="3638520"/>
                  <a:ext cx="436680" cy="438120"/>
                  <a:chOff x="4898880" y="3638520"/>
                  <a:chExt cx="436680" cy="43812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4898880" y="363852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4964400" y="36734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4898880" y="2532240"/>
                  <a:ext cx="436680" cy="438120"/>
                  <a:chOff x="4898880" y="2532240"/>
                  <a:chExt cx="436680" cy="43812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4898880" y="253224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4962960" y="25671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9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1537" name=""/>
              <p:cNvSpPr/>
              <p:nvPr/>
            </p:nvSpPr>
            <p:spPr>
              <a:xfrm>
                <a:off x="4101480" y="177624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Assembly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538" name=""/>
              <p:cNvGrpSpPr/>
              <p:nvPr/>
            </p:nvGrpSpPr>
            <p:grpSpPr>
              <a:xfrm>
                <a:off x="2173320" y="2241720"/>
                <a:ext cx="2523960" cy="3321000"/>
                <a:chOff x="2173320" y="2241720"/>
                <a:chExt cx="2523960" cy="332100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4302000" y="4957920"/>
                  <a:ext cx="395280" cy="604800"/>
                </a:xfrm>
                <a:custGeom>
                  <a:avLst/>
                  <a:gdLst/>
                  <a:ahLst/>
                  <a:rect l="l" t="t" r="r" b="b"/>
                  <a:pathLst>
                    <a:path w="249" h="381">
                      <a:moveTo>
                        <a:pt x="244" y="381"/>
                      </a:moveTo>
                      <a:cubicBezTo>
                        <a:pt x="246" y="331"/>
                        <a:pt x="249" y="281"/>
                        <a:pt x="244" y="237"/>
                      </a:cubicBezTo>
                      <a:cubicBezTo>
                        <a:pt x="239" y="193"/>
                        <a:pt x="227" y="151"/>
                        <a:pt x="212" y="117"/>
                      </a:cubicBezTo>
                      <a:cubicBezTo>
                        <a:pt x="197" y="83"/>
                        <a:pt x="173" y="52"/>
                        <a:pt x="156" y="33"/>
                      </a:cubicBezTo>
                      <a:cubicBezTo>
                        <a:pt x="139" y="14"/>
                        <a:pt x="134" y="10"/>
                        <a:pt x="108" y="5"/>
                      </a:cubicBezTo>
                      <a:cubicBezTo>
                        <a:pt x="82" y="0"/>
                        <a:pt x="41" y="0"/>
                        <a:pt x="0" y="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370240" y="4083120"/>
                  <a:ext cx="620640" cy="895320"/>
                </a:xfrm>
                <a:custGeom>
                  <a:avLst/>
                  <a:gdLst/>
                  <a:ahLst/>
                  <a:rect l="l" t="t" r="r" b="b"/>
                  <a:pathLst>
                    <a:path w="391" h="564">
                      <a:moveTo>
                        <a:pt x="391" y="564"/>
                      </a:moveTo>
                      <a:cubicBezTo>
                        <a:pt x="333" y="559"/>
                        <a:pt x="276" y="554"/>
                        <a:pt x="227" y="532"/>
                      </a:cubicBezTo>
                      <a:cubicBezTo>
                        <a:pt x="178" y="510"/>
                        <a:pt x="134" y="484"/>
                        <a:pt x="99" y="432"/>
                      </a:cubicBezTo>
                      <a:cubicBezTo>
                        <a:pt x="64" y="380"/>
                        <a:pt x="30" y="292"/>
                        <a:pt x="15" y="220"/>
                      </a:cubicBezTo>
                      <a:cubicBezTo>
                        <a:pt x="0" y="148"/>
                        <a:pt x="5" y="74"/>
                        <a:pt x="11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3308400" y="2736720"/>
                  <a:ext cx="552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>
                  <a:off x="3397320" y="4971960"/>
                  <a:ext cx="552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381400" y="2719440"/>
                  <a:ext cx="539640" cy="969840"/>
                </a:xfrm>
                <a:custGeom>
                  <a:avLst/>
                  <a:gdLst/>
                  <a:ahLst/>
                  <a:rect l="l" t="t" r="r" b="b"/>
                  <a:pathLst>
                    <a:path w="340" h="611">
                      <a:moveTo>
                        <a:pt x="0" y="611"/>
                      </a:moveTo>
                      <a:cubicBezTo>
                        <a:pt x="0" y="528"/>
                        <a:pt x="1" y="445"/>
                        <a:pt x="8" y="379"/>
                      </a:cubicBezTo>
                      <a:cubicBezTo>
                        <a:pt x="15" y="313"/>
                        <a:pt x="22" y="266"/>
                        <a:pt x="40" y="215"/>
                      </a:cubicBezTo>
                      <a:cubicBezTo>
                        <a:pt x="58" y="164"/>
                        <a:pt x="88" y="105"/>
                        <a:pt x="116" y="71"/>
                      </a:cubicBezTo>
                      <a:cubicBezTo>
                        <a:pt x="144" y="37"/>
                        <a:pt x="171" y="22"/>
                        <a:pt x="208" y="11"/>
                      </a:cubicBezTo>
                      <a:cubicBezTo>
                        <a:pt x="245" y="0"/>
                        <a:pt x="292" y="1"/>
                        <a:pt x="340" y="3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273560" y="2241720"/>
                  <a:ext cx="325440" cy="500040"/>
                </a:xfrm>
                <a:custGeom>
                  <a:avLst/>
                  <a:gdLst/>
                  <a:ahLst/>
                  <a:rect l="l" t="t" r="r" b="b"/>
                  <a:pathLst>
                    <a:path w="205" h="315">
                      <a:moveTo>
                        <a:pt x="0" y="308"/>
                      </a:moveTo>
                      <a:cubicBezTo>
                        <a:pt x="26" y="311"/>
                        <a:pt x="52" y="315"/>
                        <a:pt x="76" y="308"/>
                      </a:cubicBezTo>
                      <a:cubicBezTo>
                        <a:pt x="100" y="301"/>
                        <a:pt x="124" y="291"/>
                        <a:pt x="144" y="268"/>
                      </a:cubicBezTo>
                      <a:cubicBezTo>
                        <a:pt x="164" y="245"/>
                        <a:pt x="187" y="217"/>
                        <a:pt x="196" y="172"/>
                      </a:cubicBezTo>
                      <a:cubicBezTo>
                        <a:pt x="205" y="127"/>
                        <a:pt x="200" y="63"/>
                        <a:pt x="196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545" name=""/>
                <p:cNvGrpSpPr/>
                <p:nvPr/>
              </p:nvGrpSpPr>
              <p:grpSpPr>
                <a:xfrm>
                  <a:off x="3873600" y="4735440"/>
                  <a:ext cx="436320" cy="438120"/>
                  <a:chOff x="3873600" y="4735440"/>
                  <a:chExt cx="436320" cy="43812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3873600" y="4735440"/>
                    <a:ext cx="43632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3937320" y="47703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48" name=""/>
                <p:cNvGrpSpPr/>
                <p:nvPr/>
              </p:nvGrpSpPr>
              <p:grpSpPr>
                <a:xfrm>
                  <a:off x="2938320" y="4735440"/>
                  <a:ext cx="436680" cy="438120"/>
                  <a:chOff x="2938320" y="4735440"/>
                  <a:chExt cx="436680" cy="438120"/>
                </a:xfrm>
              </p:grpSpPr>
              <p:sp>
                <p:nvSpPr>
                  <p:cNvPr id="1549" name=""/>
                  <p:cNvSpPr/>
                  <p:nvPr/>
                </p:nvSpPr>
                <p:spPr>
                  <a:xfrm>
                    <a:off x="2938320" y="473544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3002400" y="47703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51" name=""/>
                <p:cNvGrpSpPr/>
                <p:nvPr/>
              </p:nvGrpSpPr>
              <p:grpSpPr>
                <a:xfrm>
                  <a:off x="2173320" y="3638520"/>
                  <a:ext cx="436680" cy="438120"/>
                  <a:chOff x="2173320" y="3638520"/>
                  <a:chExt cx="436680" cy="438120"/>
                </a:xfrm>
              </p:grpSpPr>
              <p:sp>
                <p:nvSpPr>
                  <p:cNvPr id="1552" name=""/>
                  <p:cNvSpPr/>
                  <p:nvPr/>
                </p:nvSpPr>
                <p:spPr>
                  <a:xfrm>
                    <a:off x="2173320" y="363852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2237040" y="36734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54" name=""/>
                <p:cNvGrpSpPr/>
                <p:nvPr/>
              </p:nvGrpSpPr>
              <p:grpSpPr>
                <a:xfrm>
                  <a:off x="2940120" y="2532240"/>
                  <a:ext cx="436320" cy="438120"/>
                  <a:chOff x="2940120" y="2532240"/>
                  <a:chExt cx="436320" cy="43812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>
                    <a:off x="2940120" y="2532240"/>
                    <a:ext cx="43632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3003840" y="25671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8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57" name=""/>
                <p:cNvGrpSpPr/>
                <p:nvPr/>
              </p:nvGrpSpPr>
              <p:grpSpPr>
                <a:xfrm>
                  <a:off x="3873600" y="2532240"/>
                  <a:ext cx="436320" cy="438120"/>
                  <a:chOff x="3873600" y="2532240"/>
                  <a:chExt cx="436320" cy="43812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>
                    <a:off x="3873600" y="2532240"/>
                    <a:ext cx="43632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875760" y="2567160"/>
                    <a:ext cx="43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5530680" y="2247840"/>
                <a:ext cx="1733760" cy="3321000"/>
                <a:chOff x="5530680" y="2247840"/>
                <a:chExt cx="1733760" cy="3321000"/>
              </a:xfrm>
            </p:grpSpPr>
            <p:sp>
              <p:nvSpPr>
                <p:cNvPr id="1561" name=""/>
                <p:cNvSpPr/>
                <p:nvPr/>
              </p:nvSpPr>
              <p:spPr>
                <a:xfrm flipV="1">
                  <a:off x="7045200" y="3700440"/>
                  <a:ext cx="0" cy="704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530680" y="4964040"/>
                  <a:ext cx="395280" cy="604800"/>
                </a:xfrm>
                <a:custGeom>
                  <a:avLst/>
                  <a:gdLst/>
                  <a:ahLst/>
                  <a:rect l="l" t="t" r="r" b="b"/>
                  <a:pathLst>
                    <a:path w="249" h="381">
                      <a:moveTo>
                        <a:pt x="244" y="381"/>
                      </a:moveTo>
                      <a:cubicBezTo>
                        <a:pt x="246" y="331"/>
                        <a:pt x="249" y="281"/>
                        <a:pt x="244" y="237"/>
                      </a:cubicBezTo>
                      <a:cubicBezTo>
                        <a:pt x="239" y="193"/>
                        <a:pt x="227" y="151"/>
                        <a:pt x="212" y="117"/>
                      </a:cubicBezTo>
                      <a:cubicBezTo>
                        <a:pt x="197" y="83"/>
                        <a:pt x="173" y="52"/>
                        <a:pt x="156" y="33"/>
                      </a:cubicBezTo>
                      <a:cubicBezTo>
                        <a:pt x="139" y="14"/>
                        <a:pt x="134" y="10"/>
                        <a:pt x="108" y="5"/>
                      </a:cubicBezTo>
                      <a:cubicBezTo>
                        <a:pt x="82" y="0"/>
                        <a:pt x="41" y="0"/>
                        <a:pt x="0" y="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>
                  <a:off x="5645160" y="2247840"/>
                  <a:ext cx="325440" cy="500040"/>
                </a:xfrm>
                <a:custGeom>
                  <a:avLst/>
                  <a:gdLst/>
                  <a:ahLst/>
                  <a:rect l="l" t="t" r="r" b="b"/>
                  <a:pathLst>
                    <a:path w="205" h="315">
                      <a:moveTo>
                        <a:pt x="0" y="308"/>
                      </a:moveTo>
                      <a:cubicBezTo>
                        <a:pt x="26" y="311"/>
                        <a:pt x="52" y="315"/>
                        <a:pt x="76" y="308"/>
                      </a:cubicBezTo>
                      <a:cubicBezTo>
                        <a:pt x="100" y="301"/>
                        <a:pt x="124" y="291"/>
                        <a:pt x="144" y="268"/>
                      </a:cubicBezTo>
                      <a:cubicBezTo>
                        <a:pt x="164" y="245"/>
                        <a:pt x="187" y="217"/>
                        <a:pt x="196" y="172"/>
                      </a:cubicBezTo>
                      <a:cubicBezTo>
                        <a:pt x="205" y="127"/>
                        <a:pt x="200" y="63"/>
                        <a:pt x="196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337440" y="4514760"/>
                  <a:ext cx="711000" cy="447840"/>
                </a:xfrm>
                <a:custGeom>
                  <a:avLst/>
                  <a:gdLst/>
                  <a:ahLst/>
                  <a:rect l="l" t="t" r="r" b="b"/>
                  <a:pathLst>
                    <a:path w="448" h="282">
                      <a:moveTo>
                        <a:pt x="0" y="280"/>
                      </a:moveTo>
                      <a:cubicBezTo>
                        <a:pt x="62" y="281"/>
                        <a:pt x="125" y="282"/>
                        <a:pt x="180" y="276"/>
                      </a:cubicBezTo>
                      <a:cubicBezTo>
                        <a:pt x="235" y="270"/>
                        <a:pt x="287" y="259"/>
                        <a:pt x="328" y="244"/>
                      </a:cubicBezTo>
                      <a:cubicBezTo>
                        <a:pt x="369" y="229"/>
                        <a:pt x="405" y="209"/>
                        <a:pt x="424" y="188"/>
                      </a:cubicBezTo>
                      <a:cubicBezTo>
                        <a:pt x="443" y="167"/>
                        <a:pt x="440" y="151"/>
                        <a:pt x="444" y="120"/>
                      </a:cubicBezTo>
                      <a:cubicBezTo>
                        <a:pt x="448" y="89"/>
                        <a:pt x="448" y="44"/>
                        <a:pt x="448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372360" y="2730600"/>
                  <a:ext cx="663480" cy="546120"/>
                </a:xfrm>
                <a:custGeom>
                  <a:avLst/>
                  <a:gdLst/>
                  <a:ahLst/>
                  <a:rect l="l" t="t" r="r" b="b"/>
                  <a:pathLst>
                    <a:path w="418" h="344">
                      <a:moveTo>
                        <a:pt x="416" y="344"/>
                      </a:moveTo>
                      <a:cubicBezTo>
                        <a:pt x="417" y="291"/>
                        <a:pt x="418" y="239"/>
                        <a:pt x="404" y="196"/>
                      </a:cubicBezTo>
                      <a:cubicBezTo>
                        <a:pt x="390" y="153"/>
                        <a:pt x="363" y="117"/>
                        <a:pt x="332" y="88"/>
                      </a:cubicBezTo>
                      <a:cubicBezTo>
                        <a:pt x="301" y="59"/>
                        <a:pt x="275" y="35"/>
                        <a:pt x="220" y="20"/>
                      </a:cubicBezTo>
                      <a:cubicBezTo>
                        <a:pt x="165" y="5"/>
                        <a:pt x="82" y="2"/>
                        <a:pt x="0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566" name=""/>
                <p:cNvGrpSpPr/>
                <p:nvPr/>
              </p:nvGrpSpPr>
              <p:grpSpPr>
                <a:xfrm>
                  <a:off x="5943600" y="4735440"/>
                  <a:ext cx="436680" cy="438120"/>
                  <a:chOff x="5943600" y="4735440"/>
                  <a:chExt cx="436680" cy="43812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>
                    <a:off x="5943600" y="473544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6007320" y="47703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69" name=""/>
                <p:cNvGrpSpPr/>
                <p:nvPr/>
              </p:nvGrpSpPr>
              <p:grpSpPr>
                <a:xfrm>
                  <a:off x="6827760" y="4064040"/>
                  <a:ext cx="436680" cy="438120"/>
                  <a:chOff x="6827760" y="4064040"/>
                  <a:chExt cx="436680" cy="43812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>
                    <a:off x="6827760" y="406404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6891840" y="40989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7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826320" y="3227400"/>
                  <a:ext cx="436320" cy="438120"/>
                  <a:chOff x="6826320" y="3227400"/>
                  <a:chExt cx="436320" cy="43812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>
                    <a:off x="6826320" y="3227400"/>
                    <a:ext cx="43632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826680" y="3262320"/>
                    <a:ext cx="43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11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5945040" y="2532240"/>
                  <a:ext cx="436680" cy="438120"/>
                  <a:chOff x="5945040" y="2532240"/>
                  <a:chExt cx="436680" cy="4381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5945040" y="2532240"/>
                    <a:ext cx="436680" cy="438120"/>
                  </a:xfrm>
                  <a:prstGeom prst="rect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5947200" y="2568600"/>
                    <a:ext cx="43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222222"/>
                        </a:solidFill>
                        <a:latin typeface="Arial"/>
                      </a:rPr>
                      <a:t>12</a:t>
                    </a:r>
                    <a:endParaRPr b="0" lang="en-US" sz="1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1836720" y="5459400"/>
                <a:ext cx="5742000" cy="717480"/>
              </a:xfrm>
              <a:prstGeom prst="rect">
                <a:avLst/>
              </a:prstGeom>
              <a:solidFill>
                <a:srgbClr val="15a5a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545360" y="5446800"/>
                <a:ext cx="118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A    B    C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74320" y="575640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Raw materials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2667240" y="36892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Cell 1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077000" y="36910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Cell 2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054840" y="36892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Cell 3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7080" y="52524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Reordered Routing Matrix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35160" y="6288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9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843120" y="1579680"/>
            <a:ext cx="7497720" cy="4529160"/>
            <a:chOff x="843120" y="1579680"/>
            <a:chExt cx="7497720" cy="4529160"/>
          </a:xfrm>
        </p:grpSpPr>
        <p:grpSp>
          <p:nvGrpSpPr>
            <p:cNvPr id="1587" name=""/>
            <p:cNvGrpSpPr/>
            <p:nvPr/>
          </p:nvGrpSpPr>
          <p:grpSpPr>
            <a:xfrm>
              <a:off x="843120" y="1579680"/>
              <a:ext cx="7494480" cy="4529160"/>
              <a:chOff x="843120" y="1579680"/>
              <a:chExt cx="7494480" cy="4529160"/>
            </a:xfrm>
          </p:grpSpPr>
          <p:sp>
            <p:nvSpPr>
              <p:cNvPr id="1588" name=""/>
              <p:cNvSpPr/>
              <p:nvPr/>
            </p:nvSpPr>
            <p:spPr>
              <a:xfrm>
                <a:off x="843120" y="1579680"/>
                <a:ext cx="7493040" cy="4529160"/>
              </a:xfrm>
              <a:prstGeom prst="rect">
                <a:avLst/>
              </a:prstGeom>
              <a:solidFill>
                <a:srgbClr val="ffcd7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46360" y="1581480"/>
                <a:ext cx="1425600" cy="452412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46360" y="1579680"/>
                <a:ext cx="7491240" cy="100332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271960" y="1586160"/>
                <a:ext cx="0" cy="451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123200" y="1721160"/>
                <a:ext cx="7023600" cy="422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Machines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Parts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1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2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4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8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10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3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9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5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7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11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224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A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D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F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C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B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H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ctr" pos="380880"/>
                    <a:tab algn="ctr" pos="1425600"/>
                    <a:tab algn="ctr" pos="1905120"/>
                    <a:tab algn="ctr" pos="2384280"/>
                    <a:tab algn="ctr" pos="2863800"/>
                    <a:tab algn="ctr" pos="3330720"/>
                    <a:tab algn="ctr" pos="3809880"/>
                    <a:tab algn="ctr" pos="4289400"/>
                    <a:tab algn="ctr" pos="4768920"/>
                    <a:tab algn="ctr" pos="5235480"/>
                    <a:tab algn="ctr" pos="5715000"/>
                    <a:tab algn="ctr" pos="6194520"/>
                    <a:tab algn="ctr" pos="66736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E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846000" y="3879720"/>
              <a:ext cx="5376960" cy="2216160"/>
            </a:xfrm>
            <a:custGeom>
              <a:avLst/>
              <a:gdLst/>
              <a:ahLst/>
              <a:rect l="l" t="t" r="r" b="b"/>
              <a:pathLst>
                <a:path w="3387" h="1396">
                  <a:moveTo>
                    <a:pt x="0" y="0"/>
                  </a:moveTo>
                  <a:lnTo>
                    <a:pt x="3387" y="0"/>
                  </a:lnTo>
                  <a:lnTo>
                    <a:pt x="3387" y="13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46000" y="4670280"/>
              <a:ext cx="14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56320" y="2583000"/>
              <a:ext cx="3584520" cy="2116080"/>
            </a:xfrm>
            <a:custGeom>
              <a:avLst/>
              <a:gdLst/>
              <a:ahLst/>
              <a:rect l="l" t="t" r="r" b="b"/>
              <a:pathLst>
                <a:path w="2800" h="1306">
                  <a:moveTo>
                    <a:pt x="0" y="0"/>
                  </a:moveTo>
                  <a:lnTo>
                    <a:pt x="0" y="1306"/>
                  </a:lnTo>
                  <a:lnTo>
                    <a:pt x="2800" y="130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700200" y="4680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Advantages Of </a:t>
            </a:r>
            <a:br>
              <a:rPr sz="5400"/>
            </a:b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ellular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62400" y="2174760"/>
            <a:ext cx="78508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educed material handling and transit time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educed setup time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educed work-in-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cess inventory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Better use of human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asier to control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asier to automate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1"/>
          <a:stretch/>
        </p:blipFill>
        <p:spPr>
          <a:xfrm>
            <a:off x="4719600" y="2924280"/>
            <a:ext cx="3951360" cy="295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73200" y="51084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Disadvantages Of Cellular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71400" y="2208240"/>
            <a:ext cx="5570640" cy="40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nadequate part famili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oorly balanced cell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xpanded training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nd scheduling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of worker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ncreased capital investmen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1"/>
          <a:stretch/>
        </p:blipFill>
        <p:spPr>
          <a:xfrm>
            <a:off x="4780080" y="3033720"/>
            <a:ext cx="3792600" cy="316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33000" y="270000"/>
            <a:ext cx="482292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Manufacturing Cell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461520"/>
            <a:ext cx="84582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Manufacturing Process Layout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44560" y="1359000"/>
            <a:ext cx="7497720" cy="4854600"/>
            <a:chOff x="844560" y="1359000"/>
            <a:chExt cx="7497720" cy="4854600"/>
          </a:xfrm>
        </p:grpSpPr>
        <p:sp>
          <p:nvSpPr>
            <p:cNvPr id="77" name=""/>
            <p:cNvSpPr/>
            <p:nvPr/>
          </p:nvSpPr>
          <p:spPr>
            <a:xfrm>
              <a:off x="844560" y="1359000"/>
              <a:ext cx="7497720" cy="4854600"/>
            </a:xfrm>
            <a:prstGeom prst="rect">
              <a:avLst/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57600" y="1360440"/>
              <a:ext cx="0" cy="485136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3720" y="3295800"/>
              <a:ext cx="555948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643720" y="3303360"/>
              <a:ext cx="0" cy="28796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78120" y="5367240"/>
              <a:ext cx="285912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64240" y="5024520"/>
              <a:ext cx="267804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249200" y="2073240"/>
              <a:ext cx="1073160" cy="3473640"/>
              <a:chOff x="1249200" y="2073240"/>
              <a:chExt cx="1073160" cy="3473640"/>
            </a:xfrm>
          </p:grpSpPr>
          <p:sp>
            <p:nvSpPr>
              <p:cNvPr id="84" name=""/>
              <p:cNvSpPr/>
              <p:nvPr/>
            </p:nvSpPr>
            <p:spPr>
              <a:xfrm>
                <a:off x="1963440" y="515952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63440" y="443088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63440" y="364500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63440" y="285912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63440" y="207324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49200" y="515952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49200" y="443088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49200" y="364500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9200" y="285912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49200" y="207324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V="1">
              <a:off x="4743360" y="1374480"/>
              <a:ext cx="0" cy="192708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4040" y="19162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4040" y="26020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8360" y="19162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78360" y="26020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988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988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0080" y="191628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50080" y="260208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4992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992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5012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64040" y="3500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64040" y="4202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84480" y="3500280"/>
              <a:ext cx="35892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84480" y="4202280"/>
              <a:ext cx="35892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7080" y="3500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7080" y="4202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92840" y="536724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61160" y="536580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9480" y="536580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12800" y="5518080"/>
              <a:ext cx="15544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Receiving and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Shipp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75960" y="5803920"/>
              <a:ext cx="113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3840" y="4619520"/>
              <a:ext cx="216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Painting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000" y="1576440"/>
              <a:ext cx="190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Lathe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34080" y="1405080"/>
              <a:ext cx="13626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Mill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7800" y="1576440"/>
              <a:ext cx="20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rilling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8920" y="4667400"/>
              <a:ext cx="13626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Grind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77080" y="3500280"/>
              <a:ext cx="198108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77080" y="4202280"/>
              <a:ext cx="198108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88360" y="63072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2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33000" y="270000"/>
            <a:ext cx="482292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Manufacturing Cell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343080" y="3041640"/>
            <a:ext cx="3068280" cy="3449880"/>
            <a:chOff x="343080" y="3041640"/>
            <a:chExt cx="3068280" cy="3449880"/>
          </a:xfrm>
        </p:grpSpPr>
        <p:sp>
          <p:nvSpPr>
            <p:cNvPr id="1605" name=""/>
            <p:cNvSpPr/>
            <p:nvPr/>
          </p:nvSpPr>
          <p:spPr>
            <a:xfrm>
              <a:off x="343080" y="4692600"/>
              <a:ext cx="30682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Key: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577800" indent="-577800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577800" indent="-577800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S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= Saw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577800" indent="-577800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L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= Lath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577800" indent="-577800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HM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= Horizontal milling machin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577800" indent="-577800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VM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= Vertical milling machin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577800" indent="-577800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G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= Grinder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604800" y="3041640"/>
              <a:ext cx="2044440" cy="1372680"/>
              <a:chOff x="604800" y="3041640"/>
              <a:chExt cx="2044440" cy="1372680"/>
            </a:xfrm>
          </p:grpSpPr>
          <p:sp>
            <p:nvSpPr>
              <p:cNvPr id="1607" name=""/>
              <p:cNvSpPr/>
              <p:nvPr/>
            </p:nvSpPr>
            <p:spPr>
              <a:xfrm>
                <a:off x="1029960" y="3041640"/>
                <a:ext cx="16192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eee"/>
                    </a:solidFill>
                    <a:latin typeface="Arial"/>
                  </a:rPr>
                  <a:t>Paths of three workers moving within cel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eee"/>
                    </a:solidFill>
                    <a:latin typeface="Arial"/>
                  </a:rPr>
                  <a:t>Material movemen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04800" y="4035240"/>
                <a:ext cx="3952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04800" y="3170160"/>
                <a:ext cx="3952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610" name=""/>
          <p:cNvGrpSpPr/>
          <p:nvPr/>
        </p:nvGrpSpPr>
        <p:grpSpPr>
          <a:xfrm>
            <a:off x="3068640" y="615960"/>
            <a:ext cx="5465880" cy="5866200"/>
            <a:chOff x="3068640" y="615960"/>
            <a:chExt cx="5465880" cy="5866200"/>
          </a:xfrm>
        </p:grpSpPr>
        <p:sp>
          <p:nvSpPr>
            <p:cNvPr id="1611" name=""/>
            <p:cNvSpPr/>
            <p:nvPr/>
          </p:nvSpPr>
          <p:spPr>
            <a:xfrm>
              <a:off x="3740040" y="5619600"/>
              <a:ext cx="755640" cy="444600"/>
            </a:xfrm>
            <a:prstGeom prst="rect">
              <a:avLst/>
            </a:prstGeom>
            <a:solidFill>
              <a:srgbClr val="15a5ad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3746520" y="3797280"/>
              <a:ext cx="749160" cy="1289160"/>
              <a:chOff x="3746520" y="3797280"/>
              <a:chExt cx="749160" cy="1289160"/>
            </a:xfrm>
          </p:grpSpPr>
          <p:sp>
            <p:nvSpPr>
              <p:cNvPr id="1613" name=""/>
              <p:cNvSpPr/>
              <p:nvPr/>
            </p:nvSpPr>
            <p:spPr>
              <a:xfrm>
                <a:off x="3746520" y="4095720"/>
                <a:ext cx="749160" cy="66672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746520" y="4762440"/>
                <a:ext cx="749160" cy="32400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746520" y="3797280"/>
                <a:ext cx="196920" cy="29844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114800" y="3797280"/>
                <a:ext cx="196920" cy="29844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3746520" y="2044800"/>
              <a:ext cx="749160" cy="1143000"/>
              <a:chOff x="3746520" y="2044800"/>
              <a:chExt cx="749160" cy="1143000"/>
            </a:xfrm>
          </p:grpSpPr>
          <p:sp>
            <p:nvSpPr>
              <p:cNvPr id="1618" name=""/>
              <p:cNvSpPr/>
              <p:nvPr/>
            </p:nvSpPr>
            <p:spPr>
              <a:xfrm>
                <a:off x="3746520" y="2343240"/>
                <a:ext cx="749160" cy="84456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46520" y="2044800"/>
                <a:ext cx="196920" cy="29844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14800" y="2044800"/>
                <a:ext cx="196920" cy="29844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4527720" y="781200"/>
              <a:ext cx="939600" cy="946080"/>
              <a:chOff x="4527720" y="781200"/>
              <a:chExt cx="939600" cy="946080"/>
            </a:xfrm>
          </p:grpSpPr>
          <p:sp>
            <p:nvSpPr>
              <p:cNvPr id="1622" name=""/>
              <p:cNvSpPr/>
              <p:nvPr/>
            </p:nvSpPr>
            <p:spPr>
              <a:xfrm>
                <a:off x="4749840" y="831960"/>
                <a:ext cx="469800" cy="44424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527720" y="1270080"/>
                <a:ext cx="939600" cy="16488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749840" y="1434960"/>
                <a:ext cx="285840" cy="209520"/>
              </a:xfrm>
              <a:prstGeom prst="rect">
                <a:avLst/>
              </a:prstGeom>
              <a:solidFill>
                <a:srgbClr val="00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3040" y="781200"/>
                <a:ext cx="209520" cy="50760"/>
              </a:xfrm>
              <a:prstGeom prst="rect">
                <a:avLst/>
              </a:prstGeom>
              <a:solidFill>
                <a:srgbClr val="00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826160" y="1644480"/>
                <a:ext cx="126720" cy="8280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019920" y="749160"/>
              <a:ext cx="996840" cy="971640"/>
              <a:chOff x="6019920" y="749160"/>
              <a:chExt cx="996840" cy="971640"/>
            </a:xfrm>
          </p:grpSpPr>
          <p:sp>
            <p:nvSpPr>
              <p:cNvPr id="1628" name=""/>
              <p:cNvSpPr/>
              <p:nvPr/>
            </p:nvSpPr>
            <p:spPr>
              <a:xfrm>
                <a:off x="6324480" y="749160"/>
                <a:ext cx="470160" cy="44460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076800" y="1193760"/>
                <a:ext cx="939960" cy="393840"/>
              </a:xfrm>
              <a:prstGeom prst="rect">
                <a:avLst/>
              </a:prstGeom>
              <a:solidFill>
                <a:srgbClr val="00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318360" y="1587600"/>
                <a:ext cx="272880" cy="69840"/>
              </a:xfrm>
              <a:prstGeom prst="rect">
                <a:avLst/>
              </a:prstGeom>
              <a:solidFill>
                <a:srgbClr val="00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445080" y="927000"/>
                <a:ext cx="209880" cy="41292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388200" y="1657440"/>
                <a:ext cx="139680" cy="63360"/>
              </a:xfrm>
              <a:prstGeom prst="rect">
                <a:avLst/>
              </a:prstGeom>
              <a:solidFill>
                <a:srgbClr val="00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019920" y="1301760"/>
                <a:ext cx="56880" cy="146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01080" y="1676520"/>
              <a:ext cx="1060200" cy="1257120"/>
              <a:chOff x="7201080" y="1676520"/>
              <a:chExt cx="1060200" cy="1257120"/>
            </a:xfrm>
          </p:grpSpPr>
          <p:sp>
            <p:nvSpPr>
              <p:cNvPr id="1635" name=""/>
              <p:cNvSpPr/>
              <p:nvPr/>
            </p:nvSpPr>
            <p:spPr>
              <a:xfrm>
                <a:off x="7201080" y="2013120"/>
                <a:ext cx="857160" cy="58392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207200" y="1676520"/>
                <a:ext cx="216000" cy="33660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207200" y="2597040"/>
                <a:ext cx="216000" cy="33660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58240" y="2197080"/>
                <a:ext cx="203040" cy="21600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7010280" y="3403440"/>
              <a:ext cx="1035000" cy="743040"/>
              <a:chOff x="7010280" y="3403440"/>
              <a:chExt cx="1035000" cy="743040"/>
            </a:xfrm>
          </p:grpSpPr>
          <p:sp>
            <p:nvSpPr>
              <p:cNvPr id="1640" name=""/>
              <p:cNvSpPr/>
              <p:nvPr/>
            </p:nvSpPr>
            <p:spPr>
              <a:xfrm>
                <a:off x="7613640" y="3733920"/>
                <a:ext cx="431640" cy="41256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82000" y="3733920"/>
                <a:ext cx="431640" cy="41256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696080" y="3403440"/>
                <a:ext cx="349200" cy="33048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010280" y="3848040"/>
                <a:ext cx="171720" cy="196920"/>
              </a:xfrm>
              <a:prstGeom prst="rect">
                <a:avLst/>
              </a:prstGeom>
              <a:solidFill>
                <a:srgbClr val="00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7194600" y="4584600"/>
              <a:ext cx="755640" cy="1365480"/>
              <a:chOff x="7194600" y="4584600"/>
              <a:chExt cx="755640" cy="1365480"/>
            </a:xfrm>
          </p:grpSpPr>
          <p:sp>
            <p:nvSpPr>
              <p:cNvPr id="1645" name=""/>
              <p:cNvSpPr/>
              <p:nvPr/>
            </p:nvSpPr>
            <p:spPr>
              <a:xfrm>
                <a:off x="7207200" y="4800600"/>
                <a:ext cx="743040" cy="42552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94600" y="5524560"/>
                <a:ext cx="743040" cy="42552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08720" y="4584600"/>
                <a:ext cx="196920" cy="21600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651800" y="5340240"/>
                <a:ext cx="196920" cy="184320"/>
              </a:xfrm>
              <a:prstGeom prst="rect">
                <a:avLst/>
              </a:prstGeom>
              <a:solidFill>
                <a:srgbClr val="49e1e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7575480" y="5987880"/>
              <a:ext cx="0" cy="2286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75480" y="4191120"/>
              <a:ext cx="0" cy="45072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75480" y="2927520"/>
              <a:ext cx="0" cy="45072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511960" y="1139760"/>
              <a:ext cx="458640" cy="3240"/>
            </a:xfrm>
            <a:custGeom>
              <a:avLst/>
              <a:gdLst/>
              <a:ahLst/>
              <a:rect l="l" t="t" r="r" b="b"/>
              <a:pathLst>
                <a:path w="289" h="2">
                  <a:moveTo>
                    <a:pt x="0" y="2"/>
                  </a:moveTo>
                  <a:lnTo>
                    <a:pt x="289" y="0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124760" y="1263600"/>
              <a:ext cx="291960" cy="31104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4324320" y="1638000"/>
              <a:ext cx="285840" cy="2919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121280" y="5162040"/>
              <a:ext cx="0" cy="40644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121280" y="3295800"/>
              <a:ext cx="583920" cy="2260440"/>
            </a:xfrm>
            <a:custGeom>
              <a:avLst/>
              <a:gdLst/>
              <a:ahLst/>
              <a:rect l="l" t="t" r="r" b="b"/>
              <a:pathLst>
                <a:path w="368" h="1424">
                  <a:moveTo>
                    <a:pt x="112" y="1424"/>
                  </a:moveTo>
                  <a:lnTo>
                    <a:pt x="112" y="1296"/>
                  </a:lnTo>
                  <a:lnTo>
                    <a:pt x="368" y="1296"/>
                  </a:lnTo>
                  <a:lnTo>
                    <a:pt x="368" y="220"/>
                  </a:lnTo>
                  <a:lnTo>
                    <a:pt x="0" y="2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4114800" y="6134040"/>
              <a:ext cx="0" cy="24120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3467160" y="5879880"/>
              <a:ext cx="0" cy="33012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3473280" y="2673000"/>
              <a:ext cx="0" cy="315612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67160" y="622440"/>
              <a:ext cx="2495520" cy="1993680"/>
            </a:xfrm>
            <a:custGeom>
              <a:avLst/>
              <a:gdLst/>
              <a:ahLst/>
              <a:rect l="l" t="t" r="r" b="b"/>
              <a:pathLst>
                <a:path w="1572" h="1256">
                  <a:moveTo>
                    <a:pt x="0" y="1256"/>
                  </a:moveTo>
                  <a:lnTo>
                    <a:pt x="0" y="0"/>
                  </a:lnTo>
                  <a:lnTo>
                    <a:pt x="1572" y="0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19920" y="615960"/>
              <a:ext cx="2514600" cy="1758960"/>
            </a:xfrm>
            <a:custGeom>
              <a:avLst/>
              <a:gdLst/>
              <a:ahLst/>
              <a:rect l="l" t="t" r="r" b="b"/>
              <a:pathLst>
                <a:path w="1584" h="1108">
                  <a:moveTo>
                    <a:pt x="0" y="0"/>
                  </a:moveTo>
                  <a:lnTo>
                    <a:pt x="1584" y="0"/>
                  </a:lnTo>
                  <a:lnTo>
                    <a:pt x="1584" y="1108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534520" y="2425680"/>
              <a:ext cx="0" cy="39369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663" name=""/>
            <p:cNvGrpSpPr/>
            <p:nvPr/>
          </p:nvGrpSpPr>
          <p:grpSpPr>
            <a:xfrm>
              <a:off x="5162400" y="1739880"/>
              <a:ext cx="1676520" cy="831960"/>
              <a:chOff x="5162400" y="1739880"/>
              <a:chExt cx="1676520" cy="831960"/>
            </a:xfrm>
          </p:grpSpPr>
          <p:sp>
            <p:nvSpPr>
              <p:cNvPr id="1664" name=""/>
              <p:cNvSpPr/>
              <p:nvPr/>
            </p:nvSpPr>
            <p:spPr>
              <a:xfrm>
                <a:off x="5784840" y="1847880"/>
                <a:ext cx="946080" cy="279360"/>
              </a:xfrm>
              <a:custGeom>
                <a:avLst/>
                <a:gdLst/>
                <a:ahLst/>
                <a:rect l="l" t="t" r="r" b="b"/>
                <a:pathLst>
                  <a:path w="596" h="176">
                    <a:moveTo>
                      <a:pt x="0" y="0"/>
                    </a:moveTo>
                    <a:lnTo>
                      <a:pt x="596" y="0"/>
                    </a:lnTo>
                    <a:lnTo>
                      <a:pt x="596" y="176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19920" y="2127240"/>
                <a:ext cx="711000" cy="330120"/>
              </a:xfrm>
              <a:custGeom>
                <a:avLst/>
                <a:gdLst/>
                <a:ahLst/>
                <a:rect l="l" t="t" r="r" b="b"/>
                <a:pathLst>
                  <a:path w="448" h="208">
                    <a:moveTo>
                      <a:pt x="448" y="0"/>
                    </a:moveTo>
                    <a:lnTo>
                      <a:pt x="448" y="208"/>
                    </a:lnTo>
                    <a:lnTo>
                      <a:pt x="0" y="20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276880" y="1841400"/>
                <a:ext cx="743040" cy="311400"/>
              </a:xfrm>
              <a:custGeom>
                <a:avLst/>
                <a:gdLst/>
                <a:ahLst/>
                <a:rect l="l" t="t" r="r" b="b"/>
                <a:pathLst>
                  <a:path w="468" h="196">
                    <a:moveTo>
                      <a:pt x="468" y="196"/>
                    </a:moveTo>
                    <a:lnTo>
                      <a:pt x="0" y="0"/>
                    </a:lnTo>
                    <a:lnTo>
                      <a:pt x="320" y="0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667" name=""/>
              <p:cNvGrpSpPr/>
              <p:nvPr/>
            </p:nvGrpSpPr>
            <p:grpSpPr>
              <a:xfrm>
                <a:off x="6610320" y="2343240"/>
                <a:ext cx="228600" cy="228600"/>
                <a:chOff x="6610320" y="2343240"/>
                <a:chExt cx="228600" cy="22860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6610320" y="2343240"/>
                  <a:ext cx="228600" cy="228600"/>
                </a:xfrm>
                <a:prstGeom prst="ellipse">
                  <a:avLst/>
                </a:prstGeom>
                <a:solidFill>
                  <a:srgbClr val="ffcd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642000" y="237492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H="1">
                  <a:off x="6648120" y="237492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6045120" y="1746360"/>
                <a:ext cx="228600" cy="228600"/>
                <a:chOff x="6045120" y="1746360"/>
                <a:chExt cx="228600" cy="22860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045120" y="1746360"/>
                  <a:ext cx="228600" cy="228600"/>
                </a:xfrm>
                <a:prstGeom prst="ellipse">
                  <a:avLst/>
                </a:prstGeom>
                <a:solidFill>
                  <a:srgbClr val="ffcd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6076800" y="177804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>
                  <a:off x="6082920" y="177804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5162400" y="1739880"/>
                <a:ext cx="228600" cy="228600"/>
                <a:chOff x="5162400" y="1739880"/>
                <a:chExt cx="228600" cy="22860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5162400" y="1739880"/>
                  <a:ext cx="228600" cy="228600"/>
                </a:xfrm>
                <a:prstGeom prst="ellipse">
                  <a:avLst/>
                </a:prstGeom>
                <a:solidFill>
                  <a:srgbClr val="ffcd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5194080" y="177156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H="1">
                  <a:off x="5200200" y="177156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679" name=""/>
            <p:cNvGrpSpPr/>
            <p:nvPr/>
          </p:nvGrpSpPr>
          <p:grpSpPr>
            <a:xfrm>
              <a:off x="4927680" y="3073320"/>
              <a:ext cx="1917720" cy="1454400"/>
              <a:chOff x="4927680" y="3073320"/>
              <a:chExt cx="1917720" cy="1454400"/>
            </a:xfrm>
          </p:grpSpPr>
          <p:sp>
            <p:nvSpPr>
              <p:cNvPr id="1680" name=""/>
              <p:cNvSpPr/>
              <p:nvPr/>
            </p:nvSpPr>
            <p:spPr>
              <a:xfrm flipH="1">
                <a:off x="5829480" y="3835440"/>
                <a:ext cx="838080" cy="298440"/>
              </a:xfrm>
              <a:prstGeom prst="line">
                <a:avLst/>
              </a:prstGeom>
              <a:ln w="38160">
                <a:solidFill>
                  <a:srgbClr val="eeeeee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048280" y="3740040"/>
                <a:ext cx="787320" cy="666720"/>
              </a:xfrm>
              <a:custGeom>
                <a:avLst/>
                <a:gdLst/>
                <a:ahLst/>
                <a:rect l="l" t="t" r="r" b="b"/>
                <a:pathLst>
                  <a:path w="496" h="420">
                    <a:moveTo>
                      <a:pt x="496" y="244"/>
                    </a:moveTo>
                    <a:lnTo>
                      <a:pt x="0" y="42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041800" y="3187800"/>
                <a:ext cx="806400" cy="546120"/>
              </a:xfrm>
              <a:custGeom>
                <a:avLst/>
                <a:gdLst/>
                <a:ahLst/>
                <a:rect l="l" t="t" r="r" b="b"/>
                <a:pathLst>
                  <a:path w="508" h="344">
                    <a:moveTo>
                      <a:pt x="0" y="344"/>
                    </a:moveTo>
                    <a:lnTo>
                      <a:pt x="4" y="0"/>
                    </a:lnTo>
                    <a:lnTo>
                      <a:pt x="508" y="184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848200" y="3473280"/>
                <a:ext cx="762120" cy="292320"/>
              </a:xfrm>
              <a:prstGeom prst="line">
                <a:avLst/>
              </a:prstGeom>
              <a:ln w="38160">
                <a:solidFill>
                  <a:srgbClr val="eeeeee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684" name=""/>
              <p:cNvGrpSpPr/>
              <p:nvPr/>
            </p:nvGrpSpPr>
            <p:grpSpPr>
              <a:xfrm>
                <a:off x="6616800" y="3695760"/>
                <a:ext cx="228600" cy="228600"/>
                <a:chOff x="6616800" y="3695760"/>
                <a:chExt cx="228600" cy="22860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6616800" y="3695760"/>
                  <a:ext cx="228600" cy="228600"/>
                </a:xfrm>
                <a:prstGeom prst="ellipse">
                  <a:avLst/>
                </a:prstGeom>
                <a:solidFill>
                  <a:srgbClr val="00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6648840" y="372744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>
                  <a:off x="6654600" y="372744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88" name=""/>
              <p:cNvGrpSpPr/>
              <p:nvPr/>
            </p:nvGrpSpPr>
            <p:grpSpPr>
              <a:xfrm>
                <a:off x="4927680" y="3073320"/>
                <a:ext cx="228600" cy="228600"/>
                <a:chOff x="4927680" y="3073320"/>
                <a:chExt cx="228600" cy="22860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4927680" y="3073320"/>
                  <a:ext cx="228600" cy="228600"/>
                </a:xfrm>
                <a:prstGeom prst="ellipse">
                  <a:avLst/>
                </a:prstGeom>
                <a:solidFill>
                  <a:srgbClr val="00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959720" y="310500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>
                  <a:off x="4965480" y="310500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4933800" y="4299120"/>
                <a:ext cx="228600" cy="228600"/>
                <a:chOff x="4933800" y="4299120"/>
                <a:chExt cx="228600" cy="22860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4933800" y="4299120"/>
                  <a:ext cx="228600" cy="228600"/>
                </a:xfrm>
                <a:prstGeom prst="ellipse">
                  <a:avLst/>
                </a:prstGeom>
                <a:solidFill>
                  <a:srgbClr val="00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4965840" y="433080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>
                  <a:off x="4971600" y="433080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696" name=""/>
            <p:cNvGrpSpPr/>
            <p:nvPr/>
          </p:nvGrpSpPr>
          <p:grpSpPr>
            <a:xfrm>
              <a:off x="4940280" y="5143680"/>
              <a:ext cx="1898640" cy="1028520"/>
              <a:chOff x="4940280" y="5143680"/>
              <a:chExt cx="1898640" cy="1028520"/>
            </a:xfrm>
          </p:grpSpPr>
          <p:sp>
            <p:nvSpPr>
              <p:cNvPr id="1697" name=""/>
              <p:cNvSpPr/>
              <p:nvPr/>
            </p:nvSpPr>
            <p:spPr>
              <a:xfrm>
                <a:off x="5740560" y="5308560"/>
                <a:ext cx="984240" cy="857160"/>
              </a:xfrm>
              <a:custGeom>
                <a:avLst/>
                <a:gdLst/>
                <a:ahLst/>
                <a:rect l="l" t="t" r="r" b="b"/>
                <a:pathLst>
                  <a:path w="620" h="540">
                    <a:moveTo>
                      <a:pt x="620" y="0"/>
                    </a:moveTo>
                    <a:lnTo>
                      <a:pt x="620" y="540"/>
                    </a:lnTo>
                    <a:lnTo>
                      <a:pt x="0" y="540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048280" y="5549760"/>
                <a:ext cx="838080" cy="622440"/>
              </a:xfrm>
              <a:custGeom>
                <a:avLst/>
                <a:gdLst/>
                <a:ahLst/>
                <a:rect l="l" t="t" r="r" b="b"/>
                <a:pathLst>
                  <a:path w="528" h="392">
                    <a:moveTo>
                      <a:pt x="452" y="392"/>
                    </a:moveTo>
                    <a:lnTo>
                      <a:pt x="0" y="392"/>
                    </a:lnTo>
                    <a:lnTo>
                      <a:pt x="0" y="188"/>
                    </a:lnTo>
                    <a:lnTo>
                      <a:pt x="528" y="0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880240" y="5295600"/>
                <a:ext cx="717480" cy="253800"/>
              </a:xfrm>
              <a:prstGeom prst="line">
                <a:avLst/>
              </a:prstGeom>
              <a:ln w="38160">
                <a:solidFill>
                  <a:srgbClr val="eeeeee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700" name=""/>
              <p:cNvGrpSpPr/>
              <p:nvPr/>
            </p:nvGrpSpPr>
            <p:grpSpPr>
              <a:xfrm>
                <a:off x="6610320" y="5143680"/>
                <a:ext cx="228600" cy="228600"/>
                <a:chOff x="6610320" y="5143680"/>
                <a:chExt cx="228600" cy="22860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6610320" y="5143680"/>
                  <a:ext cx="228600" cy="228600"/>
                </a:xfrm>
                <a:prstGeom prst="ellipse">
                  <a:avLst/>
                </a:prstGeom>
                <a:solidFill>
                  <a:srgbClr val="8154d1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6642000" y="517536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6648120" y="517536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6610320" y="5607000"/>
                <a:ext cx="228600" cy="228600"/>
                <a:chOff x="6610320" y="5607000"/>
                <a:chExt cx="228600" cy="22860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6610320" y="5607000"/>
                  <a:ext cx="228600" cy="228600"/>
                </a:xfrm>
                <a:prstGeom prst="ellipse">
                  <a:avLst/>
                </a:prstGeom>
                <a:solidFill>
                  <a:srgbClr val="8154d1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642000" y="563868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>
                  <a:off x="6648120" y="563868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4940280" y="5740560"/>
                <a:ext cx="228600" cy="228600"/>
                <a:chOff x="4940280" y="5740560"/>
                <a:chExt cx="228600" cy="22860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4940280" y="5740560"/>
                  <a:ext cx="228600" cy="228600"/>
                </a:xfrm>
                <a:prstGeom prst="ellipse">
                  <a:avLst/>
                </a:prstGeom>
                <a:solidFill>
                  <a:srgbClr val="8154d1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971960" y="577224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>
                  <a:off x="4978080" y="5772240"/>
                  <a:ext cx="158760" cy="158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712" name=""/>
            <p:cNvSpPr/>
            <p:nvPr/>
          </p:nvSpPr>
          <p:spPr>
            <a:xfrm>
              <a:off x="4128840" y="608328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21920" y="59706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578560" y="57308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eeeee"/>
                  </a:solidFill>
                  <a:latin typeface="Arial"/>
                </a:rPr>
                <a:t>Worker 1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13440" y="365760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eeeee"/>
                  </a:solidFill>
                  <a:latin typeface="Arial"/>
                </a:rPr>
                <a:t>Worker 2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32800" y="19335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eeeee"/>
                  </a:solidFill>
                  <a:latin typeface="Arial"/>
                </a:rPr>
                <a:t>Worker 3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16200000">
              <a:off x="1313640" y="3127320"/>
              <a:ext cx="384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Direction of part movement within cell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60360" y="5667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65760" y="42703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46960" y="870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H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19800" y="127944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V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660800" y="3776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389720" y="213660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VM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64320" y="26020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089840" y="4827600"/>
              <a:ext cx="9954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22222"/>
                  </a:solidFill>
                  <a:latin typeface="Arial"/>
                </a:rPr>
                <a:t>Final inspection</a:t>
              </a:r>
              <a:endParaRPr b="0" lang="en-US" sz="1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121520" y="5575320"/>
              <a:ext cx="88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22222"/>
                  </a:solidFill>
                  <a:latin typeface="Arial"/>
                </a:rPr>
                <a:t>Finished part</a:t>
              </a:r>
              <a:endParaRPr b="0" lang="en-US" sz="1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727" name=""/>
          <p:cNvSpPr/>
          <p:nvPr/>
        </p:nvSpPr>
        <p:spPr>
          <a:xfrm>
            <a:off x="478080" y="180180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10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495240" y="-360"/>
            <a:ext cx="54435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Automated Manufacturing Cell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450720" y="808200"/>
            <a:ext cx="6232680" cy="5725800"/>
          </a:xfrm>
          <a:prstGeom prst="rect">
            <a:avLst/>
          </a:prstGeom>
          <a:ln w="0">
            <a:noFill/>
          </a:ln>
        </p:spPr>
      </p:pic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495240" y="-360"/>
            <a:ext cx="54435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Automated Manufacturing Cell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462800" y="60199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1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lexible Manufacturing System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700200" y="2376360"/>
            <a:ext cx="7772400" cy="361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utomated machining operation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utomated material handling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utomated tool changer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omputer controlled system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Designed around size of parts processed &amp; average processing time for part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an process wide variety of items quickly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98400" y="45360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FMS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98400" y="45360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FMS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8485200" cy="490680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419040" y="631656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1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349200" y="1411200"/>
            <a:ext cx="8510760" cy="4896000"/>
          </a:xfrm>
          <a:prstGeom prst="rect">
            <a:avLst/>
          </a:prstGeom>
          <a:ln w="0">
            <a:noFill/>
          </a:ln>
        </p:spPr>
      </p:pic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98400" y="45360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FMS Layout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19040" y="631656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1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85800" y="46836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Mixed Model </a:t>
            </a:r>
            <a:br>
              <a:rPr sz="5400"/>
            </a:b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Assembly Lin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700200" y="233316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duce multiple models in any order on one assembly lin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ssues in mixed model lin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ine balancing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U-shaped lin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lexible workforc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odel sequencing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714240" y="48060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Balancing U-Shaped Line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714240" y="48060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Balancing U-Shaped Line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2085120" y="1349280"/>
            <a:ext cx="4247280" cy="1782720"/>
            <a:chOff x="2085120" y="1349280"/>
            <a:chExt cx="4247280" cy="1782720"/>
          </a:xfrm>
        </p:grpSpPr>
        <p:grpSp>
          <p:nvGrpSpPr>
            <p:cNvPr id="1746" name=""/>
            <p:cNvGrpSpPr/>
            <p:nvPr/>
          </p:nvGrpSpPr>
          <p:grpSpPr>
            <a:xfrm>
              <a:off x="4021200" y="1792440"/>
              <a:ext cx="2311200" cy="1339560"/>
              <a:chOff x="4021200" y="1792440"/>
              <a:chExt cx="2311200" cy="1339560"/>
            </a:xfrm>
          </p:grpSpPr>
          <p:sp>
            <p:nvSpPr>
              <p:cNvPr id="1747" name=""/>
              <p:cNvSpPr/>
              <p:nvPr/>
            </p:nvSpPr>
            <p:spPr>
              <a:xfrm>
                <a:off x="6154560" y="2031840"/>
                <a:ext cx="0" cy="73368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205160" y="2017800"/>
                <a:ext cx="817560" cy="80460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749" name=""/>
              <p:cNvGrpSpPr/>
              <p:nvPr/>
            </p:nvGrpSpPr>
            <p:grpSpPr>
              <a:xfrm>
                <a:off x="4021200" y="1792440"/>
                <a:ext cx="2305080" cy="352440"/>
                <a:chOff x="4021200" y="1792440"/>
                <a:chExt cx="2305080" cy="35244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4260960" y="196848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230800" y="196848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752" name=""/>
                <p:cNvGrpSpPr/>
                <p:nvPr/>
              </p:nvGrpSpPr>
              <p:grpSpPr>
                <a:xfrm>
                  <a:off x="4021200" y="1792440"/>
                  <a:ext cx="352440" cy="352440"/>
                  <a:chOff x="4021200" y="1792440"/>
                  <a:chExt cx="352440" cy="352440"/>
                </a:xfrm>
              </p:grpSpPr>
              <p:sp>
                <p:nvSpPr>
                  <p:cNvPr id="1753" name=""/>
                  <p:cNvSpPr/>
                  <p:nvPr/>
                </p:nvSpPr>
                <p:spPr>
                  <a:xfrm>
                    <a:off x="402120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4033800" y="180036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A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755" name=""/>
                <p:cNvGrpSpPr/>
                <p:nvPr/>
              </p:nvGrpSpPr>
              <p:grpSpPr>
                <a:xfrm>
                  <a:off x="4997520" y="1792440"/>
                  <a:ext cx="352440" cy="352440"/>
                  <a:chOff x="4997520" y="1792440"/>
                  <a:chExt cx="352440" cy="35244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99752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010120" y="17989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B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758" name=""/>
                <p:cNvGrpSpPr/>
                <p:nvPr/>
              </p:nvGrpSpPr>
              <p:grpSpPr>
                <a:xfrm>
                  <a:off x="5973840" y="1792440"/>
                  <a:ext cx="352440" cy="352440"/>
                  <a:chOff x="5973840" y="1792440"/>
                  <a:chExt cx="352440" cy="352440"/>
                </a:xfrm>
              </p:grpSpPr>
              <p:sp>
                <p:nvSpPr>
                  <p:cNvPr id="1759" name=""/>
                  <p:cNvSpPr/>
                  <p:nvPr/>
                </p:nvSpPr>
                <p:spPr>
                  <a:xfrm>
                    <a:off x="597384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986440" y="17989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761" name=""/>
              <p:cNvGrpSpPr/>
              <p:nvPr/>
            </p:nvGrpSpPr>
            <p:grpSpPr>
              <a:xfrm>
                <a:off x="4976640" y="2779560"/>
                <a:ext cx="1355760" cy="352440"/>
                <a:chOff x="4976640" y="2779560"/>
                <a:chExt cx="1355760" cy="35244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5217840" y="295596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4976640" y="2779560"/>
                  <a:ext cx="352440" cy="352440"/>
                  <a:chOff x="4976640" y="2779560"/>
                  <a:chExt cx="352440" cy="35244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4976640" y="277956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4989240" y="278748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D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5979960" y="2779560"/>
                  <a:ext cx="352440" cy="352440"/>
                  <a:chOff x="5979960" y="2779560"/>
                  <a:chExt cx="352440" cy="35244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>
                    <a:off x="5979960" y="277956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5996880" y="278748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sp>
          <p:nvSpPr>
            <p:cNvPr id="1769" name=""/>
            <p:cNvSpPr/>
            <p:nvPr/>
          </p:nvSpPr>
          <p:spPr>
            <a:xfrm>
              <a:off x="2085120" y="1349280"/>
              <a:ext cx="223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ecedence diagram: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79480" y="263700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Cycle time = 12 mi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771" name=""/>
          <p:cNvSpPr/>
          <p:nvPr/>
        </p:nvSpPr>
        <p:spPr>
          <a:xfrm>
            <a:off x="308160" y="61898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1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461520"/>
            <a:ext cx="84582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Manufacturing Process Layout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44560" y="1359000"/>
            <a:ext cx="7807320" cy="4854600"/>
            <a:chOff x="844560" y="1359000"/>
            <a:chExt cx="7807320" cy="4854600"/>
          </a:xfrm>
        </p:grpSpPr>
        <p:sp>
          <p:nvSpPr>
            <p:cNvPr id="128" name=""/>
            <p:cNvSpPr/>
            <p:nvPr/>
          </p:nvSpPr>
          <p:spPr>
            <a:xfrm>
              <a:off x="844560" y="1359000"/>
              <a:ext cx="7497720" cy="4854600"/>
            </a:xfrm>
            <a:prstGeom prst="rect">
              <a:avLst/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13400" y="2109960"/>
              <a:ext cx="465120" cy="1658880"/>
            </a:xfrm>
            <a:custGeom>
              <a:avLst/>
              <a:gdLst/>
              <a:ahLst/>
              <a:rect l="l" t="t" r="r" b="b"/>
              <a:pathLst>
                <a:path w="293" h="1045">
                  <a:moveTo>
                    <a:pt x="45" y="2"/>
                  </a:moveTo>
                  <a:cubicBezTo>
                    <a:pt x="59" y="5"/>
                    <a:pt x="110" y="0"/>
                    <a:pt x="130" y="21"/>
                  </a:cubicBezTo>
                  <a:cubicBezTo>
                    <a:pt x="150" y="42"/>
                    <a:pt x="164" y="49"/>
                    <a:pt x="162" y="128"/>
                  </a:cubicBezTo>
                  <a:cubicBezTo>
                    <a:pt x="160" y="207"/>
                    <a:pt x="145" y="367"/>
                    <a:pt x="119" y="493"/>
                  </a:cubicBezTo>
                  <a:cubicBezTo>
                    <a:pt x="93" y="619"/>
                    <a:pt x="10" y="797"/>
                    <a:pt x="5" y="885"/>
                  </a:cubicBezTo>
                  <a:cubicBezTo>
                    <a:pt x="0" y="973"/>
                    <a:pt x="42" y="997"/>
                    <a:pt x="90" y="1021"/>
                  </a:cubicBezTo>
                  <a:cubicBezTo>
                    <a:pt x="138" y="1045"/>
                    <a:pt x="260" y="1028"/>
                    <a:pt x="293" y="102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78440" y="2962440"/>
              <a:ext cx="453960" cy="527040"/>
            </a:xfrm>
            <a:custGeom>
              <a:avLst/>
              <a:gdLst/>
              <a:ahLst/>
              <a:rect l="l" t="t" r="r" b="b"/>
              <a:pathLst>
                <a:path w="267" h="332">
                  <a:moveTo>
                    <a:pt x="267" y="0"/>
                  </a:moveTo>
                  <a:cubicBezTo>
                    <a:pt x="260" y="23"/>
                    <a:pt x="260" y="107"/>
                    <a:pt x="224" y="140"/>
                  </a:cubicBezTo>
                  <a:cubicBezTo>
                    <a:pt x="188" y="173"/>
                    <a:pt x="90" y="164"/>
                    <a:pt x="53" y="196"/>
                  </a:cubicBezTo>
                  <a:cubicBezTo>
                    <a:pt x="16" y="228"/>
                    <a:pt x="11" y="304"/>
                    <a:pt x="0" y="332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2481120"/>
              <a:ext cx="1749600" cy="319320"/>
            </a:xfrm>
            <a:custGeom>
              <a:avLst/>
              <a:gdLst/>
              <a:ahLst/>
              <a:rect l="l" t="t" r="r" b="b"/>
              <a:pathLst>
                <a:path w="1102" h="201">
                  <a:moveTo>
                    <a:pt x="0" y="197"/>
                  </a:moveTo>
                  <a:cubicBezTo>
                    <a:pt x="28" y="199"/>
                    <a:pt x="56" y="201"/>
                    <a:pt x="80" y="188"/>
                  </a:cubicBezTo>
                  <a:cubicBezTo>
                    <a:pt x="104" y="175"/>
                    <a:pt x="111" y="147"/>
                    <a:pt x="142" y="117"/>
                  </a:cubicBezTo>
                  <a:cubicBezTo>
                    <a:pt x="173" y="87"/>
                    <a:pt x="178" y="20"/>
                    <a:pt x="267" y="10"/>
                  </a:cubicBezTo>
                  <a:cubicBezTo>
                    <a:pt x="356" y="0"/>
                    <a:pt x="564" y="31"/>
                    <a:pt x="675" y="55"/>
                  </a:cubicBezTo>
                  <a:cubicBezTo>
                    <a:pt x="786" y="79"/>
                    <a:pt x="862" y="128"/>
                    <a:pt x="933" y="152"/>
                  </a:cubicBezTo>
                  <a:cubicBezTo>
                    <a:pt x="1004" y="176"/>
                    <a:pt x="1053" y="186"/>
                    <a:pt x="1102" y="197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8840" y="5559480"/>
              <a:ext cx="987120" cy="183960"/>
            </a:xfrm>
            <a:custGeom>
              <a:avLst/>
              <a:gdLst/>
              <a:ahLst/>
              <a:rect l="l" t="t" r="r" b="b"/>
              <a:pathLst>
                <a:path w="622" h="116">
                  <a:moveTo>
                    <a:pt x="622" y="9"/>
                  </a:moveTo>
                  <a:cubicBezTo>
                    <a:pt x="491" y="4"/>
                    <a:pt x="361" y="0"/>
                    <a:pt x="257" y="18"/>
                  </a:cubicBezTo>
                  <a:cubicBezTo>
                    <a:pt x="153" y="36"/>
                    <a:pt x="76" y="76"/>
                    <a:pt x="0" y="116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46480" y="3002040"/>
              <a:ext cx="690480" cy="7063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4467240" y="1855800"/>
              <a:ext cx="480960" cy="10303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4160" y="2803680"/>
              <a:ext cx="833400" cy="1020600"/>
            </a:xfrm>
            <a:custGeom>
              <a:avLst/>
              <a:gdLst/>
              <a:ahLst/>
              <a:rect l="l" t="t" r="r" b="b"/>
              <a:pathLst>
                <a:path w="525" h="651">
                  <a:moveTo>
                    <a:pt x="0" y="641"/>
                  </a:moveTo>
                  <a:cubicBezTo>
                    <a:pt x="36" y="646"/>
                    <a:pt x="73" y="651"/>
                    <a:pt x="107" y="632"/>
                  </a:cubicBezTo>
                  <a:cubicBezTo>
                    <a:pt x="141" y="613"/>
                    <a:pt x="177" y="609"/>
                    <a:pt x="205" y="525"/>
                  </a:cubicBezTo>
                  <a:cubicBezTo>
                    <a:pt x="233" y="441"/>
                    <a:pt x="244" y="209"/>
                    <a:pt x="276" y="125"/>
                  </a:cubicBezTo>
                  <a:cubicBezTo>
                    <a:pt x="308" y="41"/>
                    <a:pt x="358" y="38"/>
                    <a:pt x="400" y="19"/>
                  </a:cubicBezTo>
                  <a:cubicBezTo>
                    <a:pt x="442" y="0"/>
                    <a:pt x="483" y="5"/>
                    <a:pt x="525" y="1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5440" y="4797360"/>
              <a:ext cx="493560" cy="56520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1443240" y="3953520"/>
              <a:ext cx="565200" cy="4525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253200" y="5553000"/>
              <a:ext cx="566640" cy="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757600" y="1360440"/>
              <a:ext cx="0" cy="485136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63720" y="3295800"/>
              <a:ext cx="555948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643720" y="3303360"/>
              <a:ext cx="0" cy="28796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78120" y="5367240"/>
              <a:ext cx="285912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64240" y="5024520"/>
              <a:ext cx="267804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249200" y="2073240"/>
              <a:ext cx="1073160" cy="3473640"/>
              <a:chOff x="1249200" y="2073240"/>
              <a:chExt cx="1073160" cy="3473640"/>
            </a:xfrm>
          </p:grpSpPr>
          <p:sp>
            <p:nvSpPr>
              <p:cNvPr id="145" name=""/>
              <p:cNvSpPr/>
              <p:nvPr/>
            </p:nvSpPr>
            <p:spPr>
              <a:xfrm>
                <a:off x="1963440" y="515952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63440" y="443088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63440" y="364500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63440" y="285912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63440" y="207324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49200" y="515952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49200" y="443088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49200" y="364500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49200" y="285912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49200" y="207324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>
              <a:off x="4743360" y="1374480"/>
              <a:ext cx="0" cy="192708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4040" y="19162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64040" y="26020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78360" y="19162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78360" y="26020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4988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4988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50080" y="191628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50080" y="260208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4992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4992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5012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5012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64040" y="3500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4040" y="4202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4480" y="3500280"/>
              <a:ext cx="35892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84480" y="4202280"/>
              <a:ext cx="35892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7080" y="3500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07080" y="4202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92840" y="536724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1160" y="536580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9480" y="536580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12800" y="5518080"/>
              <a:ext cx="15544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Receiving and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Shipp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75960" y="5803920"/>
              <a:ext cx="113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3840" y="4619520"/>
              <a:ext cx="216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Painting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6000" y="1576440"/>
              <a:ext cx="190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Lathe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4080" y="1405080"/>
              <a:ext cx="13626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Mill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37800" y="1576440"/>
              <a:ext cx="20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rilling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8920" y="4667400"/>
              <a:ext cx="13626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Grind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119720" y="5553000"/>
              <a:ext cx="509400" cy="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24680" y="3649680"/>
              <a:ext cx="727200" cy="1766880"/>
            </a:xfrm>
            <a:custGeom>
              <a:avLst/>
              <a:gdLst/>
              <a:ahLst/>
              <a:rect l="l" t="t" r="r" b="b"/>
              <a:pathLst>
                <a:path w="448" h="775">
                  <a:moveTo>
                    <a:pt x="0" y="10"/>
                  </a:moveTo>
                  <a:cubicBezTo>
                    <a:pt x="41" y="5"/>
                    <a:pt x="83" y="0"/>
                    <a:pt x="142" y="10"/>
                  </a:cubicBezTo>
                  <a:cubicBezTo>
                    <a:pt x="201" y="20"/>
                    <a:pt x="306" y="23"/>
                    <a:pt x="356" y="72"/>
                  </a:cubicBezTo>
                  <a:cubicBezTo>
                    <a:pt x="406" y="121"/>
                    <a:pt x="448" y="222"/>
                    <a:pt x="445" y="303"/>
                  </a:cubicBezTo>
                  <a:cubicBezTo>
                    <a:pt x="442" y="384"/>
                    <a:pt x="405" y="482"/>
                    <a:pt x="338" y="561"/>
                  </a:cubicBezTo>
                  <a:cubicBezTo>
                    <a:pt x="271" y="640"/>
                    <a:pt x="158" y="707"/>
                    <a:pt x="45" y="775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7080" y="3500280"/>
              <a:ext cx="198108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77080" y="4202280"/>
              <a:ext cx="198108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27400" y="5376960"/>
              <a:ext cx="1073160" cy="295200"/>
            </a:xfrm>
            <a:custGeom>
              <a:avLst/>
              <a:gdLst/>
              <a:ahLst/>
              <a:rect l="l" t="t" r="r" b="b"/>
              <a:pathLst>
                <a:path w="676" h="186">
                  <a:moveTo>
                    <a:pt x="676" y="186"/>
                  </a:moveTo>
                  <a:cubicBezTo>
                    <a:pt x="633" y="180"/>
                    <a:pt x="486" y="178"/>
                    <a:pt x="418" y="151"/>
                  </a:cubicBezTo>
                  <a:cubicBezTo>
                    <a:pt x="350" y="124"/>
                    <a:pt x="337" y="51"/>
                    <a:pt x="267" y="26"/>
                  </a:cubicBezTo>
                  <a:cubicBezTo>
                    <a:pt x="197" y="1"/>
                    <a:pt x="56" y="5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88360" y="63072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2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714240" y="48060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Balancing U-Shaped Line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993240" y="1349280"/>
            <a:ext cx="5339160" cy="3883320"/>
            <a:chOff x="993240" y="1349280"/>
            <a:chExt cx="5339160" cy="3883320"/>
          </a:xfrm>
        </p:grpSpPr>
        <p:grpSp>
          <p:nvGrpSpPr>
            <p:cNvPr id="1774" name=""/>
            <p:cNvGrpSpPr/>
            <p:nvPr/>
          </p:nvGrpSpPr>
          <p:grpSpPr>
            <a:xfrm>
              <a:off x="4021200" y="1792440"/>
              <a:ext cx="2311200" cy="1339560"/>
              <a:chOff x="4021200" y="1792440"/>
              <a:chExt cx="2311200" cy="1339560"/>
            </a:xfrm>
          </p:grpSpPr>
          <p:sp>
            <p:nvSpPr>
              <p:cNvPr id="1775" name=""/>
              <p:cNvSpPr/>
              <p:nvPr/>
            </p:nvSpPr>
            <p:spPr>
              <a:xfrm>
                <a:off x="6154560" y="2031840"/>
                <a:ext cx="0" cy="73368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05160" y="2017800"/>
                <a:ext cx="817560" cy="80460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777" name=""/>
              <p:cNvGrpSpPr/>
              <p:nvPr/>
            </p:nvGrpSpPr>
            <p:grpSpPr>
              <a:xfrm>
                <a:off x="4021200" y="1792440"/>
                <a:ext cx="2305080" cy="352440"/>
                <a:chOff x="4021200" y="1792440"/>
                <a:chExt cx="2305080" cy="35244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4260960" y="196848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230800" y="196848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021200" y="1792440"/>
                  <a:ext cx="352440" cy="352440"/>
                  <a:chOff x="4021200" y="1792440"/>
                  <a:chExt cx="352440" cy="35244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02120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033800" y="180036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A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783" name=""/>
                <p:cNvGrpSpPr/>
                <p:nvPr/>
              </p:nvGrpSpPr>
              <p:grpSpPr>
                <a:xfrm>
                  <a:off x="4997520" y="1792440"/>
                  <a:ext cx="352440" cy="352440"/>
                  <a:chOff x="4997520" y="1792440"/>
                  <a:chExt cx="352440" cy="352440"/>
                </a:xfrm>
              </p:grpSpPr>
              <p:sp>
                <p:nvSpPr>
                  <p:cNvPr id="1784" name=""/>
                  <p:cNvSpPr/>
                  <p:nvPr/>
                </p:nvSpPr>
                <p:spPr>
                  <a:xfrm>
                    <a:off x="499752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5010120" y="17989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B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786" name=""/>
                <p:cNvGrpSpPr/>
                <p:nvPr/>
              </p:nvGrpSpPr>
              <p:grpSpPr>
                <a:xfrm>
                  <a:off x="5973840" y="1792440"/>
                  <a:ext cx="352440" cy="352440"/>
                  <a:chOff x="5973840" y="1792440"/>
                  <a:chExt cx="352440" cy="352440"/>
                </a:xfrm>
              </p:grpSpPr>
              <p:sp>
                <p:nvSpPr>
                  <p:cNvPr id="1787" name=""/>
                  <p:cNvSpPr/>
                  <p:nvPr/>
                </p:nvSpPr>
                <p:spPr>
                  <a:xfrm>
                    <a:off x="597384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5986440" y="17989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789" name=""/>
              <p:cNvGrpSpPr/>
              <p:nvPr/>
            </p:nvGrpSpPr>
            <p:grpSpPr>
              <a:xfrm>
                <a:off x="4976640" y="2779560"/>
                <a:ext cx="1355760" cy="352440"/>
                <a:chOff x="4976640" y="2779560"/>
                <a:chExt cx="1355760" cy="3524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17840" y="295596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791" name=""/>
                <p:cNvGrpSpPr/>
                <p:nvPr/>
              </p:nvGrpSpPr>
              <p:grpSpPr>
                <a:xfrm>
                  <a:off x="4976640" y="2779560"/>
                  <a:ext cx="352440" cy="352440"/>
                  <a:chOff x="4976640" y="2779560"/>
                  <a:chExt cx="352440" cy="352440"/>
                </a:xfrm>
              </p:grpSpPr>
              <p:sp>
                <p:nvSpPr>
                  <p:cNvPr id="1792" name=""/>
                  <p:cNvSpPr/>
                  <p:nvPr/>
                </p:nvSpPr>
                <p:spPr>
                  <a:xfrm>
                    <a:off x="4976640" y="277956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4989240" y="278748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D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794" name=""/>
                <p:cNvGrpSpPr/>
                <p:nvPr/>
              </p:nvGrpSpPr>
              <p:grpSpPr>
                <a:xfrm>
                  <a:off x="5979960" y="2779560"/>
                  <a:ext cx="352440" cy="352440"/>
                  <a:chOff x="5979960" y="2779560"/>
                  <a:chExt cx="352440" cy="352440"/>
                </a:xfrm>
              </p:grpSpPr>
              <p:sp>
                <p:nvSpPr>
                  <p:cNvPr id="1795" name=""/>
                  <p:cNvSpPr/>
                  <p:nvPr/>
                </p:nvSpPr>
                <p:spPr>
                  <a:xfrm>
                    <a:off x="5979960" y="277956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5996880" y="278748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1797" name=""/>
            <p:cNvGrpSpPr/>
            <p:nvPr/>
          </p:nvGrpSpPr>
          <p:grpSpPr>
            <a:xfrm>
              <a:off x="1538280" y="3895560"/>
              <a:ext cx="3130560" cy="438120"/>
              <a:chOff x="1538280" y="3895560"/>
              <a:chExt cx="3130560" cy="438120"/>
            </a:xfrm>
          </p:grpSpPr>
          <p:sp>
            <p:nvSpPr>
              <p:cNvPr id="1798" name=""/>
              <p:cNvSpPr/>
              <p:nvPr/>
            </p:nvSpPr>
            <p:spPr>
              <a:xfrm>
                <a:off x="1538280" y="4114800"/>
                <a:ext cx="12985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125880" y="4114800"/>
                <a:ext cx="59364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075200" y="4114800"/>
                <a:ext cx="59364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801" name=""/>
              <p:cNvGrpSpPr/>
              <p:nvPr/>
            </p:nvGrpSpPr>
            <p:grpSpPr>
              <a:xfrm>
                <a:off x="1851120" y="3895560"/>
                <a:ext cx="487080" cy="438120"/>
                <a:chOff x="1851120" y="3895560"/>
                <a:chExt cx="487080" cy="43812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882800" y="3895560"/>
                  <a:ext cx="425520" cy="43812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851120" y="396216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A,B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2808360" y="3895560"/>
                <a:ext cx="487080" cy="438120"/>
                <a:chOff x="2808360" y="3895560"/>
                <a:chExt cx="487080" cy="43812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2838600" y="3895560"/>
                  <a:ext cx="425160" cy="43812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808360" y="396216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,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3772080" y="3895560"/>
                <a:ext cx="425160" cy="438120"/>
                <a:chOff x="3772080" y="3895560"/>
                <a:chExt cx="425160" cy="43812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3772080" y="3895560"/>
                  <a:ext cx="425160" cy="43812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834000" y="3962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810" name=""/>
            <p:cNvSpPr/>
            <p:nvPr/>
          </p:nvSpPr>
          <p:spPr>
            <a:xfrm>
              <a:off x="2085120" y="1349280"/>
              <a:ext cx="223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ecedence diagram: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679480" y="263700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Cycle time = 12 mi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993240" y="3465360"/>
              <a:ext cx="30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(a) Balanced for a straight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25120" y="4284720"/>
              <a:ext cx="26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241280"/>
                  <a:tab algn="ctr" pos="21877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9 min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12 min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3 mi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814" name=""/>
            <p:cNvGrpSpPr/>
            <p:nvPr/>
          </p:nvGrpSpPr>
          <p:grpSpPr>
            <a:xfrm>
              <a:off x="1119240" y="4603680"/>
              <a:ext cx="4105080" cy="628920"/>
              <a:chOff x="1119240" y="4603680"/>
              <a:chExt cx="4105080" cy="628920"/>
            </a:xfrm>
          </p:grpSpPr>
          <p:sp>
            <p:nvSpPr>
              <p:cNvPr id="1815" name=""/>
              <p:cNvSpPr/>
              <p:nvPr/>
            </p:nvSpPr>
            <p:spPr>
              <a:xfrm>
                <a:off x="1119240" y="4749480"/>
                <a:ext cx="410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Efficiency =            =        = .6666 = 66.7 %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816" name=""/>
              <p:cNvGrpSpPr/>
              <p:nvPr/>
            </p:nvGrpSpPr>
            <p:grpSpPr>
              <a:xfrm>
                <a:off x="3207960" y="4603680"/>
                <a:ext cx="406440" cy="628920"/>
                <a:chOff x="3207960" y="4603680"/>
                <a:chExt cx="406440" cy="62892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3207960" y="4603680"/>
                  <a:ext cx="4064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4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36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241440" y="4917960"/>
                  <a:ext cx="29700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19" name=""/>
              <p:cNvGrpSpPr/>
              <p:nvPr/>
            </p:nvGrpSpPr>
            <p:grpSpPr>
              <a:xfrm>
                <a:off x="2353680" y="4603680"/>
                <a:ext cx="653040" cy="628920"/>
                <a:chOff x="2353680" y="4603680"/>
                <a:chExt cx="653040" cy="62892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53680" y="4603680"/>
                  <a:ext cx="6530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4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3(12)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98680" y="4917600"/>
                  <a:ext cx="56520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822" name=""/>
          <p:cNvSpPr/>
          <p:nvPr/>
        </p:nvSpPr>
        <p:spPr>
          <a:xfrm>
            <a:off x="308160" y="61898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1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714240" y="48060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Balancing U-Shaped Line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993240" y="1349280"/>
            <a:ext cx="7418520" cy="5197680"/>
            <a:chOff x="993240" y="1349280"/>
            <a:chExt cx="7418520" cy="5197680"/>
          </a:xfrm>
        </p:grpSpPr>
        <p:grpSp>
          <p:nvGrpSpPr>
            <p:cNvPr id="1825" name=""/>
            <p:cNvGrpSpPr/>
            <p:nvPr/>
          </p:nvGrpSpPr>
          <p:grpSpPr>
            <a:xfrm>
              <a:off x="4021200" y="1792440"/>
              <a:ext cx="2311200" cy="1339560"/>
              <a:chOff x="4021200" y="1792440"/>
              <a:chExt cx="2311200" cy="1339560"/>
            </a:xfrm>
          </p:grpSpPr>
          <p:sp>
            <p:nvSpPr>
              <p:cNvPr id="1826" name=""/>
              <p:cNvSpPr/>
              <p:nvPr/>
            </p:nvSpPr>
            <p:spPr>
              <a:xfrm>
                <a:off x="6154560" y="2031840"/>
                <a:ext cx="0" cy="73368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205160" y="2017800"/>
                <a:ext cx="817560" cy="80460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828" name=""/>
              <p:cNvGrpSpPr/>
              <p:nvPr/>
            </p:nvGrpSpPr>
            <p:grpSpPr>
              <a:xfrm>
                <a:off x="4021200" y="1792440"/>
                <a:ext cx="2305080" cy="352440"/>
                <a:chOff x="4021200" y="1792440"/>
                <a:chExt cx="2305080" cy="35244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4260960" y="196848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230800" y="196848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831" name=""/>
                <p:cNvGrpSpPr/>
                <p:nvPr/>
              </p:nvGrpSpPr>
              <p:grpSpPr>
                <a:xfrm>
                  <a:off x="4021200" y="1792440"/>
                  <a:ext cx="352440" cy="352440"/>
                  <a:chOff x="4021200" y="1792440"/>
                  <a:chExt cx="352440" cy="352440"/>
                </a:xfrm>
              </p:grpSpPr>
              <p:sp>
                <p:nvSpPr>
                  <p:cNvPr id="1832" name=""/>
                  <p:cNvSpPr/>
                  <p:nvPr/>
                </p:nvSpPr>
                <p:spPr>
                  <a:xfrm>
                    <a:off x="402120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4033800" y="180036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A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834" name=""/>
                <p:cNvGrpSpPr/>
                <p:nvPr/>
              </p:nvGrpSpPr>
              <p:grpSpPr>
                <a:xfrm>
                  <a:off x="4997520" y="1792440"/>
                  <a:ext cx="352440" cy="352440"/>
                  <a:chOff x="4997520" y="1792440"/>
                  <a:chExt cx="352440" cy="352440"/>
                </a:xfrm>
              </p:grpSpPr>
              <p:sp>
                <p:nvSpPr>
                  <p:cNvPr id="1835" name=""/>
                  <p:cNvSpPr/>
                  <p:nvPr/>
                </p:nvSpPr>
                <p:spPr>
                  <a:xfrm>
                    <a:off x="499752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5010120" y="17989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B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837" name=""/>
                <p:cNvGrpSpPr/>
                <p:nvPr/>
              </p:nvGrpSpPr>
              <p:grpSpPr>
                <a:xfrm>
                  <a:off x="5973840" y="1792440"/>
                  <a:ext cx="352440" cy="352440"/>
                  <a:chOff x="5973840" y="1792440"/>
                  <a:chExt cx="352440" cy="352440"/>
                </a:xfrm>
              </p:grpSpPr>
              <p:sp>
                <p:nvSpPr>
                  <p:cNvPr id="1838" name=""/>
                  <p:cNvSpPr/>
                  <p:nvPr/>
                </p:nvSpPr>
                <p:spPr>
                  <a:xfrm>
                    <a:off x="5973840" y="179244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5986440" y="17989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840" name=""/>
              <p:cNvGrpSpPr/>
              <p:nvPr/>
            </p:nvGrpSpPr>
            <p:grpSpPr>
              <a:xfrm>
                <a:off x="4976640" y="2779560"/>
                <a:ext cx="1355760" cy="352440"/>
                <a:chOff x="4976640" y="2779560"/>
                <a:chExt cx="1355760" cy="35244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5217840" y="2955960"/>
                  <a:ext cx="7063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842" name=""/>
                <p:cNvGrpSpPr/>
                <p:nvPr/>
              </p:nvGrpSpPr>
              <p:grpSpPr>
                <a:xfrm>
                  <a:off x="4976640" y="2779560"/>
                  <a:ext cx="352440" cy="352440"/>
                  <a:chOff x="4976640" y="2779560"/>
                  <a:chExt cx="352440" cy="35244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>
                    <a:off x="4976640" y="277956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4989240" y="278748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D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845" name=""/>
                <p:cNvGrpSpPr/>
                <p:nvPr/>
              </p:nvGrpSpPr>
              <p:grpSpPr>
                <a:xfrm>
                  <a:off x="5979960" y="2779560"/>
                  <a:ext cx="352440" cy="352440"/>
                  <a:chOff x="5979960" y="2779560"/>
                  <a:chExt cx="352440" cy="352440"/>
                </a:xfrm>
              </p:grpSpPr>
              <p:sp>
                <p:nvSpPr>
                  <p:cNvPr id="1846" name=""/>
                  <p:cNvSpPr/>
                  <p:nvPr/>
                </p:nvSpPr>
                <p:spPr>
                  <a:xfrm>
                    <a:off x="5979960" y="2779560"/>
                    <a:ext cx="352440" cy="3524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2844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5996880" y="278748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222222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1848" name=""/>
            <p:cNvGrpSpPr/>
            <p:nvPr/>
          </p:nvGrpSpPr>
          <p:grpSpPr>
            <a:xfrm>
              <a:off x="1538280" y="3895560"/>
              <a:ext cx="3130560" cy="438120"/>
              <a:chOff x="1538280" y="3895560"/>
              <a:chExt cx="3130560" cy="438120"/>
            </a:xfrm>
          </p:grpSpPr>
          <p:sp>
            <p:nvSpPr>
              <p:cNvPr id="1849" name=""/>
              <p:cNvSpPr/>
              <p:nvPr/>
            </p:nvSpPr>
            <p:spPr>
              <a:xfrm>
                <a:off x="1538280" y="4114800"/>
                <a:ext cx="12985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125880" y="4114800"/>
                <a:ext cx="59364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075200" y="4114800"/>
                <a:ext cx="59364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852" name=""/>
              <p:cNvGrpSpPr/>
              <p:nvPr/>
            </p:nvGrpSpPr>
            <p:grpSpPr>
              <a:xfrm>
                <a:off x="1851120" y="3895560"/>
                <a:ext cx="487080" cy="438120"/>
                <a:chOff x="1851120" y="3895560"/>
                <a:chExt cx="487080" cy="43812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1882800" y="3895560"/>
                  <a:ext cx="425520" cy="43812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851120" y="396216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A,B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2808360" y="3895560"/>
                <a:ext cx="487080" cy="438120"/>
                <a:chOff x="2808360" y="3895560"/>
                <a:chExt cx="487080" cy="43812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2838600" y="3895560"/>
                  <a:ext cx="425160" cy="43812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2808360" y="396216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,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3772080" y="3895560"/>
                <a:ext cx="425160" cy="438120"/>
                <a:chOff x="3772080" y="3895560"/>
                <a:chExt cx="425160" cy="43812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3772080" y="3895560"/>
                  <a:ext cx="425160" cy="43812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3834000" y="3962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861" name=""/>
            <p:cNvGrpSpPr/>
            <p:nvPr/>
          </p:nvGrpSpPr>
          <p:grpSpPr>
            <a:xfrm>
              <a:off x="5581440" y="3924360"/>
              <a:ext cx="2438640" cy="2139840"/>
              <a:chOff x="5581440" y="3924360"/>
              <a:chExt cx="2438640" cy="2139840"/>
            </a:xfrm>
          </p:grpSpPr>
          <p:sp>
            <p:nvSpPr>
              <p:cNvPr id="1862" name=""/>
              <p:cNvSpPr/>
              <p:nvPr/>
            </p:nvSpPr>
            <p:spPr>
              <a:xfrm>
                <a:off x="6508800" y="4238640"/>
                <a:ext cx="1060560" cy="517680"/>
              </a:xfrm>
              <a:custGeom>
                <a:avLst/>
                <a:gdLst/>
                <a:ahLst/>
                <a:rect l="l" t="t" r="r" b="b"/>
                <a:pathLst>
                  <a:path w="668" h="326">
                    <a:moveTo>
                      <a:pt x="0" y="6"/>
                    </a:moveTo>
                    <a:cubicBezTo>
                      <a:pt x="70" y="3"/>
                      <a:pt x="141" y="0"/>
                      <a:pt x="208" y="6"/>
                    </a:cubicBezTo>
                    <a:cubicBezTo>
                      <a:pt x="275" y="12"/>
                      <a:pt x="347" y="26"/>
                      <a:pt x="400" y="42"/>
                    </a:cubicBezTo>
                    <a:cubicBezTo>
                      <a:pt x="453" y="58"/>
                      <a:pt x="491" y="76"/>
                      <a:pt x="528" y="102"/>
                    </a:cubicBezTo>
                    <a:cubicBezTo>
                      <a:pt x="565" y="128"/>
                      <a:pt x="597" y="161"/>
                      <a:pt x="620" y="198"/>
                    </a:cubicBezTo>
                    <a:cubicBezTo>
                      <a:pt x="643" y="235"/>
                      <a:pt x="655" y="280"/>
                      <a:pt x="668" y="326"/>
                    </a:cubicBez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578640" y="5175360"/>
                <a:ext cx="990720" cy="561960"/>
              </a:xfrm>
              <a:custGeom>
                <a:avLst/>
                <a:gdLst/>
                <a:ahLst/>
                <a:rect l="l" t="t" r="r" b="b"/>
                <a:pathLst>
                  <a:path w="624" h="354">
                    <a:moveTo>
                      <a:pt x="624" y="0"/>
                    </a:moveTo>
                    <a:cubicBezTo>
                      <a:pt x="622" y="24"/>
                      <a:pt x="621" y="49"/>
                      <a:pt x="612" y="80"/>
                    </a:cubicBezTo>
                    <a:cubicBezTo>
                      <a:pt x="603" y="111"/>
                      <a:pt x="597" y="154"/>
                      <a:pt x="568" y="188"/>
                    </a:cubicBezTo>
                    <a:cubicBezTo>
                      <a:pt x="539" y="222"/>
                      <a:pt x="487" y="259"/>
                      <a:pt x="440" y="284"/>
                    </a:cubicBezTo>
                    <a:cubicBezTo>
                      <a:pt x="393" y="309"/>
                      <a:pt x="329" y="329"/>
                      <a:pt x="284" y="340"/>
                    </a:cubicBezTo>
                    <a:cubicBezTo>
                      <a:pt x="239" y="351"/>
                      <a:pt x="219" y="350"/>
                      <a:pt x="172" y="352"/>
                    </a:cubicBezTo>
                    <a:cubicBezTo>
                      <a:pt x="125" y="354"/>
                      <a:pt x="62" y="353"/>
                      <a:pt x="0" y="352"/>
                    </a:cubicBez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587920" y="4241880"/>
                <a:ext cx="5400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5581440" y="5740560"/>
                <a:ext cx="53964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80240" y="3924360"/>
                <a:ext cx="888840" cy="2139840"/>
              </a:xfrm>
              <a:prstGeom prst="rect">
                <a:avLst/>
              </a:prstGeom>
              <a:noFill/>
              <a:ln w="28440">
                <a:solidFill>
                  <a:srgbClr val="eeeeee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130880" y="3924360"/>
                <a:ext cx="889200" cy="2139840"/>
              </a:xfrm>
              <a:prstGeom prst="rect">
                <a:avLst/>
              </a:prstGeom>
              <a:noFill/>
              <a:ln w="28440">
                <a:solidFill>
                  <a:srgbClr val="eeeeee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868" name=""/>
              <p:cNvGrpSpPr/>
              <p:nvPr/>
            </p:nvGrpSpPr>
            <p:grpSpPr>
              <a:xfrm>
                <a:off x="7329600" y="4775040"/>
                <a:ext cx="488880" cy="457200"/>
                <a:chOff x="7329600" y="4775040"/>
                <a:chExt cx="488880" cy="45720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7329600" y="4775040"/>
                  <a:ext cx="488880" cy="45720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7329600" y="485136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,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6068880" y="4025880"/>
                <a:ext cx="489240" cy="457200"/>
                <a:chOff x="6068880" y="4025880"/>
                <a:chExt cx="489240" cy="45720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6068880" y="4025880"/>
                  <a:ext cx="489240" cy="45720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6069240" y="410220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A,B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6076800" y="5505480"/>
                <a:ext cx="489240" cy="457200"/>
                <a:chOff x="6076800" y="5505480"/>
                <a:chExt cx="489240" cy="45720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6076800" y="5505480"/>
                  <a:ext cx="489240" cy="457200"/>
                </a:xfrm>
                <a:prstGeom prst="rect">
                  <a:avLst/>
                </a:prstGeom>
                <a:solidFill>
                  <a:srgbClr val="f87f66"/>
                </a:solidFill>
                <a:ln w="2844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6170760" y="558180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877" name=""/>
            <p:cNvSpPr/>
            <p:nvPr/>
          </p:nvSpPr>
          <p:spPr>
            <a:xfrm>
              <a:off x="2085120" y="1349280"/>
              <a:ext cx="223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ecedence diagram: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679480" y="263700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Cycle time = 12 mi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993240" y="3465360"/>
              <a:ext cx="30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(a) Balanced for a straight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37200" y="3465360"/>
              <a:ext cx="32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(b) Balanced for a U-shaped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25120" y="4284720"/>
              <a:ext cx="26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241280"/>
                  <a:tab algn="ctr" pos="21877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9 min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12 min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3 mi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1119240" y="4603680"/>
              <a:ext cx="4105080" cy="628920"/>
              <a:chOff x="1119240" y="4603680"/>
              <a:chExt cx="4105080" cy="628920"/>
            </a:xfrm>
          </p:grpSpPr>
          <p:sp>
            <p:nvSpPr>
              <p:cNvPr id="1883" name=""/>
              <p:cNvSpPr/>
              <p:nvPr/>
            </p:nvSpPr>
            <p:spPr>
              <a:xfrm>
                <a:off x="1119240" y="4749480"/>
                <a:ext cx="410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Efficiency =            =        = .6666 = 66.7 %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884" name=""/>
              <p:cNvGrpSpPr/>
              <p:nvPr/>
            </p:nvGrpSpPr>
            <p:grpSpPr>
              <a:xfrm>
                <a:off x="3207960" y="4603680"/>
                <a:ext cx="406440" cy="628920"/>
                <a:chOff x="3207960" y="4603680"/>
                <a:chExt cx="406440" cy="62892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3207960" y="4603680"/>
                  <a:ext cx="4064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4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36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3241440" y="4917960"/>
                  <a:ext cx="29700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87" name=""/>
              <p:cNvGrpSpPr/>
              <p:nvPr/>
            </p:nvGrpSpPr>
            <p:grpSpPr>
              <a:xfrm>
                <a:off x="2353680" y="4603680"/>
                <a:ext cx="653040" cy="628920"/>
                <a:chOff x="2353680" y="4603680"/>
                <a:chExt cx="653040" cy="62892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2353680" y="4603680"/>
                  <a:ext cx="6530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4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3(12)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2398680" y="4917600"/>
                  <a:ext cx="56520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890" name=""/>
            <p:cNvSpPr/>
            <p:nvPr/>
          </p:nvSpPr>
          <p:spPr>
            <a:xfrm>
              <a:off x="5907240" y="6049800"/>
              <a:ext cx="24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62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12 min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12 min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2611440" y="5918040"/>
              <a:ext cx="3309480" cy="628920"/>
              <a:chOff x="2611440" y="5918040"/>
              <a:chExt cx="3309480" cy="628920"/>
            </a:xfrm>
          </p:grpSpPr>
          <p:sp>
            <p:nvSpPr>
              <p:cNvPr id="1892" name=""/>
              <p:cNvSpPr/>
              <p:nvPr/>
            </p:nvSpPr>
            <p:spPr>
              <a:xfrm>
                <a:off x="2611440" y="6064200"/>
                <a:ext cx="33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Efficiency =            =        = 100 %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893" name=""/>
              <p:cNvGrpSpPr/>
              <p:nvPr/>
            </p:nvGrpSpPr>
            <p:grpSpPr>
              <a:xfrm>
                <a:off x="4701960" y="5918040"/>
                <a:ext cx="406440" cy="628920"/>
                <a:chOff x="4701960" y="5918040"/>
                <a:chExt cx="406440" cy="6289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4701960" y="5918040"/>
                  <a:ext cx="4064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4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4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4735440" y="6232320"/>
                  <a:ext cx="29700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96" name=""/>
              <p:cNvGrpSpPr/>
              <p:nvPr/>
            </p:nvGrpSpPr>
            <p:grpSpPr>
              <a:xfrm>
                <a:off x="3847680" y="5918040"/>
                <a:ext cx="653040" cy="628920"/>
                <a:chOff x="3847680" y="5918040"/>
                <a:chExt cx="653040" cy="628920"/>
              </a:xfrm>
            </p:grpSpPr>
            <p:sp>
              <p:nvSpPr>
                <p:cNvPr id="1897" name=""/>
                <p:cNvSpPr/>
                <p:nvPr/>
              </p:nvSpPr>
              <p:spPr>
                <a:xfrm>
                  <a:off x="3847680" y="5918040"/>
                  <a:ext cx="6530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4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eeeee"/>
                      </a:solidFill>
                      <a:latin typeface="Arial"/>
                    </a:rPr>
                    <a:t>2(12)</a:t>
                  </a:r>
                  <a:endParaRPr b="0" lang="en-US" sz="16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3892680" y="6232320"/>
                  <a:ext cx="56520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899" name=""/>
          <p:cNvSpPr/>
          <p:nvPr/>
        </p:nvSpPr>
        <p:spPr>
          <a:xfrm>
            <a:off x="308160" y="61898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5.1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589a"/>
            </a:gs>
            <a:gs pos="50000">
              <a:srgbClr val="1e3d8a"/>
            </a:gs>
            <a:gs pos="100000">
              <a:srgbClr val="3e589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461520"/>
            <a:ext cx="84582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Manufacturing Process Layout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44560" y="1359000"/>
            <a:ext cx="7807320" cy="4854600"/>
            <a:chOff x="844560" y="1359000"/>
            <a:chExt cx="7807320" cy="4854600"/>
          </a:xfrm>
        </p:grpSpPr>
        <p:sp>
          <p:nvSpPr>
            <p:cNvPr id="192" name=""/>
            <p:cNvSpPr/>
            <p:nvPr/>
          </p:nvSpPr>
          <p:spPr>
            <a:xfrm>
              <a:off x="844560" y="1359000"/>
              <a:ext cx="7497720" cy="4854600"/>
            </a:xfrm>
            <a:prstGeom prst="rect">
              <a:avLst/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3400" y="2109960"/>
              <a:ext cx="465120" cy="1658880"/>
            </a:xfrm>
            <a:custGeom>
              <a:avLst/>
              <a:gdLst/>
              <a:ahLst/>
              <a:rect l="l" t="t" r="r" b="b"/>
              <a:pathLst>
                <a:path w="293" h="1045">
                  <a:moveTo>
                    <a:pt x="45" y="2"/>
                  </a:moveTo>
                  <a:cubicBezTo>
                    <a:pt x="59" y="5"/>
                    <a:pt x="110" y="0"/>
                    <a:pt x="130" y="21"/>
                  </a:cubicBezTo>
                  <a:cubicBezTo>
                    <a:pt x="150" y="42"/>
                    <a:pt x="164" y="49"/>
                    <a:pt x="162" y="128"/>
                  </a:cubicBezTo>
                  <a:cubicBezTo>
                    <a:pt x="160" y="207"/>
                    <a:pt x="145" y="367"/>
                    <a:pt x="119" y="493"/>
                  </a:cubicBezTo>
                  <a:cubicBezTo>
                    <a:pt x="93" y="619"/>
                    <a:pt x="10" y="797"/>
                    <a:pt x="5" y="885"/>
                  </a:cubicBezTo>
                  <a:cubicBezTo>
                    <a:pt x="0" y="973"/>
                    <a:pt x="42" y="997"/>
                    <a:pt x="90" y="1021"/>
                  </a:cubicBezTo>
                  <a:cubicBezTo>
                    <a:pt x="138" y="1045"/>
                    <a:pt x="260" y="1028"/>
                    <a:pt x="293" y="102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21000" y="4462560"/>
              <a:ext cx="1760760" cy="280800"/>
            </a:xfrm>
            <a:custGeom>
              <a:avLst/>
              <a:gdLst/>
              <a:ahLst/>
              <a:rect l="l" t="t" r="r" b="b"/>
              <a:pathLst>
                <a:path w="1109" h="193">
                  <a:moveTo>
                    <a:pt x="0" y="80"/>
                  </a:moveTo>
                  <a:cubicBezTo>
                    <a:pt x="21" y="103"/>
                    <a:pt x="43" y="127"/>
                    <a:pt x="133" y="144"/>
                  </a:cubicBezTo>
                  <a:cubicBezTo>
                    <a:pt x="223" y="161"/>
                    <a:pt x="411" y="193"/>
                    <a:pt x="541" y="184"/>
                  </a:cubicBezTo>
                  <a:cubicBezTo>
                    <a:pt x="671" y="175"/>
                    <a:pt x="820" y="122"/>
                    <a:pt x="915" y="91"/>
                  </a:cubicBezTo>
                  <a:cubicBezTo>
                    <a:pt x="1010" y="60"/>
                    <a:pt x="1059" y="30"/>
                    <a:pt x="1109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22880" y="2808360"/>
              <a:ext cx="2369880" cy="1519200"/>
            </a:xfrm>
            <a:custGeom>
              <a:avLst/>
              <a:gdLst/>
              <a:ahLst/>
              <a:rect l="l" t="t" r="r" b="b"/>
              <a:pathLst>
                <a:path w="1493" h="957">
                  <a:moveTo>
                    <a:pt x="1493" y="0"/>
                  </a:moveTo>
                  <a:cubicBezTo>
                    <a:pt x="1472" y="23"/>
                    <a:pt x="1461" y="82"/>
                    <a:pt x="1368" y="138"/>
                  </a:cubicBezTo>
                  <a:cubicBezTo>
                    <a:pt x="1275" y="194"/>
                    <a:pt x="1033" y="285"/>
                    <a:pt x="936" y="335"/>
                  </a:cubicBezTo>
                  <a:cubicBezTo>
                    <a:pt x="839" y="385"/>
                    <a:pt x="836" y="379"/>
                    <a:pt x="787" y="437"/>
                  </a:cubicBezTo>
                  <a:cubicBezTo>
                    <a:pt x="738" y="495"/>
                    <a:pt x="703" y="627"/>
                    <a:pt x="643" y="685"/>
                  </a:cubicBezTo>
                  <a:cubicBezTo>
                    <a:pt x="583" y="743"/>
                    <a:pt x="498" y="755"/>
                    <a:pt x="429" y="784"/>
                  </a:cubicBezTo>
                  <a:cubicBezTo>
                    <a:pt x="360" y="813"/>
                    <a:pt x="300" y="832"/>
                    <a:pt x="229" y="861"/>
                  </a:cubicBezTo>
                  <a:cubicBezTo>
                    <a:pt x="158" y="890"/>
                    <a:pt x="48" y="937"/>
                    <a:pt x="0" y="95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86680" y="2101680"/>
              <a:ext cx="512640" cy="493920"/>
            </a:xfrm>
            <a:custGeom>
              <a:avLst/>
              <a:gdLst/>
              <a:ahLst/>
              <a:rect l="l" t="t" r="r" b="b"/>
              <a:pathLst>
                <a:path w="323" h="311">
                  <a:moveTo>
                    <a:pt x="0" y="2"/>
                  </a:moveTo>
                  <a:cubicBezTo>
                    <a:pt x="28" y="1"/>
                    <a:pt x="56" y="0"/>
                    <a:pt x="94" y="29"/>
                  </a:cubicBezTo>
                  <a:cubicBezTo>
                    <a:pt x="132" y="58"/>
                    <a:pt x="189" y="128"/>
                    <a:pt x="227" y="175"/>
                  </a:cubicBezTo>
                  <a:cubicBezTo>
                    <a:pt x="265" y="222"/>
                    <a:pt x="294" y="266"/>
                    <a:pt x="323" y="311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8440" y="2962440"/>
              <a:ext cx="453960" cy="527040"/>
            </a:xfrm>
            <a:custGeom>
              <a:avLst/>
              <a:gdLst/>
              <a:ahLst/>
              <a:rect l="l" t="t" r="r" b="b"/>
              <a:pathLst>
                <a:path w="267" h="332">
                  <a:moveTo>
                    <a:pt x="267" y="0"/>
                  </a:moveTo>
                  <a:cubicBezTo>
                    <a:pt x="260" y="23"/>
                    <a:pt x="260" y="107"/>
                    <a:pt x="224" y="140"/>
                  </a:cubicBezTo>
                  <a:cubicBezTo>
                    <a:pt x="188" y="173"/>
                    <a:pt x="90" y="164"/>
                    <a:pt x="53" y="196"/>
                  </a:cubicBezTo>
                  <a:cubicBezTo>
                    <a:pt x="16" y="228"/>
                    <a:pt x="11" y="304"/>
                    <a:pt x="0" y="332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8840" y="2481120"/>
              <a:ext cx="1749600" cy="319320"/>
            </a:xfrm>
            <a:custGeom>
              <a:avLst/>
              <a:gdLst/>
              <a:ahLst/>
              <a:rect l="l" t="t" r="r" b="b"/>
              <a:pathLst>
                <a:path w="1102" h="201">
                  <a:moveTo>
                    <a:pt x="0" y="197"/>
                  </a:moveTo>
                  <a:cubicBezTo>
                    <a:pt x="28" y="199"/>
                    <a:pt x="56" y="201"/>
                    <a:pt x="80" y="188"/>
                  </a:cubicBezTo>
                  <a:cubicBezTo>
                    <a:pt x="104" y="175"/>
                    <a:pt x="111" y="147"/>
                    <a:pt x="142" y="117"/>
                  </a:cubicBezTo>
                  <a:cubicBezTo>
                    <a:pt x="173" y="87"/>
                    <a:pt x="178" y="20"/>
                    <a:pt x="267" y="10"/>
                  </a:cubicBezTo>
                  <a:cubicBezTo>
                    <a:pt x="356" y="0"/>
                    <a:pt x="564" y="31"/>
                    <a:pt x="675" y="55"/>
                  </a:cubicBezTo>
                  <a:cubicBezTo>
                    <a:pt x="786" y="79"/>
                    <a:pt x="862" y="128"/>
                    <a:pt x="933" y="152"/>
                  </a:cubicBezTo>
                  <a:cubicBezTo>
                    <a:pt x="1004" y="176"/>
                    <a:pt x="1053" y="186"/>
                    <a:pt x="1102" y="197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13240" y="2128680"/>
              <a:ext cx="2441520" cy="331920"/>
            </a:xfrm>
            <a:custGeom>
              <a:avLst/>
              <a:gdLst/>
              <a:ahLst/>
              <a:rect l="l" t="t" r="r" b="b"/>
              <a:pathLst>
                <a:path w="1538" h="271">
                  <a:moveTo>
                    <a:pt x="0" y="0"/>
                  </a:moveTo>
                  <a:cubicBezTo>
                    <a:pt x="22" y="35"/>
                    <a:pt x="44" y="70"/>
                    <a:pt x="106" y="107"/>
                  </a:cubicBezTo>
                  <a:cubicBezTo>
                    <a:pt x="168" y="144"/>
                    <a:pt x="260" y="195"/>
                    <a:pt x="373" y="222"/>
                  </a:cubicBezTo>
                  <a:cubicBezTo>
                    <a:pt x="486" y="249"/>
                    <a:pt x="664" y="263"/>
                    <a:pt x="782" y="267"/>
                  </a:cubicBezTo>
                  <a:cubicBezTo>
                    <a:pt x="900" y="271"/>
                    <a:pt x="997" y="261"/>
                    <a:pt x="1084" y="249"/>
                  </a:cubicBezTo>
                  <a:cubicBezTo>
                    <a:pt x="1171" y="237"/>
                    <a:pt x="1230" y="224"/>
                    <a:pt x="1306" y="196"/>
                  </a:cubicBezTo>
                  <a:cubicBezTo>
                    <a:pt x="1382" y="168"/>
                    <a:pt x="1490" y="104"/>
                    <a:pt x="1538" y="8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38840" y="5559480"/>
              <a:ext cx="987120" cy="183960"/>
            </a:xfrm>
            <a:custGeom>
              <a:avLst/>
              <a:gdLst/>
              <a:ahLst/>
              <a:rect l="l" t="t" r="r" b="b"/>
              <a:pathLst>
                <a:path w="622" h="116">
                  <a:moveTo>
                    <a:pt x="622" y="9"/>
                  </a:moveTo>
                  <a:cubicBezTo>
                    <a:pt x="491" y="4"/>
                    <a:pt x="361" y="0"/>
                    <a:pt x="257" y="18"/>
                  </a:cubicBezTo>
                  <a:cubicBezTo>
                    <a:pt x="153" y="36"/>
                    <a:pt x="76" y="76"/>
                    <a:pt x="0" y="116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6480" y="3002040"/>
              <a:ext cx="690480" cy="7063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4467240" y="1855800"/>
              <a:ext cx="480960" cy="10303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13000" y="2100240"/>
              <a:ext cx="833400" cy="963720"/>
            </a:xfrm>
            <a:custGeom>
              <a:avLst/>
              <a:gdLst/>
              <a:ahLst/>
              <a:rect l="l" t="t" r="r" b="b"/>
              <a:pathLst>
                <a:path w="525" h="651">
                  <a:moveTo>
                    <a:pt x="0" y="641"/>
                  </a:moveTo>
                  <a:cubicBezTo>
                    <a:pt x="36" y="646"/>
                    <a:pt x="73" y="651"/>
                    <a:pt x="107" y="632"/>
                  </a:cubicBezTo>
                  <a:cubicBezTo>
                    <a:pt x="141" y="613"/>
                    <a:pt x="177" y="609"/>
                    <a:pt x="205" y="525"/>
                  </a:cubicBezTo>
                  <a:cubicBezTo>
                    <a:pt x="233" y="441"/>
                    <a:pt x="244" y="209"/>
                    <a:pt x="276" y="125"/>
                  </a:cubicBezTo>
                  <a:cubicBezTo>
                    <a:pt x="308" y="41"/>
                    <a:pt x="358" y="38"/>
                    <a:pt x="400" y="19"/>
                  </a:cubicBezTo>
                  <a:cubicBezTo>
                    <a:pt x="442" y="0"/>
                    <a:pt x="483" y="5"/>
                    <a:pt x="525" y="1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24160" y="2803680"/>
              <a:ext cx="833400" cy="1020600"/>
            </a:xfrm>
            <a:custGeom>
              <a:avLst/>
              <a:gdLst/>
              <a:ahLst/>
              <a:rect l="l" t="t" r="r" b="b"/>
              <a:pathLst>
                <a:path w="525" h="651">
                  <a:moveTo>
                    <a:pt x="0" y="641"/>
                  </a:moveTo>
                  <a:cubicBezTo>
                    <a:pt x="36" y="646"/>
                    <a:pt x="73" y="651"/>
                    <a:pt x="107" y="632"/>
                  </a:cubicBezTo>
                  <a:cubicBezTo>
                    <a:pt x="141" y="613"/>
                    <a:pt x="177" y="609"/>
                    <a:pt x="205" y="525"/>
                  </a:cubicBezTo>
                  <a:cubicBezTo>
                    <a:pt x="233" y="441"/>
                    <a:pt x="244" y="209"/>
                    <a:pt x="276" y="125"/>
                  </a:cubicBezTo>
                  <a:cubicBezTo>
                    <a:pt x="308" y="41"/>
                    <a:pt x="358" y="38"/>
                    <a:pt x="400" y="19"/>
                  </a:cubicBezTo>
                  <a:cubicBezTo>
                    <a:pt x="442" y="0"/>
                    <a:pt x="483" y="5"/>
                    <a:pt x="525" y="1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95440" y="4797360"/>
              <a:ext cx="493560" cy="56520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1443240" y="3953520"/>
              <a:ext cx="565200" cy="4525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311" y="356"/>
                  </a:moveTo>
                  <a:cubicBezTo>
                    <a:pt x="273" y="347"/>
                    <a:pt x="235" y="339"/>
                    <a:pt x="195" y="311"/>
                  </a:cubicBezTo>
                  <a:cubicBezTo>
                    <a:pt x="155" y="283"/>
                    <a:pt x="103" y="239"/>
                    <a:pt x="71" y="187"/>
                  </a:cubicBezTo>
                  <a:cubicBezTo>
                    <a:pt x="39" y="135"/>
                    <a:pt x="19" y="67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253200" y="5553000"/>
              <a:ext cx="566640" cy="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757600" y="1360440"/>
              <a:ext cx="0" cy="485136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63720" y="3295800"/>
              <a:ext cx="555948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643720" y="3303360"/>
              <a:ext cx="0" cy="28796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78120" y="5367240"/>
              <a:ext cx="285912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4240" y="5024520"/>
              <a:ext cx="267804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249200" y="2073240"/>
              <a:ext cx="1073160" cy="3473640"/>
              <a:chOff x="1249200" y="2073240"/>
              <a:chExt cx="1073160" cy="3473640"/>
            </a:xfrm>
          </p:grpSpPr>
          <p:sp>
            <p:nvSpPr>
              <p:cNvPr id="214" name=""/>
              <p:cNvSpPr/>
              <p:nvPr/>
            </p:nvSpPr>
            <p:spPr>
              <a:xfrm>
                <a:off x="1963440" y="515952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63440" y="443088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63440" y="364500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963440" y="285912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3440" y="2073240"/>
                <a:ext cx="35892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49200" y="515952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49200" y="443088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49200" y="364500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49200" y="285912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49200" y="2073240"/>
                <a:ext cx="358560" cy="38736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4743360" y="1374480"/>
              <a:ext cx="0" cy="192708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64040" y="19162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64040" y="26020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78360" y="19162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78360" y="2602080"/>
              <a:ext cx="35856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4988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4988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0080" y="191628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50080" y="260208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4992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4992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50120" y="19162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50120" y="260208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64040" y="3500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64040" y="4202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84480" y="3500280"/>
              <a:ext cx="35892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84480" y="4202280"/>
              <a:ext cx="35892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07080" y="3500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07080" y="4202280"/>
              <a:ext cx="358560" cy="3873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92840" y="5367240"/>
              <a:ext cx="35856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61160" y="536580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9480" y="5365800"/>
              <a:ext cx="358920" cy="3873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2800" y="5518080"/>
              <a:ext cx="15544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Receiving and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Shipp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75960" y="5803920"/>
              <a:ext cx="113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83840" y="4619520"/>
              <a:ext cx="216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Painting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6000" y="1576440"/>
              <a:ext cx="190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Lathe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34080" y="1405080"/>
              <a:ext cx="13626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Mill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37800" y="1576440"/>
              <a:ext cx="20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rilling 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08920" y="4667400"/>
              <a:ext cx="13626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Grinding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Depart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19720" y="5553000"/>
              <a:ext cx="509400" cy="0"/>
            </a:xfrm>
            <a:prstGeom prst="line">
              <a:avLst/>
            </a:prstGeom>
            <a:ln w="57240">
              <a:solidFill>
                <a:srgbClr val="22222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15320" y="4386240"/>
              <a:ext cx="711000" cy="1230480"/>
            </a:xfrm>
            <a:custGeom>
              <a:avLst/>
              <a:gdLst/>
              <a:ahLst/>
              <a:rect l="l" t="t" r="r" b="b"/>
              <a:pathLst>
                <a:path w="448" h="775">
                  <a:moveTo>
                    <a:pt x="0" y="10"/>
                  </a:moveTo>
                  <a:cubicBezTo>
                    <a:pt x="41" y="5"/>
                    <a:pt x="83" y="0"/>
                    <a:pt x="142" y="10"/>
                  </a:cubicBezTo>
                  <a:cubicBezTo>
                    <a:pt x="201" y="20"/>
                    <a:pt x="306" y="23"/>
                    <a:pt x="356" y="72"/>
                  </a:cubicBezTo>
                  <a:cubicBezTo>
                    <a:pt x="406" y="121"/>
                    <a:pt x="448" y="222"/>
                    <a:pt x="445" y="303"/>
                  </a:cubicBezTo>
                  <a:cubicBezTo>
                    <a:pt x="442" y="384"/>
                    <a:pt x="405" y="482"/>
                    <a:pt x="338" y="561"/>
                  </a:cubicBezTo>
                  <a:cubicBezTo>
                    <a:pt x="271" y="640"/>
                    <a:pt x="158" y="707"/>
                    <a:pt x="45" y="775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24680" y="3649680"/>
              <a:ext cx="727200" cy="1766880"/>
            </a:xfrm>
            <a:custGeom>
              <a:avLst/>
              <a:gdLst/>
              <a:ahLst/>
              <a:rect l="l" t="t" r="r" b="b"/>
              <a:pathLst>
                <a:path w="448" h="775">
                  <a:moveTo>
                    <a:pt x="0" y="10"/>
                  </a:moveTo>
                  <a:cubicBezTo>
                    <a:pt x="41" y="5"/>
                    <a:pt x="83" y="0"/>
                    <a:pt x="142" y="10"/>
                  </a:cubicBezTo>
                  <a:cubicBezTo>
                    <a:pt x="201" y="20"/>
                    <a:pt x="306" y="23"/>
                    <a:pt x="356" y="72"/>
                  </a:cubicBezTo>
                  <a:cubicBezTo>
                    <a:pt x="406" y="121"/>
                    <a:pt x="448" y="222"/>
                    <a:pt x="445" y="303"/>
                  </a:cubicBezTo>
                  <a:cubicBezTo>
                    <a:pt x="442" y="384"/>
                    <a:pt x="405" y="482"/>
                    <a:pt x="338" y="561"/>
                  </a:cubicBezTo>
                  <a:cubicBezTo>
                    <a:pt x="271" y="640"/>
                    <a:pt x="158" y="707"/>
                    <a:pt x="45" y="775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7080" y="3500280"/>
              <a:ext cx="198108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7080" y="4202280"/>
              <a:ext cx="1981080" cy="3873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58880" y="3005280"/>
              <a:ext cx="316080" cy="1650960"/>
            </a:xfrm>
            <a:custGeom>
              <a:avLst/>
              <a:gdLst/>
              <a:ahLst/>
              <a:rect l="l" t="t" r="r" b="b"/>
              <a:pathLst>
                <a:path w="199" h="1040">
                  <a:moveTo>
                    <a:pt x="199" y="1040"/>
                  </a:moveTo>
                  <a:cubicBezTo>
                    <a:pt x="155" y="1037"/>
                    <a:pt x="111" y="1035"/>
                    <a:pt x="83" y="996"/>
                  </a:cubicBezTo>
                  <a:cubicBezTo>
                    <a:pt x="55" y="957"/>
                    <a:pt x="43" y="910"/>
                    <a:pt x="30" y="809"/>
                  </a:cubicBezTo>
                  <a:cubicBezTo>
                    <a:pt x="17" y="708"/>
                    <a:pt x="6" y="500"/>
                    <a:pt x="3" y="391"/>
                  </a:cubicBezTo>
                  <a:cubicBezTo>
                    <a:pt x="0" y="282"/>
                    <a:pt x="2" y="211"/>
                    <a:pt x="10" y="157"/>
                  </a:cubicBezTo>
                  <a:cubicBezTo>
                    <a:pt x="18" y="103"/>
                    <a:pt x="32" y="87"/>
                    <a:pt x="50" y="65"/>
                  </a:cubicBezTo>
                  <a:cubicBezTo>
                    <a:pt x="68" y="43"/>
                    <a:pt x="95" y="32"/>
                    <a:pt x="118" y="21"/>
                  </a:cubicBezTo>
                  <a:cubicBezTo>
                    <a:pt x="141" y="10"/>
                    <a:pt x="175" y="5"/>
                    <a:pt x="19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1440" y="4589640"/>
              <a:ext cx="1241640" cy="941040"/>
            </a:xfrm>
            <a:custGeom>
              <a:avLst/>
              <a:gdLst/>
              <a:ahLst/>
              <a:rect l="l" t="t" r="r" b="b"/>
              <a:pathLst>
                <a:path w="782" h="593">
                  <a:moveTo>
                    <a:pt x="782" y="593"/>
                  </a:moveTo>
                  <a:cubicBezTo>
                    <a:pt x="715" y="510"/>
                    <a:pt x="494" y="190"/>
                    <a:pt x="382" y="95"/>
                  </a:cubicBezTo>
                  <a:cubicBezTo>
                    <a:pt x="270" y="0"/>
                    <a:pt x="171" y="36"/>
                    <a:pt x="107" y="23"/>
                  </a:cubicBezTo>
                  <a:cubicBezTo>
                    <a:pt x="43" y="10"/>
                    <a:pt x="22" y="17"/>
                    <a:pt x="0" y="15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27400" y="5376960"/>
              <a:ext cx="1073160" cy="295200"/>
            </a:xfrm>
            <a:custGeom>
              <a:avLst/>
              <a:gdLst/>
              <a:ahLst/>
              <a:rect l="l" t="t" r="r" b="b"/>
              <a:pathLst>
                <a:path w="676" h="186">
                  <a:moveTo>
                    <a:pt x="676" y="186"/>
                  </a:moveTo>
                  <a:cubicBezTo>
                    <a:pt x="633" y="180"/>
                    <a:pt x="486" y="178"/>
                    <a:pt x="418" y="151"/>
                  </a:cubicBezTo>
                  <a:cubicBezTo>
                    <a:pt x="350" y="124"/>
                    <a:pt x="337" y="51"/>
                    <a:pt x="267" y="26"/>
                  </a:cubicBezTo>
                  <a:cubicBezTo>
                    <a:pt x="197" y="1"/>
                    <a:pt x="56" y="5"/>
                    <a:pt x="0" y="0"/>
                  </a:cubicBezTo>
                </a:path>
              </a:pathLst>
            </a:custGeom>
            <a:noFill/>
            <a:ln w="57240">
              <a:solidFill>
                <a:srgbClr val="222222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88360" y="63072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Figure 5.2</a:t>
            </a:r>
            <a:endParaRPr b="0" lang="en-US" sz="1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05:57:42Z</dcterms:created>
  <dc:creator>sbae</dc:creator>
  <dc:description/>
  <dc:language>en-US</dc:language>
  <cp:lastModifiedBy>q</cp:lastModifiedBy>
  <cp:lastPrinted>1999-07-09T19:08:32Z</cp:lastPrinted>
  <dcterms:modified xsi:type="dcterms:W3CDTF">2004-03-30T19:28:08Z</dcterms:modified>
  <cp:revision>125</cp:revision>
  <dc:subject/>
  <dc:title>15.2   Single - Factor (One - Way) Analysis of Variance : Independent Samples</dc:title>
</cp:coreProperties>
</file>